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wmf" ContentType="image/x-wmf"/>
  <Override PartName="/ppt/media/image7.jpeg" ContentType="image/jpeg"/>
  <Override PartName="/ppt/media/image8.jpeg" ContentType="image/jpeg"/>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70E41-5EA8-42BB-99AB-F50560710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9C501-6DF0-4DC7-82CC-E4069D7D1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143D6-712D-4326-B534-C93223165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28E49-E718-4078-B8BE-E329DEB07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E7F7F-6ACA-416C-8B1E-57178058C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0106E-B665-4384-A5E7-570545639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A76A2-4254-4537-9C68-09561D1C3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D66AD-BF69-4357-B097-059AB2465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C4BC2-26A9-4B41-A6C8-D5AC924C2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8AAA3-24EA-422D-8E60-00A5E6380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B9C46-66C2-4376-BC3E-6B410015D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3F2E1-907E-42F9-8441-695B3727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AFB27-F0B0-48BF-B817-FCCD886CA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AD63-764C-4FDF-99E7-C6A1260F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6AD88-78F1-46E8-870B-AE7C8DE77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5074C-DC57-42A4-BE1A-BEBF3EB9B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34137-BE19-4749-973D-CE09A3935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28805-712A-4ADD-B0D5-21EAF411A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4DE51-FFDE-4BC1-99BE-D7037A61C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87AB0-F048-4AF5-A356-2D124E5D6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5B16-DDD8-4717-8073-614C75CAB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1C5B-630C-4350-91B7-FA10F48F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28A8A-B230-4C97-A856-720EE5B6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56E58-389E-4022-AEB1-5A5128EDA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7839-EF07-4843-B1BD-7C1834A8D2C0}"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F1F6-1824-40CB-A455-C293EEFF4951}" type="slidenum">
              <a:rPr b="0" lang="zh-CN"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ahoma"/>
              </a:rPr>
              <a:t>Parallel Computing for Molecular Dynamics Simulation</a:t>
            </a:r>
            <a:r>
              <a:rPr b="0" lang="zh-CN" sz="4800" spc="-1" strike="noStrike">
                <a:solidFill>
                  <a:srgbClr val="ffffcc"/>
                </a:solidFill>
                <a:latin typeface="Tahoma"/>
              </a:rPr>
              <a:t> </a:t>
            </a:r>
            <a:endParaRPr b="0" lang="en-US" sz="48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Yi Zhang</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ystem to simulate</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Choose force cutoff to 6 angstrom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Included 3</a:t>
            </a:r>
            <a:r>
              <a:rPr b="0" lang="zh-CN" sz="3200" spc="-1" strike="noStrike" baseline="30000">
                <a:solidFill>
                  <a:srgbClr val="ffffff"/>
                </a:solidFill>
                <a:latin typeface="Tahoma"/>
              </a:rPr>
              <a:t>rd</a:t>
            </a:r>
            <a:r>
              <a:rPr b="0" lang="zh-CN" sz="3200" spc="-1" strike="noStrike">
                <a:solidFill>
                  <a:srgbClr val="ffffff"/>
                </a:solidFill>
                <a:latin typeface="Tahoma"/>
              </a:rPr>
              <a:t> nearest neighbor. (4.078/sqrt(2), 4.078, 4.078*sqrt(2)=5.767)</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Use the formula E = A/r12 - B/r6, E = 0.01 eV at r = 6 angstroms, which is indeed negligibl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erial code</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1st line: super cell size, 3 integer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2nd lin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1st: time interval per step, in units of ps (pico seconds, 10-12 seconds), double typ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2nd: equilibration time step, integer typ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3rd: velocity scaling interval, integer typ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4th: total time step, integer typ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3rd lin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1st: temperature, in unit of Kelvin, double typ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2nd: force cutoff value, in unit of angstrom, double typ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4th lin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1st: start time step of dumping atom positions to output file, integer typ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2nd: time step interval of dumping atom positions to output file, integer typ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5th lin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time step interval of updating neighbor lis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erial code</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er cell siz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interval per step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ilibration time step: scaling velociti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locity scaling interval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tal time ste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put atom posi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ighbor list updating interv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erial code</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Output fil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Echoing inpu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Output atom positions at specified time step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Generate initial positions</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cel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 0, 0)</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5 * a, 0.5 * a, 0)</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5 * a, 0, 0.5 * 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 0.5 * a, 0.5 * a)</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er cel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Generate the initial velocitie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ccording to Maxwellian distribu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To generate Gaussian random number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he polar method of G. E. P. Box, M. E. Muller, and G. Marsaglia, as described by Donald E. Knuth in The Art of Computer Programming, Volume 2: Seminumerical Algorithms, section 3.4.1, subsection C, algorithm P.</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Scale veloc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Gaussian random number generator </a:t>
            </a:r>
            <a:endParaRPr b="0" lang="en-US" sz="4000" spc="-1" strike="noStrike">
              <a:solidFill>
                <a:srgbClr val="ffffcc"/>
              </a:solidFill>
              <a:latin typeface="Tahoma"/>
            </a:endParaRPr>
          </a:p>
        </p:txBody>
      </p:sp>
      <p:sp>
        <p:nvSpPr>
          <p:cNvPr id="41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4000 number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6" name="" descr=""/>
          <p:cNvPicPr/>
          <p:nvPr/>
        </p:nvPicPr>
        <p:blipFill>
          <a:blip r:embed="rId1"/>
          <a:stretch/>
        </p:blipFill>
        <p:spPr>
          <a:xfrm>
            <a:off x="457200" y="2133720"/>
            <a:ext cx="7772400" cy="451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locity Scaling</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From the equi-partition law: kinetic energy 3/2 kT, where k is the Boltzmann constan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N atoms, we have total kinetic energy:</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targetE = 3/2 kT * 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he real kinetic energy realE of the system: sum over all atom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he scaling factor will be sqrt(targetE / real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Each velocity is then multiplied by this scaling fact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riodic boundary condition</a:t>
            </a:r>
            <a:endParaRPr b="0" lang="en-US"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o calculate the distance between atom A and atom B, we consider the distances between all of A’s images (including A) and all of B’s images (including B), and the shortest distance of all these distances will be the distance we will us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his is based on the assumption that the effect of the second and higher order nearest images pairs can be neglected comparing the nearest pair of imag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Periodic boundary condition</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Dis = x[j] – x[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xDis – Len * floor(xDis / Len + 0.5)</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Similarly for yDis and zDi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distance = sqrt(xDis * xDis + yDis * yDis  + zDis * zD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Introduction</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In materials modeling, we often need to follow the evolution of the materials by calculating the positions of all the atom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Each atom is under the influence of other atoms. The forces of other atoms will cause the atom to mov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This is a complex multi-body problem and does not have an analytic solution. As a result, computer is often used to simulate the evolution of the system.</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This final project will focus on one particular material: Gold. Both serial code and parallel code will be produced to simulate the system. Code will be written in C. In the parallel case, MPI is us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riodic boundary condition</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if the positions go beyond the boundary, we need to change to the positions of the image that comes in from the other sid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rx_new = rx + xLen * 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0 &lt;= rx + xLen * n &lt; xL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rx) / xLen &lt;= n &lt; (xLen – rx)/xLen = (-rx)/xLen + 1</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n = ceil(-rx / xL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hu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rx[i] = rx[i] + xLen * ceil(-rx / xL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Velocity Verlet </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428" name=""/>
          <p:cNvGraphicFramePr/>
          <p:nvPr/>
        </p:nvGraphicFramePr>
        <p:xfrm>
          <a:off x="609480" y="2246400"/>
          <a:ext cx="7772400" cy="3076560"/>
        </p:xfrm>
        <a:graphic>
          <a:graphicData uri="http://schemas.openxmlformats.org/presentationml/2006/ole">
            <p:oleObj r:id="rId1" spid="">
              <p:embed/>
              <p:pic>
                <p:nvPicPr>
                  <p:cNvPr id="429" name="" descr=""/>
                  <p:cNvPicPr/>
                  <p:nvPr/>
                </p:nvPicPr>
                <p:blipFill>
                  <a:blip r:embed="rId2"/>
                  <a:stretch/>
                </p:blipFill>
                <p:spPr>
                  <a:xfrm>
                    <a:off x="609480" y="2246400"/>
                    <a:ext cx="7772400" cy="30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parallel code</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Geometry partition.</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For example, 8 processe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rt 0: 0 &lt;= x &lt; xLen/2; 0 &lt;= y &lt; yLen/2; 0 &lt;= z &lt; zLen/2.</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rt 1: 0 &lt;= x &lt; xLen/2; 0 &lt;= y &lt; yLen/2; zLen/2 &lt;= z &lt; zLen.</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rt 2: 0 &lt;= x &lt; xLen/2; yLen/2 &lt;= y &lt; yLen; 0 &lt;= z &lt; zLen/2.</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rt 3: 0 &lt;= x &lt; xLen/2; yLen/2 &lt;= y &lt; yLen; zLen/2 &lt;= z &lt; zLen.</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rt 4: xLen/2 &lt;= x &lt; xLen; 0 &lt;= y &lt; yLen/2; 0 &lt;= z &lt; zLen/2.</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rt 5: xLen/2 &lt;= x &lt; xLen; 0 &lt;= y &lt; yLen/2; zLen/2 &lt;= z &lt; zLen.</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rt 6: xLen/2 &lt;= x &lt; xLen; yLen/2 &lt;= y &lt; yLen; 0 &lt;= z &lt; zLen/2.</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Part 7: xLen/2 &lt;= x &lt; xLen; yLen/2 &lt;= y &lt; yLen; zLen/2 &lt;= z &lt; zL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metric partition</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d to keep track of atom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d to synchronize between process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d to update neighbor li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tition based on index</a:t>
            </a:r>
            <a:endParaRPr b="0" lang="en-US" sz="4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ons are synchronized before updating neighbor li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locities and accelerations are not synchroniz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llel Code</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 positions of neighbors are us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leration calculated based on old positions of atoms belong to other process is us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ighbor list updating interva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ximation won’t be any worse than our previous many approximations mad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llel Cod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Every process outputs its own output file: [outfile]_i for process 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Every process only output the positions of atoms that belong to i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Process 0 will be responsible to read the input file, generate the initial positions and velocities, and broadcast initial val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llel Velocity Scale</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al Kinetic Energy Su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Reduce” to total energ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 scaling fact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cast the fact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the scaling local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Accuracy of parallel code</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ccuracy of the parallel code is determined by comparing the output from the parallel code with that from the serial cod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ly the accuracy of the serial code should be tested by comparing results to physical re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ime step 1</a:t>
            </a:r>
            <a:endParaRPr b="0" lang="en-US" sz="4400" spc="-1" strike="noStrike">
              <a:solidFill>
                <a:srgbClr val="ffffcc"/>
              </a:solidFill>
              <a:latin typeface="Tahoma"/>
            </a:endParaRPr>
          </a:p>
        </p:txBody>
      </p:sp>
      <p:pic>
        <p:nvPicPr>
          <p:cNvPr id="445" name="" descr=""/>
          <p:cNvPicPr/>
          <p:nvPr/>
        </p:nvPicPr>
        <p:blipFill>
          <a:blip r:embed="rId1"/>
          <a:stretch/>
        </p:blipFill>
        <p:spPr>
          <a:xfrm>
            <a:off x="2292480" y="1600200"/>
            <a:ext cx="4559040" cy="449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ystem to simulate</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Gold is chosen as system to simulate due to its simplicity: there is only one type of atoms in the system.</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Some experimental properties of gold:</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Symbol: Au</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omic weight: 196.96655</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Structure: fcc, with cell size: a = b = c = 4.0782 Angstrom</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Bulk modulus: 220 GPa</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elting point: 1337.33 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paring with serial code</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able random number generat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1 time step: average distance 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100 time step: 0.113422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Performance: system size</a:t>
            </a:r>
            <a:r>
              <a:rPr b="0" lang="zh-CN" sz="4400" spc="-1" strike="noStrike">
                <a:solidFill>
                  <a:srgbClr val="ffffcc"/>
                </a:solidFill>
                <a:latin typeface="Tahoma"/>
              </a:rPr>
              <a:t> </a:t>
            </a:r>
            <a:endParaRPr b="0" lang="en-US" sz="4400" spc="-1" strike="noStrike">
              <a:solidFill>
                <a:srgbClr val="ffffcc"/>
              </a:solidFill>
              <a:latin typeface="Tahoma"/>
            </a:endParaRPr>
          </a:p>
        </p:txBody>
      </p:sp>
      <p:pic>
        <p:nvPicPr>
          <p:cNvPr id="449" name="" descr=""/>
          <p:cNvPicPr/>
          <p:nvPr/>
        </p:nvPicPr>
        <p:blipFill>
          <a:blip r:embed="rId1"/>
          <a:stretch/>
        </p:blipFill>
        <p:spPr>
          <a:xfrm>
            <a:off x="301680" y="1905120"/>
            <a:ext cx="8540640" cy="288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rformance: # of processes</a:t>
            </a:r>
            <a:endParaRPr b="0" lang="en-US" sz="4400" spc="-1" strike="noStrike">
              <a:solidFill>
                <a:srgbClr val="ffffcc"/>
              </a:solidFill>
              <a:latin typeface="Tahoma"/>
            </a:endParaRPr>
          </a:p>
        </p:txBody>
      </p:sp>
      <p:pic>
        <p:nvPicPr>
          <p:cNvPr id="451" name="" descr=""/>
          <p:cNvPicPr/>
          <p:nvPr/>
        </p:nvPicPr>
        <p:blipFill>
          <a:blip r:embed="rId1"/>
          <a:stretch/>
        </p:blipFill>
        <p:spPr>
          <a:xfrm>
            <a:off x="0" y="1828800"/>
            <a:ext cx="9144000" cy="3505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erformance: neighbor list updating interval</a:t>
            </a:r>
            <a:endParaRPr b="0" lang="en-US" sz="4000" spc="-1" strike="noStrike">
              <a:solidFill>
                <a:srgbClr val="ffffcc"/>
              </a:solidFill>
              <a:latin typeface="Tahoma"/>
            </a:endParaRPr>
          </a:p>
        </p:txBody>
      </p:sp>
      <p:pic>
        <p:nvPicPr>
          <p:cNvPr id="453" name="" descr=""/>
          <p:cNvPicPr/>
          <p:nvPr/>
        </p:nvPicPr>
        <p:blipFill>
          <a:blip r:embed="rId1"/>
          <a:stretch/>
        </p:blipFill>
        <p:spPr>
          <a:xfrm>
            <a:off x="304920" y="2514600"/>
            <a:ext cx="883908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ion</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is specific scenario, it is worth the effort to develop the parallel code, because the speed-up is significa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simplifi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e-the-less a good sta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cc"/>
                </a:solidFill>
                <a:latin typeface="Tahoma"/>
              </a:rPr>
              <a:t>THE END</a:t>
            </a:r>
            <a:endParaRPr b="0" lang="en-US" sz="5400" spc="-1" strike="noStrike">
              <a:solidFill>
                <a:srgbClr val="ffffcc"/>
              </a:solidFill>
              <a:latin typeface="Tahoma"/>
            </a:endParaRPr>
          </a:p>
        </p:txBody>
      </p:sp>
      <p:sp>
        <p:nvSpPr>
          <p:cNvPr id="4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ystem to simulate</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Lennard-Jones potential is us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Forces exist between every pair of atom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Force depends only on the distance</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E = A/r</a:t>
            </a:r>
            <a:r>
              <a:rPr b="0" lang="zh-CN" sz="3200" spc="-1" strike="noStrike" baseline="30000">
                <a:solidFill>
                  <a:srgbClr val="ffffff"/>
                </a:solidFill>
                <a:latin typeface="Tahoma"/>
              </a:rPr>
              <a:t>12</a:t>
            </a:r>
            <a:r>
              <a:rPr b="0" lang="zh-CN" sz="3200" spc="-1" strike="noStrike">
                <a:solidFill>
                  <a:srgbClr val="ffffff"/>
                </a:solidFill>
                <a:latin typeface="Tahoma"/>
              </a:rPr>
              <a:t> - B/r</a:t>
            </a:r>
            <a:r>
              <a:rPr b="0" lang="zh-CN" sz="3200" spc="-1" strike="noStrike" baseline="30000">
                <a:solidFill>
                  <a:srgbClr val="ffffff"/>
                </a:solidFill>
                <a:latin typeface="Tahoma"/>
              </a:rPr>
              <a:t>6</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ystem to simulat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E = A/r</a:t>
            </a:r>
            <a:r>
              <a:rPr b="0" lang="zh-CN" sz="3200" spc="-1" strike="noStrike" baseline="30000">
                <a:solidFill>
                  <a:srgbClr val="ffffff"/>
                </a:solidFill>
                <a:latin typeface="Tahoma"/>
              </a:rPr>
              <a:t>12</a:t>
            </a:r>
            <a:r>
              <a:rPr b="0" lang="zh-CN" sz="3200" spc="-1" strike="noStrike">
                <a:solidFill>
                  <a:srgbClr val="ffffff"/>
                </a:solidFill>
                <a:latin typeface="Tahoma"/>
              </a:rPr>
              <a:t> - B/r</a:t>
            </a:r>
            <a:r>
              <a:rPr b="0" lang="zh-CN" sz="3200" spc="-1" strike="noStrike" baseline="30000">
                <a:solidFill>
                  <a:srgbClr val="ffffff"/>
                </a:solidFill>
                <a:latin typeface="Tahoma"/>
              </a:rPr>
              <a:t>6</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 = 158675.062040 (eV*angstrom12)</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B = 463.262145 (eV*angstrom6)</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Put these potential parameters into GULP, we can calculate that:</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The lattice constant: 4.078200 (Angstrom)</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Bulk modulus: 219.99974 (GP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Close to experimental valu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ystem to simulate</a:t>
            </a:r>
            <a:endParaRPr b="0" lang="en-US" sz="4400" spc="-1" strike="noStrike">
              <a:solidFill>
                <a:srgbClr val="ffffcc"/>
              </a:solidFill>
              <a:latin typeface="Tahoma"/>
            </a:endParaRPr>
          </a:p>
        </p:txBody>
      </p:sp>
      <p:pic>
        <p:nvPicPr>
          <p:cNvPr id="395" name="" descr=""/>
          <p:cNvPicPr/>
          <p:nvPr/>
        </p:nvPicPr>
        <p:blipFill>
          <a:blip r:embed="rId1"/>
          <a:stretch/>
        </p:blipFill>
        <p:spPr>
          <a:xfrm>
            <a:off x="2266920" y="1600200"/>
            <a:ext cx="4608720" cy="449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ystem to simulate</a:t>
            </a:r>
            <a:endParaRPr b="0" lang="en-US" sz="4400" spc="-1" strike="noStrike">
              <a:solidFill>
                <a:srgbClr val="ffffcc"/>
              </a:solidFill>
              <a:latin typeface="Tahoma"/>
            </a:endParaRPr>
          </a:p>
        </p:txBody>
      </p:sp>
      <p:pic>
        <p:nvPicPr>
          <p:cNvPr id="397" name="" descr=""/>
          <p:cNvPicPr/>
          <p:nvPr/>
        </p:nvPicPr>
        <p:blipFill>
          <a:blip r:embed="rId1"/>
          <a:stretch/>
        </p:blipFill>
        <p:spPr>
          <a:xfrm>
            <a:off x="2313000" y="1600200"/>
            <a:ext cx="4518000" cy="44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ystem to simulate</a:t>
            </a:r>
            <a:endParaRPr b="0" lang="en-US" sz="4400" spc="-1" strike="noStrike">
              <a:solidFill>
                <a:srgbClr val="ffffcc"/>
              </a:solidFill>
              <a:latin typeface="Tahoma"/>
            </a:endParaRPr>
          </a:p>
        </p:txBody>
      </p:sp>
      <p:pic>
        <p:nvPicPr>
          <p:cNvPr id="399" name="" descr=""/>
          <p:cNvPicPr/>
          <p:nvPr/>
        </p:nvPicPr>
        <p:blipFill>
          <a:blip r:embed="rId1"/>
          <a:stretch/>
        </p:blipFill>
        <p:spPr>
          <a:xfrm>
            <a:off x="1925640" y="1600200"/>
            <a:ext cx="5292720" cy="44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The system to simulate</a:t>
            </a:r>
            <a:endParaRPr b="0" lang="en-US" sz="4400" spc="-1" strike="noStrike">
              <a:solidFill>
                <a:srgbClr val="ffffcc"/>
              </a:solidFill>
              <a:latin typeface="Tahoma"/>
            </a:endParaRPr>
          </a:p>
        </p:txBody>
      </p:sp>
      <p:pic>
        <p:nvPicPr>
          <p:cNvPr id="401" name="" descr=""/>
          <p:cNvPicPr/>
          <p:nvPr/>
        </p:nvPicPr>
        <p:blipFill>
          <a:blip r:embed="rId1"/>
          <a:stretch/>
        </p:blipFill>
        <p:spPr>
          <a:xfrm>
            <a:off x="914400" y="1295280"/>
            <a:ext cx="7848720" cy="490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08:33:28Z</dcterms:created>
  <dc:creator>Lin Guo</dc:creator>
  <dc:description/>
  <dc:language>en-US</dc:language>
  <cp:lastModifiedBy>Lin Guo</cp:lastModifiedBy>
  <dcterms:modified xsi:type="dcterms:W3CDTF">2005-05-10T09:38:35Z</dcterms:modified>
  <cp:revision>50</cp:revision>
  <dc:subject/>
  <dc:title>Slide 1</dc:title>
</cp:coreProperties>
</file>