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AA9-4A0D-4B2C-91B3-544BC8A0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672-429D-4059-A409-0F3C18DD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EBA-D2C6-48DE-86E3-6754B844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0E6-A372-41E0-AC80-8B0FB1B0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C21-1E23-4076-99DB-B26D138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6FF-522F-479F-88B1-609E6B12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1C7-A54D-4257-ACC4-D247CFA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E10-68F3-4C64-966C-55FF30AD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4F8-9BF3-4C95-A93C-6F63C59A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502-0F8F-45FE-872C-976B54A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D64-C1BB-4494-A1AD-9AD6698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A86-80C2-4D5A-AA30-11D69271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0A80-42D6-4A70-B505-3217BAAD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9640" y="22860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59640" y="76212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T on the Top500: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ing a large-scale heterogeneous clus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iel Loreto, Erik Nordlander, and Adam Ol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228600"/>
            <a:ext cx="6094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Xe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514520"/>
            <a:ext cx="7696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entium 4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Mix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519200"/>
            <a:ext cx="7696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erformance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5 CPUs: 547 GFl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64 GFlops p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.4%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6 CPUs: 966 GFl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6 GFlops p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.7%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ltimate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HPL heteroge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ed 0.442 TFl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 C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op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cipated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ic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u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and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s, Errors, and Broken Pi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ing Rul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y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for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ing Rul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ing vicariously is intra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ing Rul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access may b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nchmarking a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rge-scale cluster: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T is not on the Top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iel Loreto, Erik Nordlander, and Adam Ol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22860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76212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ing Rul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elf-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chmarking is top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ime, kick people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ing Rule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chmarking is not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d and ran HPL across multiple hardware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ed performance to the ACES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The Five Rules of Bench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H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inos Evangel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: H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erformance Linp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xN Line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chmark: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- problem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 - blo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xQ - processor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AST - message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any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767138" b="0"/>
          <a:stretch/>
        </p:blipFill>
        <p:spPr>
          <a:xfrm>
            <a:off x="5867280" y="1600200"/>
            <a:ext cx="238788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4092480"/>
            <a:ext cx="24382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: MIT ACES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6 CPUs on 344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9 GB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.706 TFl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7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: MIT ACES Gri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real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6 CPUs on 344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9 GB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.706 TFl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7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200" y="252900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------------------------                 305 C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52600" y="30621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---------------                             339 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52240" y="3595680"/>
            <a:ext cx="74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---------------                             Gigabit/Mega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7040" y="4129200"/>
            <a:ext cx="74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-----------------------                       1.464 TFl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9920" y="4724280"/>
            <a:ext cx="66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-----------------                               48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: MIT ACES Gri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real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vi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 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3:52:55Z</dcterms:created>
  <dc:creator>Molly Millions</dc:creator>
  <dc:description/>
  <dc:language>en-US</dc:language>
  <cp:lastModifiedBy>Molly Millions</cp:lastModifiedBy>
  <cp:lastPrinted>2005-05-10T17:15:41Z</cp:lastPrinted>
  <dcterms:modified xsi:type="dcterms:W3CDTF">2005-05-10T17:19:35Z</dcterms:modified>
  <cp:revision>45</cp:revision>
  <dc:subject/>
  <dc:title>MIT on the Top500: Benchmarking a large-scale heterogeneous cluster </dc:title>
</cp:coreProperties>
</file>