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AE6A-A2E9-45AE-BBDC-85E134E8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3617-19B5-4BA6-A946-61C47DE0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77CB-D8E4-4D6D-8F2E-EB925C7A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1E62-832C-4FE2-A4E3-1FC73D12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10EF-67FA-48AA-B55E-48592FDE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1A15-03BE-4FA9-83CA-C31D693F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BCB7-D9A0-4896-B791-6F63A616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E66E-335C-4389-A15C-F212A3E7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A60D-2251-4045-A922-7F4D15F3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5B7C-0686-4143-9F51-D2D1176E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CEC2-0B27-43A2-B739-552A2574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7E9F-CA41-47B8-AC49-551575B7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6B09-71A1-4CD5-BC66-CE38CB2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D920-A2D3-43E7-A7D4-56C4373C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5F5F-D027-44AA-8659-E9397CC5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E206-E56E-42C5-B522-6843DF8B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28B3-1A27-4456-88C5-F25310F1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7E47-2B09-4822-8586-053B132D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61EF-9D16-4B58-A326-3FECA672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7FA8-67BF-4CA0-959C-5A9AB0AA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DC3F-0327-4F38-9AA5-91571681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98B6-52C2-4413-B755-5D8DF76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5D37-4966-4DA4-BCDD-3E9FE711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3194-472A-4B47-908E-B08AE74A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D495-53E2-4CC1-84C9-72AA7B4465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F42E-0F61-411D-94D1-CBEE92AB4A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8.pn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8.png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arallelized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onte Carlo Raytrac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an And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mple Raytrac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ot a single ray from the e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closest intersection 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 the intensity of lights visible from the 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ursively shoot single reflection and refraction rays a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Lights (either visible or n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ect Refl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ra with infinite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mall a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>
            <a:off x="5867280" y="4343400"/>
            <a:ext cx="3043440" cy="22827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nte Carlo Raytrac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ot (many) random rays from the aper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intersection 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 visible and partially visible light sou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ot (many) random rays to the area of each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fuzzy refle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t reflection rays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any) random dir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 appropriat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LOTS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ray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6"/>
          <a:stretch/>
        </p:blipFill>
        <p:spPr>
          <a:xfrm>
            <a:off x="5867280" y="4343400"/>
            <a:ext cx="3025800" cy="22701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rallelizing Monte Car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each proccess calculate a single area of the im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each process calculate it’s own image and then average all of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completely straightforwar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vergence of Monte Car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does not only depend on number of r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: Minimize varianc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crease no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completely random r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 converge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do better by selectively choosing a good distribution of r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ce Samp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isfied Samp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 can converge with 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rallelizing Monte Car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e Sampl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s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90720" y="4267080"/>
            <a:ext cx="4192560" cy="1676520"/>
            <a:chOff x="990720" y="4267080"/>
            <a:chExt cx="4192560" cy="1676520"/>
          </a:xfrm>
        </p:grpSpPr>
        <p:grpSp>
          <p:nvGrpSpPr>
            <p:cNvPr id="529" name=""/>
            <p:cNvGrpSpPr/>
            <p:nvPr/>
          </p:nvGrpSpPr>
          <p:grpSpPr>
            <a:xfrm>
              <a:off x="3429000" y="4267080"/>
              <a:ext cx="1754280" cy="1676520"/>
              <a:chOff x="3429000" y="4267080"/>
              <a:chExt cx="1754280" cy="1676520"/>
            </a:xfrm>
          </p:grpSpPr>
          <p:pic>
            <p:nvPicPr>
              <p:cNvPr id="530" name="" descr=""/>
              <p:cNvPicPr/>
              <p:nvPr/>
            </p:nvPicPr>
            <p:blipFill>
              <a:blip r:embed="rId3"/>
              <a:srcRect l="52839" t="13372" r="3745" b="23437"/>
              <a:stretch/>
            </p:blipFill>
            <p:spPr>
              <a:xfrm>
                <a:off x="3429000" y="4267080"/>
                <a:ext cx="1754280" cy="1676520"/>
              </a:xfrm>
              <a:prstGeom prst="rect">
                <a:avLst/>
              </a:prstGeom>
              <a:ln w="38160">
                <a:solidFill>
                  <a:srgbClr val="ccccff"/>
                </a:solidFill>
                <a:miter/>
              </a:ln>
            </p:spPr>
          </p:pic>
          <p:grpSp>
            <p:nvGrpSpPr>
              <p:cNvPr id="531" name=""/>
              <p:cNvGrpSpPr/>
              <p:nvPr/>
            </p:nvGrpSpPr>
            <p:grpSpPr>
              <a:xfrm>
                <a:off x="3537000" y="4349880"/>
                <a:ext cx="1511280" cy="1511280"/>
                <a:chOff x="3537000" y="4349880"/>
                <a:chExt cx="1511280" cy="15112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37000" y="4349880"/>
                  <a:ext cx="1511280" cy="1511280"/>
                </a:xfrm>
                <a:prstGeom prst="ellipse">
                  <a:avLst/>
                </a:prstGeom>
                <a:solidFill>
                  <a:srgbClr val="ffcc00">
                    <a:alpha val="5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657600" y="4483080"/>
                  <a:ext cx="1263600" cy="1257480"/>
                </a:xfrm>
                <a:prstGeom prst="ellipse">
                  <a:avLst/>
                </a:prstGeom>
                <a:solidFill>
                  <a:srgbClr val="ff0000">
                    <a:alpha val="5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848040" y="4667400"/>
                  <a:ext cx="889200" cy="876240"/>
                </a:xfrm>
                <a:prstGeom prst="ellipse">
                  <a:avLst/>
                </a:prstGeom>
                <a:solidFill>
                  <a:srgbClr val="6666ff">
                    <a:alpha val="5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35" name="" descr=""/>
            <p:cNvPicPr/>
            <p:nvPr/>
          </p:nvPicPr>
          <p:blipFill>
            <a:blip r:embed="rId4"/>
            <a:srcRect l="52839" t="13372" r="3745" b="23437"/>
            <a:stretch/>
          </p:blipFill>
          <p:spPr>
            <a:xfrm>
              <a:off x="990720" y="4267080"/>
              <a:ext cx="1754280" cy="1676520"/>
            </a:xfrm>
            <a:prstGeom prst="rect">
              <a:avLst/>
            </a:prstGeom>
            <a:ln w="38160">
              <a:solidFill>
                <a:srgbClr val="ccccff"/>
              </a:solidFill>
              <a:miter/>
            </a:ln>
          </p:spPr>
        </p:pic>
        <p:sp>
          <p:nvSpPr>
            <p:cNvPr id="536" name=""/>
            <p:cNvSpPr/>
            <p:nvPr/>
          </p:nvSpPr>
          <p:spPr>
            <a:xfrm>
              <a:off x="2817000" y="47656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7" name="" descr=""/>
          <p:cNvPicPr/>
          <p:nvPr/>
        </p:nvPicPr>
        <p:blipFill>
          <a:blip r:embed="rId5"/>
          <a:srcRect l="32928" t="0" r="0" b="0"/>
          <a:stretch/>
        </p:blipFill>
        <p:spPr>
          <a:xfrm>
            <a:off x="990720" y="1752480"/>
            <a:ext cx="4190760" cy="17496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sp>
        <p:nvSpPr>
          <p:cNvPr id="538" name=""/>
          <p:cNvSpPr/>
          <p:nvPr/>
        </p:nvSpPr>
        <p:spPr>
          <a:xfrm>
            <a:off x="4952880" y="1447920"/>
            <a:ext cx="4191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zzy Refl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ily paralleliz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alis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coordination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th of 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 Sha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lelize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 st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disc with 16 strata 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discs with 4 str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429000" y="6095880"/>
          <a:ext cx="609480" cy="609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29000" y="6095880"/>
                    <a:ext cx="609480" cy="609840"/>
                  </a:xfrm>
                  <a:prstGeom prst="rect">
                    <a:avLst/>
                  </a:prstGeom>
                  <a:ln w="3168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4191120" y="6095880"/>
          <a:ext cx="609480" cy="609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91120" y="6095880"/>
                    <a:ext cx="609480" cy="609840"/>
                  </a:xfrm>
                  <a:prstGeom prst="rect">
                    <a:avLst/>
                  </a:prstGeom>
                  <a:ln w="3168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4952880" y="6095880"/>
          <a:ext cx="609840" cy="609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52880" y="6095880"/>
                    <a:ext cx="609840" cy="609840"/>
                  </a:xfrm>
                  <a:prstGeom prst="rect">
                    <a:avLst/>
                  </a:prstGeom>
                  <a:ln w="3168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2799720" y="6046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895480" y="6248520"/>
            <a:ext cx="304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arallelized naiively, serial version could converge faster, negating added processing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lelized code does not yet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methods indicated, suspect N times speedup for identical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3025800" cy="22701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550" name="" descr=""/>
          <p:cNvPicPr/>
          <p:nvPr/>
        </p:nvPicPr>
        <p:blipFill>
          <a:blip r:embed="rId5"/>
          <a:stretch/>
        </p:blipFill>
        <p:spPr>
          <a:xfrm>
            <a:off x="5638680" y="4191120"/>
            <a:ext cx="3025800" cy="22701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7040" y="228600"/>
            <a:ext cx="4086360" cy="30654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3200400" cy="32004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4886280" y="3505320"/>
            <a:ext cx="3191040" cy="31906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4648320" y="228600"/>
            <a:ext cx="4114800" cy="3087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5:43:04Z</dcterms:created>
  <dc:creator>Brian Anderson</dc:creator>
  <dc:description/>
  <dc:language>en-US</dc:language>
  <cp:lastModifiedBy>Brian Anderson</cp:lastModifiedBy>
  <dcterms:modified xsi:type="dcterms:W3CDTF">2005-05-12T18:25:14Z</dcterms:modified>
  <cp:revision>11</cp:revision>
  <dc:subject/>
  <dc:title>Slide 1</dc:title>
</cp:coreProperties>
</file>