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8640763" cy="6480175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A72-ED2E-4B85-9162-36D8EF6C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63280" y="4074480"/>
            <a:ext cx="756108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040-012E-46EC-B597-61246DF8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63280" y="407448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960" y="407448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622-17F6-4681-9062-0230BEF7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9640" y="223200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200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63280" y="407448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9640" y="407448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407448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31B-5804-4A77-A677-7A1814BC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BB50-AD2F-4C02-8B8F-E9BFF671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FE21-7D4C-434C-A224-DB805745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FFE1-4DB6-4D6F-8F40-721AFAFD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990C-FAD6-49F5-8978-B2861770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319B-75C2-4F0C-9FBF-DDDA6AFC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63280" y="720360"/>
            <a:ext cx="7561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31E4-4875-4175-B7C2-3E4663E5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3280" y="407448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5DFA-D1B0-4083-87F2-FC93D24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292-CE8C-4BBC-8C25-F4F2AC97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37960" y="407448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06EB-2738-42DC-A726-B65062F6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63280" y="4074480"/>
            <a:ext cx="756108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6879-4FD1-4C0F-8433-ED067955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63280" y="4074480"/>
            <a:ext cx="756108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572C-6AF9-4690-98E5-DA005C7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63280" y="407448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37960" y="407448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D9D3-46DC-4EEF-8EAE-FD19F516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9640" y="223200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76000" y="223200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63280" y="407448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9640" y="407448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76000" y="4074480"/>
            <a:ext cx="243432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E632-7CF2-4F7E-B4EA-54A24A8B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A01-352D-41B6-A5E6-8FEE8D22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A65-29A1-4989-9B41-F3A78A48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0C0-2AAE-4898-ACD9-86FDDD9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63280" y="720360"/>
            <a:ext cx="7561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FE1-F4BA-4890-9979-5C7BC9D4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63280" y="407448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360-F060-4866-AF99-7319FD0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960" y="407448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BD5-933B-4B1C-A899-6B489E40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960" y="2232000"/>
            <a:ext cx="368964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280" y="4074480"/>
            <a:ext cx="7561080" cy="168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92A-BFC9-498E-A942-1E42C30A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024000" cy="6480000"/>
            <a:chOff x="0" y="0"/>
            <a:chExt cx="3024000" cy="6480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20000" cy="6480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8000" y="0"/>
              <a:ext cx="2376000" cy="100764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20720" y="720720"/>
            <a:ext cx="4824360" cy="574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079640" indent="-216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3" marL="1511280" indent="-216000">
              <a:spcBef>
                <a:spcPts val="6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4" marL="1944720" indent="-2160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5" marL="1944720" indent="-2160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6" marL="1944720" indent="-2160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24720" y="6194880"/>
            <a:ext cx="1800000" cy="284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74520" y="6173280"/>
            <a:ext cx="2737080" cy="284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00" y="5608800"/>
            <a:ext cx="555840" cy="84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en-US" sz="2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6E6CAD1-E7DE-40B0-B04A-A7D86B641EB0}" type="slidenum">
              <a:rPr b="1" lang="en-US" sz="2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15640" y="1871640"/>
            <a:ext cx="6985080" cy="301680"/>
            <a:chOff x="215640" y="1871640"/>
            <a:chExt cx="6985080" cy="301680"/>
          </a:xfrm>
        </p:grpSpPr>
        <p:sp>
          <p:nvSpPr>
            <p:cNvPr id="10" name=""/>
            <p:cNvSpPr/>
            <p:nvPr/>
          </p:nvSpPr>
          <p:spPr>
            <a:xfrm>
              <a:off x="575640" y="1871640"/>
              <a:ext cx="6625080" cy="2998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15280" y="1871640"/>
              <a:ext cx="371880" cy="3016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319640" cy="6480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640" y="936720"/>
            <a:ext cx="4897440" cy="1800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432240" y="4619520"/>
            <a:ext cx="4608000" cy="301680"/>
            <a:chOff x="3432240" y="4619520"/>
            <a:chExt cx="4608000" cy="301680"/>
          </a:xfrm>
        </p:grpSpPr>
        <p:sp>
          <p:nvSpPr>
            <p:cNvPr id="51" name=""/>
            <p:cNvSpPr/>
            <p:nvPr/>
          </p:nvSpPr>
          <p:spPr>
            <a:xfrm flipH="1">
              <a:off x="3432240" y="4619520"/>
              <a:ext cx="4371120" cy="30024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94360" y="4619520"/>
              <a:ext cx="245880" cy="3016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521080" y="6194880"/>
            <a:ext cx="1798560" cy="284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910040" y="6194880"/>
            <a:ext cx="3098880" cy="284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000" y="5622480"/>
            <a:ext cx="554040" cy="847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en-US" sz="2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7FFC742-AB76-41C9-B0F5-999D153E9FF0}" type="slidenum">
              <a:rPr b="1" lang="en-US" sz="2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85600" y="1347840"/>
            <a:ext cx="7343640" cy="1079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2.png"/><Relationship Id="rId5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globusLogoNoSwoosh" descr=""/>
          <p:cNvPicPr/>
          <p:nvPr/>
        </p:nvPicPr>
        <p:blipFill>
          <a:blip r:embed="rId1"/>
          <a:stretch/>
        </p:blipFill>
        <p:spPr>
          <a:xfrm>
            <a:off x="762120" y="5237280"/>
            <a:ext cx="4333680" cy="124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2286000"/>
            <a:ext cx="66294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Edward Sim Jo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Qiu L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Zhang Xiangfe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3547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363320"/>
              </a:tabLst>
            </a:pPr>
            <a:r>
              <a:rPr b="1" lang="en-GB" sz="3400" spc="-1" strike="noStrike">
                <a:solidFill>
                  <a:srgbClr val="ff6600"/>
                </a:solidFill>
                <a:latin typeface="Verdana"/>
              </a:rPr>
              <a:t>Porting Matlab*P onto Globu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97" name="sma_logo" descr=""/>
            <p:cNvPicPr/>
            <p:nvPr/>
          </p:nvPicPr>
          <p:blipFill>
            <a:blip r:embed="rId2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3400" spc="-1" strike="noStrike">
                <a:solidFill>
                  <a:srgbClr val="ff6600"/>
                </a:solidFill>
                <a:latin typeface="Arial"/>
              </a:rPr>
              <a:t>Background:MPICH-G2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561440" cy="3886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Grid-enabled MPI Implementati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upports multiple low-level communication method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Employs Globu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Co-allocation of resource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267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Outline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oals of the projec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ckground:Matlab*P, Globus and MPICH-G2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Matlab*P overview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we have d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iscussion and conclus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272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275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561440" cy="1079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3400" spc="-1" strike="noStrike">
                <a:solidFill>
                  <a:srgbClr val="ff6600"/>
                </a:solidFill>
                <a:latin typeface="Arial"/>
              </a:rPr>
              <a:t>Matlab*P (How it works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9000"/>
          </a:bodyPr>
          <a:p>
            <a:pPr marL="320760" indent="-32076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age of overloading operators to provide transparent paralleli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94440" indent="-26712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+ , -, inv,.. fft…..svd…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upport libraries (sparse and dense matrice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Need to create distributed objec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94440" indent="-26712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Use p operator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694440" indent="-26712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A=rand(512*p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694440" indent="-26712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Reuse of matlab code with little chang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561440" cy="1079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3400" spc="-1" strike="noStrike">
                <a:solidFill>
                  <a:srgbClr val="ff6600"/>
                </a:solidFill>
                <a:latin typeface="Arial"/>
              </a:rPr>
              <a:t>Matlab*P on cluster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arallel Problems Server architectu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957960" y="3842280"/>
            <a:ext cx="1675080" cy="237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496080" y="3846960"/>
            <a:ext cx="16750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1623960" y="3862080"/>
            <a:ext cx="1675080" cy="198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3551040" y="3998520"/>
            <a:ext cx="546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1249200" y="3855600"/>
            <a:ext cx="1675080" cy="211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059200" y="3915000"/>
            <a:ext cx="54612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620640" y="3836520"/>
            <a:ext cx="3003480" cy="96840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30520" y="5311800"/>
            <a:ext cx="3179520" cy="0"/>
          </a:xfrm>
          <a:prstGeom prst="line">
            <a:avLst/>
          </a:prstGeom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732680" y="5494680"/>
            <a:ext cx="423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P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822320" y="4798800"/>
            <a:ext cx="0" cy="6649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098800" y="4798800"/>
            <a:ext cx="0" cy="6649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468520" y="4798800"/>
            <a:ext cx="0" cy="6649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2320" y="5465880"/>
            <a:ext cx="784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2082600" y="3860280"/>
            <a:ext cx="1675080" cy="20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709720" y="3843000"/>
            <a:ext cx="1675080" cy="2365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2400120" y="3847680"/>
            <a:ext cx="1676520" cy="228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3168720" y="3913560"/>
            <a:ext cx="54612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726200" y="3837240"/>
            <a:ext cx="3003480" cy="96696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928960" y="4798800"/>
            <a:ext cx="0" cy="6649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205080" y="4798800"/>
            <a:ext cx="0" cy="6649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573360" y="4798800"/>
            <a:ext cx="0" cy="6649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4640" y="5465880"/>
            <a:ext cx="966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3314520" y="3847680"/>
            <a:ext cx="1675080" cy="227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3941640" y="3830400"/>
            <a:ext cx="1675080" cy="261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3613680" y="3853440"/>
            <a:ext cx="1687680" cy="228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4410000" y="3920040"/>
            <a:ext cx="54612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2970000" y="3836520"/>
            <a:ext cx="3003480" cy="96840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73480" y="4798800"/>
            <a:ext cx="0" cy="6649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449600" y="4798800"/>
            <a:ext cx="0" cy="6649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818240" y="4798800"/>
            <a:ext cx="0" cy="6649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87720" y="5465880"/>
            <a:ext cx="830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6760" y="5465880"/>
            <a:ext cx="13788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11600" y="5465880"/>
            <a:ext cx="27612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54040" y="4135320"/>
            <a:ext cx="2764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4648320"/>
            <a:ext cx="1065240" cy="228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4648320"/>
            <a:ext cx="106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ork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81680" y="5029200"/>
            <a:ext cx="106524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5029200"/>
            <a:ext cx="106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lien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410080"/>
            <a:ext cx="10652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5410080"/>
            <a:ext cx="106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matlab*p serv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5715000"/>
            <a:ext cx="106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289548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imes New Roman"/>
              </a:rPr>
              <a:t>Node 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4760" y="2895480"/>
            <a:ext cx="50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imes New Roman"/>
              </a:rPr>
              <a:t>Node  2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080" y="28954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imes New Roman"/>
              </a:rPr>
              <a:t>Node n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5715000"/>
            <a:ext cx="106524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5715000"/>
            <a:ext cx="106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matlab*p work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828800" y="533520"/>
            <a:ext cx="6629400" cy="5889240"/>
            <a:chOff x="1828800" y="533520"/>
            <a:chExt cx="6629400" cy="5889240"/>
          </a:xfrm>
        </p:grpSpPr>
        <p:pic>
          <p:nvPicPr>
            <p:cNvPr id="328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828800" y="5791320"/>
              <a:ext cx="6629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Matlab*P on Grid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28800" y="457200"/>
            <a:ext cx="6629400" cy="5889240"/>
            <a:chOff x="1828800" y="457200"/>
            <a:chExt cx="6629400" cy="5889240"/>
          </a:xfrm>
        </p:grpSpPr>
        <p:pic>
          <p:nvPicPr>
            <p:cNvPr id="332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45720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828800" y="5715000"/>
              <a:ext cx="6629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90720" y="2286000"/>
            <a:ext cx="6856200" cy="3657600"/>
            <a:chOff x="990720" y="2286000"/>
            <a:chExt cx="6856200" cy="3657600"/>
          </a:xfrm>
        </p:grpSpPr>
        <p:sp>
          <p:nvSpPr>
            <p:cNvPr id="335" name=""/>
            <p:cNvSpPr/>
            <p:nvPr/>
          </p:nvSpPr>
          <p:spPr>
            <a:xfrm>
              <a:off x="6745320" y="4427640"/>
              <a:ext cx="1101600" cy="26676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3160" y="4427640"/>
              <a:ext cx="11034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work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45320" y="4873680"/>
              <a:ext cx="1101600" cy="266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83160" y="4873680"/>
              <a:ext cx="11034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cli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45320" y="5319720"/>
              <a:ext cx="1101600" cy="266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3160" y="5319720"/>
              <a:ext cx="11034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matlab*p serv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3160" y="5675400"/>
              <a:ext cx="1103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606240" y="3500280"/>
              <a:ext cx="1960560" cy="245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28520" y="3504960"/>
              <a:ext cx="1960560" cy="236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1295280" y="3520800"/>
              <a:ext cx="1960560" cy="204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3412080" y="3634200"/>
              <a:ext cx="54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907920" y="3514680"/>
              <a:ext cx="1960560" cy="2174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1860480" y="3554640"/>
              <a:ext cx="546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166680" y="3543480"/>
              <a:ext cx="3516480" cy="1001520"/>
            </a:xfrm>
            <a:prstGeom prst="rect">
              <a:avLst/>
            </a:prstGeom>
            <a:noFill/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9200" y="5203800"/>
              <a:ext cx="328932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2250360" y="4684680"/>
              <a:ext cx="42372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MPICH-G2/GLOBU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614600" y="4603320"/>
              <a:ext cx="0" cy="77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900080" y="4603320"/>
              <a:ext cx="0" cy="77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282760" y="4603320"/>
              <a:ext cx="0" cy="77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14600" y="5384880"/>
              <a:ext cx="8110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1770120" y="3519360"/>
              <a:ext cx="1960560" cy="20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2418480" y="3501000"/>
              <a:ext cx="1960560" cy="2444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2097720" y="3505680"/>
              <a:ext cx="1962360" cy="2365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3009960" y="3553200"/>
              <a:ext cx="546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1310400" y="3544200"/>
              <a:ext cx="3516480" cy="1000080"/>
            </a:xfrm>
            <a:prstGeom prst="rect">
              <a:avLst/>
            </a:prstGeom>
            <a:noFill/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759040" y="4603320"/>
              <a:ext cx="0" cy="77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044880" y="4603320"/>
              <a:ext cx="0" cy="77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425760" y="4603320"/>
              <a:ext cx="0" cy="77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68600" y="5384880"/>
              <a:ext cx="10000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3043800" y="3505680"/>
              <a:ext cx="196056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200000">
              <a:off x="3693240" y="3488400"/>
              <a:ext cx="1960560" cy="2700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3353400" y="3512160"/>
              <a:ext cx="1974960" cy="2365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4294440" y="3559680"/>
              <a:ext cx="546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2597040" y="3543480"/>
              <a:ext cx="3516480" cy="1001520"/>
            </a:xfrm>
            <a:prstGeom prst="rect">
              <a:avLst/>
            </a:prstGeom>
            <a:noFill/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046400" y="4603320"/>
              <a:ext cx="0" cy="77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332240" y="4603320"/>
              <a:ext cx="0" cy="77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713120" y="4603320"/>
              <a:ext cx="0" cy="77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54520" y="5384880"/>
              <a:ext cx="1479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25680" y="5384880"/>
              <a:ext cx="14292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68680" y="5384880"/>
              <a:ext cx="28584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33360" y="3827520"/>
              <a:ext cx="285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42960" y="2374920"/>
              <a:ext cx="7873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imes New Roman"/>
                </a:rPr>
                <a:t>Node 1</a:t>
              </a:r>
              <a:endParaRPr b="0" lang="en-US" sz="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23040" y="2374920"/>
              <a:ext cx="50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imes New Roman"/>
                </a:rPr>
                <a:t>Node  2</a:t>
              </a:r>
              <a:endParaRPr b="0" lang="en-US" sz="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85560" y="237492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imes New Roman"/>
                </a:rPr>
                <a:t>Node n</a:t>
              </a:r>
              <a:endParaRPr b="0" lang="en-US" sz="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45320" y="5675400"/>
              <a:ext cx="1101600" cy="268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83160" y="5675400"/>
              <a:ext cx="1103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matlab*p work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4501440" y="3042000"/>
              <a:ext cx="1082520" cy="173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4987080" y="3056040"/>
              <a:ext cx="1082520" cy="1447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6247440" y="3237480"/>
              <a:ext cx="54612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4714200" y="3051720"/>
              <a:ext cx="1082520" cy="1537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211720" y="3123000"/>
              <a:ext cx="546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4309920" y="3007800"/>
              <a:ext cx="1941480" cy="706320"/>
            </a:xfrm>
            <a:prstGeom prst="rect">
              <a:avLst/>
            </a:prstGeom>
            <a:noFill/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95720" y="4002120"/>
              <a:ext cx="231624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5111280" y="4028040"/>
              <a:ext cx="3934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MP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264280" y="3669840"/>
              <a:ext cx="0" cy="430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532480" y="3669840"/>
              <a:ext cx="0" cy="430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62680" y="4102200"/>
              <a:ext cx="571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5321160" y="3055320"/>
              <a:ext cx="1082520" cy="146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6200000">
              <a:off x="5777640" y="3042000"/>
              <a:ext cx="1082520" cy="1728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6200000">
              <a:off x="5551200" y="3046320"/>
              <a:ext cx="1084320" cy="1666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6021360" y="3121200"/>
              <a:ext cx="546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5115600" y="3008520"/>
              <a:ext cx="1941480" cy="704880"/>
            </a:xfrm>
            <a:prstGeom prst="rect">
              <a:avLst/>
            </a:prstGeom>
            <a:noFill/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869080" y="3669840"/>
              <a:ext cx="0" cy="430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068880" y="3669840"/>
              <a:ext cx="0" cy="430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337440" y="3669840"/>
              <a:ext cx="0" cy="430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34080" y="4102200"/>
              <a:ext cx="7048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6218280" y="3045960"/>
              <a:ext cx="1082520" cy="165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6200000">
              <a:off x="6675480" y="3033360"/>
              <a:ext cx="1082520" cy="1904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6437520" y="3049200"/>
              <a:ext cx="1090440" cy="1666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6200000">
              <a:off x="6926400" y="3124440"/>
              <a:ext cx="546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6022080" y="3008520"/>
              <a:ext cx="1941480" cy="704880"/>
            </a:xfrm>
            <a:prstGeom prst="rect">
              <a:avLst/>
            </a:prstGeom>
            <a:noFill/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75560" y="3669840"/>
              <a:ext cx="0" cy="430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975360" y="3669840"/>
              <a:ext cx="0" cy="430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245360" y="3669840"/>
              <a:ext cx="0" cy="430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40560" y="4102200"/>
              <a:ext cx="604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34000" y="4102200"/>
              <a:ext cx="10008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38960" y="4102200"/>
              <a:ext cx="20160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11560" y="2440080"/>
              <a:ext cx="5540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imes New Roman"/>
                </a:rPr>
                <a:t>Node 1</a:t>
              </a:r>
              <a:endParaRPr b="0" lang="en-US" sz="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42440" y="2440080"/>
              <a:ext cx="50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imes New Roman"/>
                </a:rPr>
                <a:t>Node  2</a:t>
              </a:r>
              <a:endParaRPr b="0" lang="en-US" sz="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32000" y="244008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imes New Roman"/>
                </a:rPr>
                <a:t>Node n</a:t>
              </a:r>
              <a:endParaRPr b="0" lang="en-US" sz="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29200" y="3657600"/>
              <a:ext cx="0" cy="1752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Cluster vs Grid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cally not different w.r.t. Matlab*P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dely different computational environ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ssues involv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Network latency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Heterogeneous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419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Outline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oals of the projec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ckground:Matlab*P, Globus and MPICH-G2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tlab*P overview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What we have d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iscussion and conclus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424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How our system evolve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81080" y="3327480"/>
            <a:ext cx="4724640" cy="307080"/>
          </a:xfrm>
          <a:prstGeom prst="rect">
            <a:avLst/>
          </a:prstGeom>
          <a:solidFill>
            <a:srgbClr val="ff4d4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PICH-G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81080" y="5029200"/>
            <a:ext cx="4724640" cy="337320"/>
            <a:chOff x="1981080" y="5029200"/>
            <a:chExt cx="4724640" cy="337320"/>
          </a:xfrm>
        </p:grpSpPr>
        <p:sp>
          <p:nvSpPr>
            <p:cNvPr id="429" name=""/>
            <p:cNvSpPr/>
            <p:nvPr/>
          </p:nvSpPr>
          <p:spPr>
            <a:xfrm>
              <a:off x="1981080" y="5029200"/>
              <a:ext cx="2210040" cy="33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PIII 887MHz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00600" y="5029200"/>
              <a:ext cx="1905120" cy="33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thlon 1.5GHz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981080" y="4648320"/>
            <a:ext cx="4724640" cy="337320"/>
            <a:chOff x="1981080" y="4648320"/>
            <a:chExt cx="4724640" cy="337320"/>
          </a:xfrm>
        </p:grpSpPr>
        <p:sp>
          <p:nvSpPr>
            <p:cNvPr id="432" name=""/>
            <p:cNvSpPr/>
            <p:nvPr/>
          </p:nvSpPr>
          <p:spPr>
            <a:xfrm>
              <a:off x="1981080" y="4648320"/>
              <a:ext cx="2210040" cy="337320"/>
            </a:xfrm>
            <a:prstGeom prst="rect">
              <a:avLst/>
            </a:prstGeom>
            <a:solidFill>
              <a:srgbClr val="ff4d4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Redhat Linux 7.2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4648320"/>
              <a:ext cx="1905120" cy="337320"/>
            </a:xfrm>
            <a:prstGeom prst="rect">
              <a:avLst/>
            </a:prstGeom>
            <a:solidFill>
              <a:srgbClr val="ff4d4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Redhat Linux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981080" y="2571840"/>
            <a:ext cx="4724640" cy="337320"/>
            <a:chOff x="1981080" y="2571840"/>
            <a:chExt cx="4724640" cy="337320"/>
          </a:xfrm>
        </p:grpSpPr>
        <p:sp>
          <p:nvSpPr>
            <p:cNvPr id="435" name=""/>
            <p:cNvSpPr/>
            <p:nvPr/>
          </p:nvSpPr>
          <p:spPr>
            <a:xfrm>
              <a:off x="1981080" y="2571840"/>
              <a:ext cx="2743200" cy="33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Matlab 6.1.0.450(R12.1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2880" y="2571840"/>
              <a:ext cx="1752840" cy="33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Matlab*p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2171880"/>
            <a:ext cx="4572000" cy="380880"/>
            <a:chOff x="1981080" y="2171880"/>
            <a:chExt cx="4572000" cy="380880"/>
          </a:xfrm>
        </p:grpSpPr>
        <p:sp>
          <p:nvSpPr>
            <p:cNvPr id="438" name=""/>
            <p:cNvSpPr/>
            <p:nvPr/>
          </p:nvSpPr>
          <p:spPr>
            <a:xfrm>
              <a:off x="1981080" y="2247840"/>
              <a:ext cx="533520" cy="304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lu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14600" y="2247840"/>
              <a:ext cx="533520" cy="304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ei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8120" y="2247840"/>
              <a:ext cx="533160" cy="304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v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81280" y="2247840"/>
              <a:ext cx="533520" cy="304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in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43400" y="2171880"/>
              <a:ext cx="838080" cy="3808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o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2171880"/>
              <a:ext cx="990360" cy="3808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mandelbro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600200" y="5410080"/>
            <a:ext cx="5867280" cy="916920"/>
            <a:chOff x="1600200" y="5410080"/>
            <a:chExt cx="5867280" cy="916920"/>
          </a:xfrm>
        </p:grpSpPr>
        <p:grpSp>
          <p:nvGrpSpPr>
            <p:cNvPr id="445" name=""/>
            <p:cNvGrpSpPr/>
            <p:nvPr/>
          </p:nvGrpSpPr>
          <p:grpSpPr>
            <a:xfrm>
              <a:off x="1752480" y="5486400"/>
              <a:ext cx="609840" cy="456840"/>
              <a:chOff x="1752480" y="5486400"/>
              <a:chExt cx="609840" cy="456840"/>
            </a:xfrm>
          </p:grpSpPr>
          <p:sp>
            <p:nvSpPr>
              <p:cNvPr id="446" name=""/>
              <p:cNvSpPr/>
              <p:nvPr/>
            </p:nvSpPr>
            <p:spPr>
              <a:xfrm>
                <a:off x="1874520" y="5486400"/>
                <a:ext cx="365760" cy="32652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752480" y="5812920"/>
                <a:ext cx="609840" cy="130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438280" y="5486400"/>
              <a:ext cx="609840" cy="456840"/>
              <a:chOff x="2438280" y="5486400"/>
              <a:chExt cx="609840" cy="456840"/>
            </a:xfrm>
          </p:grpSpPr>
          <p:sp>
            <p:nvSpPr>
              <p:cNvPr id="449" name=""/>
              <p:cNvSpPr/>
              <p:nvPr/>
            </p:nvSpPr>
            <p:spPr>
              <a:xfrm>
                <a:off x="2560320" y="5486400"/>
                <a:ext cx="365760" cy="32652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438280" y="5812920"/>
                <a:ext cx="609840" cy="130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124080" y="5486400"/>
              <a:ext cx="609840" cy="456840"/>
              <a:chOff x="3124080" y="5486400"/>
              <a:chExt cx="609840" cy="456840"/>
            </a:xfrm>
          </p:grpSpPr>
          <p:sp>
            <p:nvSpPr>
              <p:cNvPr id="452" name=""/>
              <p:cNvSpPr/>
              <p:nvPr/>
            </p:nvSpPr>
            <p:spPr>
              <a:xfrm>
                <a:off x="3246120" y="5486400"/>
                <a:ext cx="365760" cy="32652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24080" y="5812920"/>
                <a:ext cx="609840" cy="1303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809880" y="5486400"/>
              <a:ext cx="609840" cy="456840"/>
              <a:chOff x="3809880" y="5486400"/>
              <a:chExt cx="609840" cy="456840"/>
            </a:xfrm>
          </p:grpSpPr>
          <p:sp>
            <p:nvSpPr>
              <p:cNvPr id="455" name=""/>
              <p:cNvSpPr/>
              <p:nvPr/>
            </p:nvSpPr>
            <p:spPr>
              <a:xfrm>
                <a:off x="3931920" y="5486400"/>
                <a:ext cx="365760" cy="32652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09880" y="5812920"/>
                <a:ext cx="609840" cy="1303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075280" y="5486400"/>
              <a:ext cx="365040" cy="32688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52880" y="5813280"/>
              <a:ext cx="609840" cy="130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5410080"/>
              <a:ext cx="228600" cy="533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91320" y="5410080"/>
              <a:ext cx="228600" cy="533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19920" y="5410080"/>
              <a:ext cx="228600" cy="533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410080"/>
              <a:ext cx="228600" cy="533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53080" y="5410080"/>
              <a:ext cx="228600" cy="533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81680" y="5410080"/>
              <a:ext cx="228600" cy="533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10280" y="5410080"/>
              <a:ext cx="228600" cy="533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38880" y="5410080"/>
              <a:ext cx="228600" cy="533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86400" y="60199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Beowulf@MI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60199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ma2-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86000" y="60199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ma2-1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48120" y="601992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ma3-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09880" y="60199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ma3-07@S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981080" y="3679920"/>
            <a:ext cx="4724640" cy="337320"/>
            <a:chOff x="1981080" y="3679920"/>
            <a:chExt cx="4724640" cy="337320"/>
          </a:xfrm>
        </p:grpSpPr>
        <p:sp>
          <p:nvSpPr>
            <p:cNvPr id="473" name=""/>
            <p:cNvSpPr/>
            <p:nvPr/>
          </p:nvSpPr>
          <p:spPr>
            <a:xfrm>
              <a:off x="1981080" y="3679920"/>
              <a:ext cx="2514600" cy="307080"/>
            </a:xfrm>
            <a:prstGeom prst="rect">
              <a:avLst/>
            </a:prstGeom>
            <a:solidFill>
              <a:srgbClr val="ff4d4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lobus Toolkit 2.0 (Beta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24280" y="3679920"/>
              <a:ext cx="1981440" cy="337320"/>
            </a:xfrm>
            <a:prstGeom prst="rect">
              <a:avLst/>
            </a:prstGeom>
            <a:solidFill>
              <a:srgbClr val="ff4d4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lobus Toolkit 2.0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492360" y="4114800"/>
            <a:ext cx="3200400" cy="486360"/>
            <a:chOff x="3492360" y="4114800"/>
            <a:chExt cx="3200400" cy="486360"/>
          </a:xfrm>
        </p:grpSpPr>
        <p:sp>
          <p:nvSpPr>
            <p:cNvPr id="476" name=""/>
            <p:cNvSpPr/>
            <p:nvPr/>
          </p:nvSpPr>
          <p:spPr>
            <a:xfrm>
              <a:off x="3492360" y="4387680"/>
              <a:ext cx="3200400" cy="213480"/>
            </a:xfrm>
            <a:prstGeom prst="rect">
              <a:avLst/>
            </a:prstGeom>
            <a:solidFill>
              <a:srgbClr val="ff4d4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MP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3505320" y="4114800"/>
              <a:ext cx="3187080" cy="246240"/>
              <a:chOff x="3505320" y="4114800"/>
              <a:chExt cx="3187080" cy="246240"/>
            </a:xfrm>
          </p:grpSpPr>
          <p:sp>
            <p:nvSpPr>
              <p:cNvPr id="478" name=""/>
              <p:cNvSpPr/>
              <p:nvPr/>
            </p:nvSpPr>
            <p:spPr>
              <a:xfrm>
                <a:off x="3505320" y="4114800"/>
                <a:ext cx="450720" cy="24372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3366"/>
                    </a:solidFill>
                    <a:latin typeface="Arial"/>
                  </a:rPr>
                  <a:t>BLAS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93840" y="4114800"/>
                <a:ext cx="450720" cy="2462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3366"/>
                    </a:solidFill>
                    <a:latin typeface="Arial"/>
                  </a:rPr>
                  <a:t>BLACS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83080" y="4114800"/>
                <a:ext cx="450360" cy="2462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3366"/>
                    </a:solidFill>
                    <a:latin typeface="Arial"/>
                  </a:rPr>
                  <a:t>ATLA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978440" y="4114800"/>
                <a:ext cx="848880" cy="2462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3366"/>
                    </a:solidFill>
                    <a:latin typeface="Arial"/>
                  </a:rPr>
                  <a:t>ScaLAPACK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67280" y="4114800"/>
                <a:ext cx="336240" cy="2462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3366"/>
                    </a:solidFill>
                    <a:latin typeface="Arial"/>
                  </a:rPr>
                  <a:t>fftw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42040" y="4114800"/>
                <a:ext cx="450360" cy="2462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3366"/>
                    </a:solidFill>
                    <a:latin typeface="Arial"/>
                  </a:rPr>
                  <a:t>sprng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4" name=""/>
          <p:cNvGrpSpPr/>
          <p:nvPr/>
        </p:nvGrpSpPr>
        <p:grpSpPr>
          <a:xfrm>
            <a:off x="1981080" y="2971800"/>
            <a:ext cx="3187800" cy="246240"/>
            <a:chOff x="1981080" y="2971800"/>
            <a:chExt cx="3187800" cy="246240"/>
          </a:xfrm>
        </p:grpSpPr>
        <p:sp>
          <p:nvSpPr>
            <p:cNvPr id="485" name=""/>
            <p:cNvSpPr/>
            <p:nvPr/>
          </p:nvSpPr>
          <p:spPr>
            <a:xfrm>
              <a:off x="1981080" y="2971800"/>
              <a:ext cx="451080" cy="243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BLAS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960" y="2971800"/>
              <a:ext cx="451080" cy="246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BLACS 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59200" y="2971800"/>
              <a:ext cx="450720" cy="246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ATLAS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54560" y="2971800"/>
              <a:ext cx="849240" cy="246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ScaLAPACK 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2971800"/>
              <a:ext cx="336600" cy="246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fftw 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18160" y="2971800"/>
              <a:ext cx="450720" cy="246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sprng 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219320" y="2438280"/>
            <a:ext cx="28954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Environment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114800" y="2438280"/>
            <a:ext cx="28954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895480" y="2514600"/>
            <a:ext cx="457200" cy="380880"/>
            <a:chOff x="2895480" y="2514600"/>
            <a:chExt cx="457200" cy="380880"/>
          </a:xfrm>
        </p:grpSpPr>
        <p:sp>
          <p:nvSpPr>
            <p:cNvPr id="495" name=""/>
            <p:cNvSpPr/>
            <p:nvPr/>
          </p:nvSpPr>
          <p:spPr>
            <a:xfrm>
              <a:off x="2986920" y="25146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95480" y="2786760"/>
              <a:ext cx="457200" cy="108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371600" y="4191120"/>
            <a:ext cx="457200" cy="380880"/>
            <a:chOff x="1371600" y="4191120"/>
            <a:chExt cx="457200" cy="380880"/>
          </a:xfrm>
        </p:grpSpPr>
        <p:sp>
          <p:nvSpPr>
            <p:cNvPr id="498" name=""/>
            <p:cNvSpPr/>
            <p:nvPr/>
          </p:nvSpPr>
          <p:spPr>
            <a:xfrm>
              <a:off x="1463040" y="4191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1600" y="4463280"/>
              <a:ext cx="457200" cy="1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505320" y="4191120"/>
            <a:ext cx="457200" cy="380880"/>
            <a:chOff x="3505320" y="4191120"/>
            <a:chExt cx="457200" cy="380880"/>
          </a:xfrm>
        </p:grpSpPr>
        <p:sp>
          <p:nvSpPr>
            <p:cNvPr id="501" name=""/>
            <p:cNvSpPr/>
            <p:nvPr/>
          </p:nvSpPr>
          <p:spPr>
            <a:xfrm>
              <a:off x="3596760" y="4191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05320" y="4463280"/>
              <a:ext cx="457200" cy="108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895480" y="3048120"/>
            <a:ext cx="457200" cy="380880"/>
            <a:chOff x="2895480" y="3048120"/>
            <a:chExt cx="457200" cy="380880"/>
          </a:xfrm>
        </p:grpSpPr>
        <p:sp>
          <p:nvSpPr>
            <p:cNvPr id="504" name=""/>
            <p:cNvSpPr/>
            <p:nvPr/>
          </p:nvSpPr>
          <p:spPr>
            <a:xfrm>
              <a:off x="2986920" y="3048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95480" y="3320280"/>
              <a:ext cx="457200" cy="108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895480" y="3581280"/>
            <a:ext cx="457200" cy="380880"/>
            <a:chOff x="2895480" y="3581280"/>
            <a:chExt cx="457200" cy="380880"/>
          </a:xfrm>
        </p:grpSpPr>
        <p:sp>
          <p:nvSpPr>
            <p:cNvPr id="507" name=""/>
            <p:cNvSpPr/>
            <p:nvPr/>
          </p:nvSpPr>
          <p:spPr>
            <a:xfrm>
              <a:off x="2986920" y="358128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95480" y="3853440"/>
              <a:ext cx="457200" cy="108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505320" y="2514600"/>
            <a:ext cx="457200" cy="380880"/>
            <a:chOff x="3505320" y="2514600"/>
            <a:chExt cx="457200" cy="380880"/>
          </a:xfrm>
        </p:grpSpPr>
        <p:sp>
          <p:nvSpPr>
            <p:cNvPr id="510" name=""/>
            <p:cNvSpPr/>
            <p:nvPr/>
          </p:nvSpPr>
          <p:spPr>
            <a:xfrm>
              <a:off x="3596760" y="25146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05320" y="2786760"/>
              <a:ext cx="457200" cy="1087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505320" y="3048120"/>
            <a:ext cx="457200" cy="380880"/>
            <a:chOff x="3505320" y="3048120"/>
            <a:chExt cx="457200" cy="380880"/>
          </a:xfrm>
        </p:grpSpPr>
        <p:sp>
          <p:nvSpPr>
            <p:cNvPr id="513" name=""/>
            <p:cNvSpPr/>
            <p:nvPr/>
          </p:nvSpPr>
          <p:spPr>
            <a:xfrm>
              <a:off x="3596760" y="3048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5320" y="3320280"/>
              <a:ext cx="457200" cy="1087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505320" y="3581280"/>
            <a:ext cx="457200" cy="380880"/>
            <a:chOff x="3505320" y="3581280"/>
            <a:chExt cx="457200" cy="380880"/>
          </a:xfrm>
        </p:grpSpPr>
        <p:sp>
          <p:nvSpPr>
            <p:cNvPr id="516" name=""/>
            <p:cNvSpPr/>
            <p:nvPr/>
          </p:nvSpPr>
          <p:spPr>
            <a:xfrm>
              <a:off x="3596760" y="358128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05320" y="3853440"/>
              <a:ext cx="457200" cy="108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209680" y="2514600"/>
            <a:ext cx="457200" cy="380880"/>
            <a:chOff x="2209680" y="2514600"/>
            <a:chExt cx="457200" cy="380880"/>
          </a:xfrm>
        </p:grpSpPr>
        <p:sp>
          <p:nvSpPr>
            <p:cNvPr id="519" name=""/>
            <p:cNvSpPr/>
            <p:nvPr/>
          </p:nvSpPr>
          <p:spPr>
            <a:xfrm>
              <a:off x="2301120" y="25146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09680" y="2786760"/>
              <a:ext cx="457200" cy="1087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2209680" y="3048120"/>
            <a:ext cx="457200" cy="380880"/>
            <a:chOff x="2209680" y="3048120"/>
            <a:chExt cx="457200" cy="380880"/>
          </a:xfrm>
        </p:grpSpPr>
        <p:sp>
          <p:nvSpPr>
            <p:cNvPr id="522" name=""/>
            <p:cNvSpPr/>
            <p:nvPr/>
          </p:nvSpPr>
          <p:spPr>
            <a:xfrm>
              <a:off x="2301120" y="3048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09680" y="3320280"/>
              <a:ext cx="457200" cy="1087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209680" y="3581280"/>
            <a:ext cx="457200" cy="380880"/>
            <a:chOff x="2209680" y="3581280"/>
            <a:chExt cx="457200" cy="380880"/>
          </a:xfrm>
        </p:grpSpPr>
        <p:sp>
          <p:nvSpPr>
            <p:cNvPr id="525" name=""/>
            <p:cNvSpPr/>
            <p:nvPr/>
          </p:nvSpPr>
          <p:spPr>
            <a:xfrm>
              <a:off x="2301120" y="358128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09680" y="3853440"/>
              <a:ext cx="457200" cy="1087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371600" y="2514600"/>
            <a:ext cx="457200" cy="380880"/>
            <a:chOff x="1371600" y="2514600"/>
            <a:chExt cx="457200" cy="380880"/>
          </a:xfrm>
        </p:grpSpPr>
        <p:sp>
          <p:nvSpPr>
            <p:cNvPr id="528" name=""/>
            <p:cNvSpPr/>
            <p:nvPr/>
          </p:nvSpPr>
          <p:spPr>
            <a:xfrm>
              <a:off x="1463040" y="25146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71600" y="2786760"/>
              <a:ext cx="457200" cy="1087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371600" y="3048120"/>
            <a:ext cx="457200" cy="380880"/>
            <a:chOff x="1371600" y="3048120"/>
            <a:chExt cx="457200" cy="380880"/>
          </a:xfrm>
        </p:grpSpPr>
        <p:sp>
          <p:nvSpPr>
            <p:cNvPr id="531" name=""/>
            <p:cNvSpPr/>
            <p:nvPr/>
          </p:nvSpPr>
          <p:spPr>
            <a:xfrm>
              <a:off x="1463040" y="3048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1600" y="3320280"/>
              <a:ext cx="457200" cy="10872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71600" y="3581280"/>
            <a:ext cx="457200" cy="380880"/>
            <a:chOff x="1371600" y="3581280"/>
            <a:chExt cx="457200" cy="380880"/>
          </a:xfrm>
        </p:grpSpPr>
        <p:sp>
          <p:nvSpPr>
            <p:cNvPr id="534" name=""/>
            <p:cNvSpPr/>
            <p:nvPr/>
          </p:nvSpPr>
          <p:spPr>
            <a:xfrm>
              <a:off x="1463040" y="358128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71600" y="3853440"/>
              <a:ext cx="457200" cy="10872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715000" y="2514600"/>
            <a:ext cx="457200" cy="380880"/>
            <a:chOff x="5715000" y="2514600"/>
            <a:chExt cx="457200" cy="380880"/>
          </a:xfrm>
        </p:grpSpPr>
        <p:sp>
          <p:nvSpPr>
            <p:cNvPr id="537" name=""/>
            <p:cNvSpPr/>
            <p:nvPr/>
          </p:nvSpPr>
          <p:spPr>
            <a:xfrm>
              <a:off x="5806440" y="25146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15000" y="2786760"/>
              <a:ext cx="457200" cy="1087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324480" y="4343400"/>
            <a:ext cx="457200" cy="380880"/>
            <a:chOff x="6324480" y="4343400"/>
            <a:chExt cx="457200" cy="380880"/>
          </a:xfrm>
        </p:grpSpPr>
        <p:sp>
          <p:nvSpPr>
            <p:cNvPr id="540" name=""/>
            <p:cNvSpPr/>
            <p:nvPr/>
          </p:nvSpPr>
          <p:spPr>
            <a:xfrm>
              <a:off x="6415920" y="43434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24480" y="4615560"/>
              <a:ext cx="457200" cy="10872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715000" y="3048120"/>
            <a:ext cx="457200" cy="380880"/>
            <a:chOff x="5715000" y="3048120"/>
            <a:chExt cx="457200" cy="380880"/>
          </a:xfrm>
        </p:grpSpPr>
        <p:sp>
          <p:nvSpPr>
            <p:cNvPr id="543" name=""/>
            <p:cNvSpPr/>
            <p:nvPr/>
          </p:nvSpPr>
          <p:spPr>
            <a:xfrm>
              <a:off x="5806440" y="3048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15000" y="3320280"/>
              <a:ext cx="457200" cy="10872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715000" y="3581280"/>
            <a:ext cx="457200" cy="380880"/>
            <a:chOff x="5715000" y="3581280"/>
            <a:chExt cx="457200" cy="380880"/>
          </a:xfrm>
        </p:grpSpPr>
        <p:sp>
          <p:nvSpPr>
            <p:cNvPr id="546" name=""/>
            <p:cNvSpPr/>
            <p:nvPr/>
          </p:nvSpPr>
          <p:spPr>
            <a:xfrm>
              <a:off x="5806440" y="358128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15000" y="3853440"/>
              <a:ext cx="457200" cy="10872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324480" y="3048120"/>
            <a:ext cx="457200" cy="380880"/>
            <a:chOff x="6324480" y="3048120"/>
            <a:chExt cx="457200" cy="380880"/>
          </a:xfrm>
        </p:grpSpPr>
        <p:sp>
          <p:nvSpPr>
            <p:cNvPr id="549" name=""/>
            <p:cNvSpPr/>
            <p:nvPr/>
          </p:nvSpPr>
          <p:spPr>
            <a:xfrm>
              <a:off x="6415920" y="3048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4480" y="3320280"/>
              <a:ext cx="457200" cy="10872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324480" y="3581280"/>
            <a:ext cx="457200" cy="380880"/>
            <a:chOff x="6324480" y="3581280"/>
            <a:chExt cx="457200" cy="380880"/>
          </a:xfrm>
        </p:grpSpPr>
        <p:sp>
          <p:nvSpPr>
            <p:cNvPr id="552" name=""/>
            <p:cNvSpPr/>
            <p:nvPr/>
          </p:nvSpPr>
          <p:spPr>
            <a:xfrm>
              <a:off x="6415920" y="358128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3853440"/>
              <a:ext cx="457200" cy="1087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029200" y="2514600"/>
            <a:ext cx="457200" cy="380880"/>
            <a:chOff x="5029200" y="2514600"/>
            <a:chExt cx="457200" cy="380880"/>
          </a:xfrm>
        </p:grpSpPr>
        <p:sp>
          <p:nvSpPr>
            <p:cNvPr id="555" name=""/>
            <p:cNvSpPr/>
            <p:nvPr/>
          </p:nvSpPr>
          <p:spPr>
            <a:xfrm>
              <a:off x="5120640" y="25146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29200" y="2786760"/>
              <a:ext cx="457200" cy="10872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029200" y="3048120"/>
            <a:ext cx="457200" cy="380880"/>
            <a:chOff x="5029200" y="3048120"/>
            <a:chExt cx="457200" cy="380880"/>
          </a:xfrm>
        </p:grpSpPr>
        <p:sp>
          <p:nvSpPr>
            <p:cNvPr id="558" name=""/>
            <p:cNvSpPr/>
            <p:nvPr/>
          </p:nvSpPr>
          <p:spPr>
            <a:xfrm>
              <a:off x="5120640" y="3048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29200" y="3320280"/>
              <a:ext cx="457200" cy="10872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029200" y="3581280"/>
            <a:ext cx="457200" cy="380880"/>
            <a:chOff x="5029200" y="3581280"/>
            <a:chExt cx="457200" cy="380880"/>
          </a:xfrm>
        </p:grpSpPr>
        <p:sp>
          <p:nvSpPr>
            <p:cNvPr id="561" name=""/>
            <p:cNvSpPr/>
            <p:nvPr/>
          </p:nvSpPr>
          <p:spPr>
            <a:xfrm>
              <a:off x="5120640" y="358128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3853440"/>
              <a:ext cx="457200" cy="10872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191120" y="2514600"/>
            <a:ext cx="457200" cy="380880"/>
            <a:chOff x="4191120" y="2514600"/>
            <a:chExt cx="457200" cy="380880"/>
          </a:xfrm>
        </p:grpSpPr>
        <p:sp>
          <p:nvSpPr>
            <p:cNvPr id="564" name=""/>
            <p:cNvSpPr/>
            <p:nvPr/>
          </p:nvSpPr>
          <p:spPr>
            <a:xfrm>
              <a:off x="4282560" y="25146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2786760"/>
              <a:ext cx="457200" cy="10872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191120" y="3048120"/>
            <a:ext cx="457200" cy="380880"/>
            <a:chOff x="4191120" y="3048120"/>
            <a:chExt cx="457200" cy="380880"/>
          </a:xfrm>
        </p:grpSpPr>
        <p:sp>
          <p:nvSpPr>
            <p:cNvPr id="567" name=""/>
            <p:cNvSpPr/>
            <p:nvPr/>
          </p:nvSpPr>
          <p:spPr>
            <a:xfrm>
              <a:off x="4282560" y="304812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49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91120" y="3320280"/>
              <a:ext cx="457200" cy="10872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191120" y="3581280"/>
            <a:ext cx="457200" cy="380880"/>
            <a:chOff x="4191120" y="3581280"/>
            <a:chExt cx="457200" cy="380880"/>
          </a:xfrm>
        </p:grpSpPr>
        <p:sp>
          <p:nvSpPr>
            <p:cNvPr id="570" name=""/>
            <p:cNvSpPr/>
            <p:nvPr/>
          </p:nvSpPr>
          <p:spPr>
            <a:xfrm>
              <a:off x="4282560" y="358128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51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91120" y="3853440"/>
              <a:ext cx="457200" cy="10872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715000" y="4343400"/>
            <a:ext cx="457200" cy="380880"/>
            <a:chOff x="5715000" y="4343400"/>
            <a:chExt cx="457200" cy="380880"/>
          </a:xfrm>
        </p:grpSpPr>
        <p:sp>
          <p:nvSpPr>
            <p:cNvPr id="573" name=""/>
            <p:cNvSpPr/>
            <p:nvPr/>
          </p:nvSpPr>
          <p:spPr>
            <a:xfrm>
              <a:off x="5806440" y="43434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53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715000" y="4615560"/>
              <a:ext cx="457200" cy="10872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029200" y="4343400"/>
            <a:ext cx="457200" cy="380880"/>
            <a:chOff x="5029200" y="4343400"/>
            <a:chExt cx="457200" cy="380880"/>
          </a:xfrm>
        </p:grpSpPr>
        <p:sp>
          <p:nvSpPr>
            <p:cNvPr id="576" name=""/>
            <p:cNvSpPr/>
            <p:nvPr/>
          </p:nvSpPr>
          <p:spPr>
            <a:xfrm>
              <a:off x="5120640" y="4343400"/>
              <a:ext cx="274320" cy="272160"/>
            </a:xfrm>
            <a:prstGeom prst="bevel">
              <a:avLst>
                <a:gd name="adj" fmla="val 12500"/>
              </a:avLst>
            </a:prstGeom>
            <a:blipFill rotWithShape="0">
              <a:blip r:embed="rId5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4615560"/>
              <a:ext cx="457200" cy="10872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895480" y="2514600"/>
            <a:ext cx="457200" cy="380880"/>
            <a:chOff x="2895480" y="2514600"/>
            <a:chExt cx="457200" cy="380880"/>
          </a:xfrm>
        </p:grpSpPr>
        <p:sp>
          <p:nvSpPr>
            <p:cNvPr id="579" name=""/>
            <p:cNvSpPr/>
            <p:nvPr/>
          </p:nvSpPr>
          <p:spPr>
            <a:xfrm>
              <a:off x="2986920" y="2514600"/>
              <a:ext cx="274320" cy="27216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95480" y="2786760"/>
              <a:ext cx="457200" cy="10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191120" y="3048120"/>
            <a:ext cx="457200" cy="380880"/>
            <a:chOff x="4191120" y="3048120"/>
            <a:chExt cx="457200" cy="380880"/>
          </a:xfrm>
        </p:grpSpPr>
        <p:sp>
          <p:nvSpPr>
            <p:cNvPr id="582" name=""/>
            <p:cNvSpPr/>
            <p:nvPr/>
          </p:nvSpPr>
          <p:spPr>
            <a:xfrm>
              <a:off x="4282560" y="3048120"/>
              <a:ext cx="274320" cy="27216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91120" y="3320280"/>
              <a:ext cx="457200" cy="10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15000" y="3581280"/>
            <a:ext cx="457200" cy="380880"/>
            <a:chOff x="5715000" y="3581280"/>
            <a:chExt cx="457200" cy="380880"/>
          </a:xfrm>
        </p:grpSpPr>
        <p:sp>
          <p:nvSpPr>
            <p:cNvPr id="585" name=""/>
            <p:cNvSpPr/>
            <p:nvPr/>
          </p:nvSpPr>
          <p:spPr>
            <a:xfrm>
              <a:off x="5806440" y="3581280"/>
              <a:ext cx="274320" cy="27216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15000" y="3853440"/>
              <a:ext cx="457200" cy="10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066680" y="5105520"/>
            <a:ext cx="61722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Processor: Intel Pentium III (877MHz)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Memory:   128MB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O/S: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RedHat 7.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ast Ethernet (100 Mbit/s)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589" name="sma_logo" descr=""/>
            <p:cNvPicPr/>
            <p:nvPr/>
          </p:nvPicPr>
          <p:blipFill>
            <a:blip r:embed="rId57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erformance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lu( 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2" name="lu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453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resentation outline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oject present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monstrat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102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erformance 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A*B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4" name="x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40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erformance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sin( 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6" name="sin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4008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erformance 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svd( 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8" name="svd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40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erformance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inv( 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00" name="inv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40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erformance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eig( 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02" name="eig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40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604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219320" y="2438280"/>
            <a:ext cx="28954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Environment for SMA CS 2002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2438280"/>
            <a:ext cx="28954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371600" y="2514600"/>
            <a:ext cx="5410080" cy="2209680"/>
            <a:chOff x="1371600" y="2514600"/>
            <a:chExt cx="5410080" cy="2209680"/>
          </a:xfrm>
        </p:grpSpPr>
        <p:grpSp>
          <p:nvGrpSpPr>
            <p:cNvPr id="610" name=""/>
            <p:cNvGrpSpPr/>
            <p:nvPr/>
          </p:nvGrpSpPr>
          <p:grpSpPr>
            <a:xfrm>
              <a:off x="1371600" y="4191120"/>
              <a:ext cx="457200" cy="380880"/>
              <a:chOff x="1371600" y="4191120"/>
              <a:chExt cx="457200" cy="380880"/>
            </a:xfrm>
          </p:grpSpPr>
          <p:sp>
            <p:nvSpPr>
              <p:cNvPr id="611" name=""/>
              <p:cNvSpPr/>
              <p:nvPr/>
            </p:nvSpPr>
            <p:spPr>
              <a:xfrm>
                <a:off x="1463040" y="419112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71600" y="4463280"/>
                <a:ext cx="457200" cy="108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505320" y="4191120"/>
              <a:ext cx="457200" cy="380880"/>
              <a:chOff x="3505320" y="4191120"/>
              <a:chExt cx="457200" cy="380880"/>
            </a:xfrm>
          </p:grpSpPr>
          <p:sp>
            <p:nvSpPr>
              <p:cNvPr id="614" name=""/>
              <p:cNvSpPr/>
              <p:nvPr/>
            </p:nvSpPr>
            <p:spPr>
              <a:xfrm>
                <a:off x="3596760" y="419112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505320" y="4463280"/>
                <a:ext cx="457200" cy="1087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895480" y="3048120"/>
              <a:ext cx="457200" cy="380880"/>
              <a:chOff x="2895480" y="3048120"/>
              <a:chExt cx="457200" cy="380880"/>
            </a:xfrm>
          </p:grpSpPr>
          <p:sp>
            <p:nvSpPr>
              <p:cNvPr id="617" name=""/>
              <p:cNvSpPr/>
              <p:nvPr/>
            </p:nvSpPr>
            <p:spPr>
              <a:xfrm>
                <a:off x="298692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95480" y="3320280"/>
                <a:ext cx="457200" cy="1087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895480" y="3581280"/>
              <a:ext cx="457200" cy="380880"/>
              <a:chOff x="2895480" y="3581280"/>
              <a:chExt cx="457200" cy="380880"/>
            </a:xfrm>
          </p:grpSpPr>
          <p:sp>
            <p:nvSpPr>
              <p:cNvPr id="620" name=""/>
              <p:cNvSpPr/>
              <p:nvPr/>
            </p:nvSpPr>
            <p:spPr>
              <a:xfrm>
                <a:off x="298692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95480" y="3853440"/>
                <a:ext cx="457200" cy="1087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505320" y="2514600"/>
              <a:ext cx="457200" cy="380880"/>
              <a:chOff x="3505320" y="2514600"/>
              <a:chExt cx="457200" cy="380880"/>
            </a:xfrm>
          </p:grpSpPr>
          <p:sp>
            <p:nvSpPr>
              <p:cNvPr id="623" name=""/>
              <p:cNvSpPr/>
              <p:nvPr/>
            </p:nvSpPr>
            <p:spPr>
              <a:xfrm>
                <a:off x="359676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505320" y="2786760"/>
                <a:ext cx="457200" cy="1087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505320" y="3048120"/>
              <a:ext cx="457200" cy="380880"/>
              <a:chOff x="3505320" y="3048120"/>
              <a:chExt cx="457200" cy="380880"/>
            </a:xfrm>
          </p:grpSpPr>
          <p:sp>
            <p:nvSpPr>
              <p:cNvPr id="626" name=""/>
              <p:cNvSpPr/>
              <p:nvPr/>
            </p:nvSpPr>
            <p:spPr>
              <a:xfrm>
                <a:off x="359676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505320" y="3320280"/>
                <a:ext cx="457200" cy="1087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3505320" y="3581280"/>
              <a:ext cx="457200" cy="380880"/>
              <a:chOff x="3505320" y="3581280"/>
              <a:chExt cx="457200" cy="380880"/>
            </a:xfrm>
          </p:grpSpPr>
          <p:sp>
            <p:nvSpPr>
              <p:cNvPr id="629" name=""/>
              <p:cNvSpPr/>
              <p:nvPr/>
            </p:nvSpPr>
            <p:spPr>
              <a:xfrm>
                <a:off x="359676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505320" y="3853440"/>
                <a:ext cx="457200" cy="1087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209680" y="2514600"/>
              <a:ext cx="457200" cy="380880"/>
              <a:chOff x="2209680" y="2514600"/>
              <a:chExt cx="457200" cy="380880"/>
            </a:xfrm>
          </p:grpSpPr>
          <p:sp>
            <p:nvSpPr>
              <p:cNvPr id="632" name=""/>
              <p:cNvSpPr/>
              <p:nvPr/>
            </p:nvSpPr>
            <p:spPr>
              <a:xfrm>
                <a:off x="230112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09680" y="2786760"/>
                <a:ext cx="457200" cy="1087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209680" y="3048120"/>
              <a:ext cx="457200" cy="380880"/>
              <a:chOff x="2209680" y="3048120"/>
              <a:chExt cx="457200" cy="380880"/>
            </a:xfrm>
          </p:grpSpPr>
          <p:sp>
            <p:nvSpPr>
              <p:cNvPr id="635" name=""/>
              <p:cNvSpPr/>
              <p:nvPr/>
            </p:nvSpPr>
            <p:spPr>
              <a:xfrm>
                <a:off x="230112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09680" y="3320280"/>
                <a:ext cx="457200" cy="1087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09680" y="3581280"/>
              <a:ext cx="457200" cy="380880"/>
              <a:chOff x="2209680" y="3581280"/>
              <a:chExt cx="457200" cy="380880"/>
            </a:xfrm>
          </p:grpSpPr>
          <p:sp>
            <p:nvSpPr>
              <p:cNvPr id="638" name=""/>
              <p:cNvSpPr/>
              <p:nvPr/>
            </p:nvSpPr>
            <p:spPr>
              <a:xfrm>
                <a:off x="230112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209680" y="3853440"/>
                <a:ext cx="457200" cy="1087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371600" y="2514600"/>
              <a:ext cx="457200" cy="380880"/>
              <a:chOff x="1371600" y="2514600"/>
              <a:chExt cx="457200" cy="380880"/>
            </a:xfrm>
          </p:grpSpPr>
          <p:sp>
            <p:nvSpPr>
              <p:cNvPr id="641" name=""/>
              <p:cNvSpPr/>
              <p:nvPr/>
            </p:nvSpPr>
            <p:spPr>
              <a:xfrm>
                <a:off x="146304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71600" y="2786760"/>
                <a:ext cx="457200" cy="10872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1371600" y="3048120"/>
              <a:ext cx="457200" cy="380880"/>
              <a:chOff x="1371600" y="3048120"/>
              <a:chExt cx="457200" cy="380880"/>
            </a:xfrm>
          </p:grpSpPr>
          <p:sp>
            <p:nvSpPr>
              <p:cNvPr id="644" name=""/>
              <p:cNvSpPr/>
              <p:nvPr/>
            </p:nvSpPr>
            <p:spPr>
              <a:xfrm>
                <a:off x="146304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71600" y="3320280"/>
                <a:ext cx="457200" cy="10872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1371600" y="3581280"/>
              <a:ext cx="457200" cy="380880"/>
              <a:chOff x="1371600" y="3581280"/>
              <a:chExt cx="457200" cy="380880"/>
            </a:xfrm>
          </p:grpSpPr>
          <p:sp>
            <p:nvSpPr>
              <p:cNvPr id="647" name=""/>
              <p:cNvSpPr/>
              <p:nvPr/>
            </p:nvSpPr>
            <p:spPr>
              <a:xfrm>
                <a:off x="146304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71600" y="3853440"/>
                <a:ext cx="457200" cy="10872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715000" y="2514600"/>
              <a:ext cx="457200" cy="380880"/>
              <a:chOff x="5715000" y="2514600"/>
              <a:chExt cx="457200" cy="380880"/>
            </a:xfrm>
          </p:grpSpPr>
          <p:sp>
            <p:nvSpPr>
              <p:cNvPr id="650" name=""/>
              <p:cNvSpPr/>
              <p:nvPr/>
            </p:nvSpPr>
            <p:spPr>
              <a:xfrm>
                <a:off x="580644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715000" y="2786760"/>
                <a:ext cx="457200" cy="10872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324480" y="4343400"/>
              <a:ext cx="457200" cy="380880"/>
              <a:chOff x="6324480" y="4343400"/>
              <a:chExt cx="457200" cy="380880"/>
            </a:xfrm>
          </p:grpSpPr>
          <p:sp>
            <p:nvSpPr>
              <p:cNvPr id="653" name=""/>
              <p:cNvSpPr/>
              <p:nvPr/>
            </p:nvSpPr>
            <p:spPr>
              <a:xfrm>
                <a:off x="6415920" y="434340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24480" y="4615560"/>
                <a:ext cx="457200" cy="1087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5715000" y="3048120"/>
              <a:ext cx="457200" cy="380880"/>
              <a:chOff x="5715000" y="3048120"/>
              <a:chExt cx="457200" cy="380880"/>
            </a:xfrm>
          </p:grpSpPr>
          <p:sp>
            <p:nvSpPr>
              <p:cNvPr id="656" name=""/>
              <p:cNvSpPr/>
              <p:nvPr/>
            </p:nvSpPr>
            <p:spPr>
              <a:xfrm>
                <a:off x="580644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715000" y="3320280"/>
                <a:ext cx="457200" cy="1087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324480" y="3048120"/>
              <a:ext cx="457200" cy="380880"/>
              <a:chOff x="6324480" y="3048120"/>
              <a:chExt cx="457200" cy="380880"/>
            </a:xfrm>
          </p:grpSpPr>
          <p:sp>
            <p:nvSpPr>
              <p:cNvPr id="659" name=""/>
              <p:cNvSpPr/>
              <p:nvPr/>
            </p:nvSpPr>
            <p:spPr>
              <a:xfrm>
                <a:off x="641592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24480" y="3320280"/>
                <a:ext cx="457200" cy="10872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6324480" y="3581280"/>
              <a:ext cx="457200" cy="380880"/>
              <a:chOff x="6324480" y="3581280"/>
              <a:chExt cx="457200" cy="380880"/>
            </a:xfrm>
          </p:grpSpPr>
          <p:sp>
            <p:nvSpPr>
              <p:cNvPr id="662" name=""/>
              <p:cNvSpPr/>
              <p:nvPr/>
            </p:nvSpPr>
            <p:spPr>
              <a:xfrm>
                <a:off x="641592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24480" y="3853440"/>
                <a:ext cx="457200" cy="10872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5029200" y="2514600"/>
              <a:ext cx="457200" cy="380880"/>
              <a:chOff x="5029200" y="2514600"/>
              <a:chExt cx="457200" cy="380880"/>
            </a:xfrm>
          </p:grpSpPr>
          <p:sp>
            <p:nvSpPr>
              <p:cNvPr id="665" name=""/>
              <p:cNvSpPr/>
              <p:nvPr/>
            </p:nvSpPr>
            <p:spPr>
              <a:xfrm>
                <a:off x="512064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029200" y="2786760"/>
                <a:ext cx="457200" cy="10872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029200" y="3048120"/>
              <a:ext cx="457200" cy="380880"/>
              <a:chOff x="5029200" y="3048120"/>
              <a:chExt cx="457200" cy="380880"/>
            </a:xfrm>
          </p:grpSpPr>
          <p:sp>
            <p:nvSpPr>
              <p:cNvPr id="668" name=""/>
              <p:cNvSpPr/>
              <p:nvPr/>
            </p:nvSpPr>
            <p:spPr>
              <a:xfrm>
                <a:off x="512064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29200" y="3320280"/>
                <a:ext cx="457200" cy="10872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5029200" y="3581280"/>
              <a:ext cx="457200" cy="380880"/>
              <a:chOff x="5029200" y="3581280"/>
              <a:chExt cx="457200" cy="380880"/>
            </a:xfrm>
          </p:grpSpPr>
          <p:sp>
            <p:nvSpPr>
              <p:cNvPr id="671" name=""/>
              <p:cNvSpPr/>
              <p:nvPr/>
            </p:nvSpPr>
            <p:spPr>
              <a:xfrm>
                <a:off x="512064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029200" y="3853440"/>
                <a:ext cx="457200" cy="10872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191120" y="2514600"/>
              <a:ext cx="457200" cy="380880"/>
              <a:chOff x="4191120" y="2514600"/>
              <a:chExt cx="457200" cy="380880"/>
            </a:xfrm>
          </p:grpSpPr>
          <p:sp>
            <p:nvSpPr>
              <p:cNvPr id="674" name=""/>
              <p:cNvSpPr/>
              <p:nvPr/>
            </p:nvSpPr>
            <p:spPr>
              <a:xfrm>
                <a:off x="428256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191120" y="2786760"/>
                <a:ext cx="457200" cy="10872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191120" y="3581280"/>
              <a:ext cx="457200" cy="380880"/>
              <a:chOff x="4191120" y="3581280"/>
              <a:chExt cx="457200" cy="380880"/>
            </a:xfrm>
          </p:grpSpPr>
          <p:sp>
            <p:nvSpPr>
              <p:cNvPr id="677" name=""/>
              <p:cNvSpPr/>
              <p:nvPr/>
            </p:nvSpPr>
            <p:spPr>
              <a:xfrm>
                <a:off x="428256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91120" y="3853440"/>
                <a:ext cx="457200" cy="1087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5715000" y="4343400"/>
              <a:ext cx="457200" cy="380880"/>
              <a:chOff x="5715000" y="4343400"/>
              <a:chExt cx="457200" cy="380880"/>
            </a:xfrm>
          </p:grpSpPr>
          <p:sp>
            <p:nvSpPr>
              <p:cNvPr id="680" name=""/>
              <p:cNvSpPr/>
              <p:nvPr/>
            </p:nvSpPr>
            <p:spPr>
              <a:xfrm>
                <a:off x="5806440" y="434340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15000" y="4615560"/>
                <a:ext cx="457200" cy="1087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29200" y="4343400"/>
              <a:ext cx="457200" cy="380880"/>
              <a:chOff x="5029200" y="4343400"/>
              <a:chExt cx="457200" cy="380880"/>
            </a:xfrm>
          </p:grpSpPr>
          <p:sp>
            <p:nvSpPr>
              <p:cNvPr id="683" name=""/>
              <p:cNvSpPr/>
              <p:nvPr/>
            </p:nvSpPr>
            <p:spPr>
              <a:xfrm>
                <a:off x="5120640" y="4343400"/>
                <a:ext cx="274320" cy="27216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29200" y="4615560"/>
                <a:ext cx="457200" cy="10872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895480" y="2514600"/>
              <a:ext cx="457200" cy="380880"/>
              <a:chOff x="2895480" y="2514600"/>
              <a:chExt cx="457200" cy="380880"/>
            </a:xfrm>
          </p:grpSpPr>
          <p:sp>
            <p:nvSpPr>
              <p:cNvPr id="686" name=""/>
              <p:cNvSpPr/>
              <p:nvPr/>
            </p:nvSpPr>
            <p:spPr>
              <a:xfrm>
                <a:off x="298692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895480" y="27867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4191120" y="3048120"/>
              <a:ext cx="457200" cy="380880"/>
              <a:chOff x="4191120" y="3048120"/>
              <a:chExt cx="457200" cy="380880"/>
            </a:xfrm>
          </p:grpSpPr>
          <p:sp>
            <p:nvSpPr>
              <p:cNvPr id="689" name=""/>
              <p:cNvSpPr/>
              <p:nvPr/>
            </p:nvSpPr>
            <p:spPr>
              <a:xfrm>
                <a:off x="428256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191120" y="3320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5715000" y="3581280"/>
              <a:ext cx="457200" cy="380880"/>
              <a:chOff x="5715000" y="3581280"/>
              <a:chExt cx="457200" cy="380880"/>
            </a:xfrm>
          </p:grpSpPr>
          <p:sp>
            <p:nvSpPr>
              <p:cNvPr id="692" name=""/>
              <p:cNvSpPr/>
              <p:nvPr/>
            </p:nvSpPr>
            <p:spPr>
              <a:xfrm>
                <a:off x="580644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15000" y="385344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"/>
          <p:cNvGrpSpPr/>
          <p:nvPr/>
        </p:nvGrpSpPr>
        <p:grpSpPr>
          <a:xfrm>
            <a:off x="1371600" y="2514600"/>
            <a:ext cx="5410080" cy="2209680"/>
            <a:chOff x="1371600" y="2514600"/>
            <a:chExt cx="5410080" cy="2209680"/>
          </a:xfrm>
        </p:grpSpPr>
        <p:grpSp>
          <p:nvGrpSpPr>
            <p:cNvPr id="695" name=""/>
            <p:cNvGrpSpPr/>
            <p:nvPr/>
          </p:nvGrpSpPr>
          <p:grpSpPr>
            <a:xfrm>
              <a:off x="1371600" y="2514600"/>
              <a:ext cx="457200" cy="380880"/>
              <a:chOff x="1371600" y="2514600"/>
              <a:chExt cx="457200" cy="380880"/>
            </a:xfrm>
          </p:grpSpPr>
          <p:sp>
            <p:nvSpPr>
              <p:cNvPr id="696" name=""/>
              <p:cNvSpPr/>
              <p:nvPr/>
            </p:nvSpPr>
            <p:spPr>
              <a:xfrm>
                <a:off x="146304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71600" y="27867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2209680" y="2514600"/>
              <a:ext cx="457200" cy="380880"/>
              <a:chOff x="2209680" y="2514600"/>
              <a:chExt cx="457200" cy="380880"/>
            </a:xfrm>
          </p:grpSpPr>
          <p:sp>
            <p:nvSpPr>
              <p:cNvPr id="699" name=""/>
              <p:cNvSpPr/>
              <p:nvPr/>
            </p:nvSpPr>
            <p:spPr>
              <a:xfrm>
                <a:off x="230112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209680" y="27867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505320" y="2514600"/>
              <a:ext cx="457200" cy="380880"/>
              <a:chOff x="3505320" y="2514600"/>
              <a:chExt cx="457200" cy="380880"/>
            </a:xfrm>
          </p:grpSpPr>
          <p:sp>
            <p:nvSpPr>
              <p:cNvPr id="702" name=""/>
              <p:cNvSpPr/>
              <p:nvPr/>
            </p:nvSpPr>
            <p:spPr>
              <a:xfrm>
                <a:off x="359676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505320" y="27867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371600" y="3048120"/>
              <a:ext cx="457200" cy="380880"/>
              <a:chOff x="1371600" y="3048120"/>
              <a:chExt cx="457200" cy="380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46304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71600" y="3320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1371600" y="3581280"/>
              <a:ext cx="457200" cy="380880"/>
              <a:chOff x="1371600" y="3581280"/>
              <a:chExt cx="457200" cy="380880"/>
            </a:xfrm>
          </p:grpSpPr>
          <p:sp>
            <p:nvSpPr>
              <p:cNvPr id="708" name=""/>
              <p:cNvSpPr/>
              <p:nvPr/>
            </p:nvSpPr>
            <p:spPr>
              <a:xfrm>
                <a:off x="146304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71600" y="385344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371600" y="4191120"/>
              <a:ext cx="457200" cy="380880"/>
              <a:chOff x="1371600" y="4191120"/>
              <a:chExt cx="457200" cy="380880"/>
            </a:xfrm>
          </p:grpSpPr>
          <p:sp>
            <p:nvSpPr>
              <p:cNvPr id="711" name=""/>
              <p:cNvSpPr/>
              <p:nvPr/>
            </p:nvSpPr>
            <p:spPr>
              <a:xfrm>
                <a:off x="1463040" y="4191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71600" y="4463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2895480" y="3048120"/>
              <a:ext cx="457200" cy="380880"/>
              <a:chOff x="2895480" y="3048120"/>
              <a:chExt cx="457200" cy="380880"/>
            </a:xfrm>
          </p:grpSpPr>
          <p:sp>
            <p:nvSpPr>
              <p:cNvPr id="714" name=""/>
              <p:cNvSpPr/>
              <p:nvPr/>
            </p:nvSpPr>
            <p:spPr>
              <a:xfrm>
                <a:off x="298692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895480" y="3320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3505320" y="3048120"/>
              <a:ext cx="457200" cy="380880"/>
              <a:chOff x="3505320" y="3048120"/>
              <a:chExt cx="457200" cy="380880"/>
            </a:xfrm>
          </p:grpSpPr>
          <p:sp>
            <p:nvSpPr>
              <p:cNvPr id="717" name=""/>
              <p:cNvSpPr/>
              <p:nvPr/>
            </p:nvSpPr>
            <p:spPr>
              <a:xfrm>
                <a:off x="359676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505320" y="3320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4191120" y="3581280"/>
              <a:ext cx="457200" cy="380880"/>
              <a:chOff x="4191120" y="3581280"/>
              <a:chExt cx="457200" cy="380880"/>
            </a:xfrm>
          </p:grpSpPr>
          <p:sp>
            <p:nvSpPr>
              <p:cNvPr id="720" name=""/>
              <p:cNvSpPr/>
              <p:nvPr/>
            </p:nvSpPr>
            <p:spPr>
              <a:xfrm>
                <a:off x="428256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91120" y="385344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5029200" y="2514600"/>
              <a:ext cx="457200" cy="380880"/>
              <a:chOff x="5029200" y="2514600"/>
              <a:chExt cx="457200" cy="380880"/>
            </a:xfrm>
          </p:grpSpPr>
          <p:sp>
            <p:nvSpPr>
              <p:cNvPr id="723" name=""/>
              <p:cNvSpPr/>
              <p:nvPr/>
            </p:nvSpPr>
            <p:spPr>
              <a:xfrm>
                <a:off x="512064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029200" y="27867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4191120" y="2514600"/>
              <a:ext cx="457200" cy="380880"/>
              <a:chOff x="4191120" y="2514600"/>
              <a:chExt cx="457200" cy="380880"/>
            </a:xfrm>
          </p:grpSpPr>
          <p:sp>
            <p:nvSpPr>
              <p:cNvPr id="726" name=""/>
              <p:cNvSpPr/>
              <p:nvPr/>
            </p:nvSpPr>
            <p:spPr>
              <a:xfrm>
                <a:off x="428256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91120" y="27867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5715000" y="2514600"/>
              <a:ext cx="457200" cy="380880"/>
              <a:chOff x="5715000" y="2514600"/>
              <a:chExt cx="457200" cy="380880"/>
            </a:xfrm>
          </p:grpSpPr>
          <p:sp>
            <p:nvSpPr>
              <p:cNvPr id="729" name=""/>
              <p:cNvSpPr/>
              <p:nvPr/>
            </p:nvSpPr>
            <p:spPr>
              <a:xfrm>
                <a:off x="5806440" y="25146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715000" y="27867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6324480" y="3048120"/>
              <a:ext cx="457200" cy="380880"/>
              <a:chOff x="6324480" y="3048120"/>
              <a:chExt cx="457200" cy="380880"/>
            </a:xfrm>
          </p:grpSpPr>
          <p:sp>
            <p:nvSpPr>
              <p:cNvPr id="732" name=""/>
              <p:cNvSpPr/>
              <p:nvPr/>
            </p:nvSpPr>
            <p:spPr>
              <a:xfrm>
                <a:off x="641592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324480" y="3320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5715000" y="3048120"/>
              <a:ext cx="457200" cy="380880"/>
              <a:chOff x="5715000" y="3048120"/>
              <a:chExt cx="457200" cy="380880"/>
            </a:xfrm>
          </p:grpSpPr>
          <p:sp>
            <p:nvSpPr>
              <p:cNvPr id="735" name=""/>
              <p:cNvSpPr/>
              <p:nvPr/>
            </p:nvSpPr>
            <p:spPr>
              <a:xfrm>
                <a:off x="580644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715000" y="3320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5029200" y="3048120"/>
              <a:ext cx="457200" cy="380880"/>
              <a:chOff x="5029200" y="3048120"/>
              <a:chExt cx="457200" cy="380880"/>
            </a:xfrm>
          </p:grpSpPr>
          <p:sp>
            <p:nvSpPr>
              <p:cNvPr id="738" name=""/>
              <p:cNvSpPr/>
              <p:nvPr/>
            </p:nvSpPr>
            <p:spPr>
              <a:xfrm>
                <a:off x="512064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29200" y="3320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5029200" y="3581280"/>
              <a:ext cx="457200" cy="380880"/>
              <a:chOff x="5029200" y="3581280"/>
              <a:chExt cx="457200" cy="380880"/>
            </a:xfrm>
          </p:grpSpPr>
          <p:sp>
            <p:nvSpPr>
              <p:cNvPr id="741" name=""/>
              <p:cNvSpPr/>
              <p:nvPr/>
            </p:nvSpPr>
            <p:spPr>
              <a:xfrm>
                <a:off x="512064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029200" y="385344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6324480" y="3581280"/>
              <a:ext cx="457200" cy="380880"/>
              <a:chOff x="6324480" y="3581280"/>
              <a:chExt cx="457200" cy="380880"/>
            </a:xfrm>
          </p:grpSpPr>
          <p:sp>
            <p:nvSpPr>
              <p:cNvPr id="744" name=""/>
              <p:cNvSpPr/>
              <p:nvPr/>
            </p:nvSpPr>
            <p:spPr>
              <a:xfrm>
                <a:off x="641592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324480" y="385344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5029200" y="4343400"/>
              <a:ext cx="457200" cy="380880"/>
              <a:chOff x="5029200" y="4343400"/>
              <a:chExt cx="457200" cy="380880"/>
            </a:xfrm>
          </p:grpSpPr>
          <p:sp>
            <p:nvSpPr>
              <p:cNvPr id="747" name=""/>
              <p:cNvSpPr/>
              <p:nvPr/>
            </p:nvSpPr>
            <p:spPr>
              <a:xfrm>
                <a:off x="5120640" y="43434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29200" y="46155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5715000" y="4343400"/>
              <a:ext cx="457200" cy="380880"/>
              <a:chOff x="5715000" y="4343400"/>
              <a:chExt cx="457200" cy="380880"/>
            </a:xfrm>
          </p:grpSpPr>
          <p:sp>
            <p:nvSpPr>
              <p:cNvPr id="750" name=""/>
              <p:cNvSpPr/>
              <p:nvPr/>
            </p:nvSpPr>
            <p:spPr>
              <a:xfrm>
                <a:off x="5806440" y="43434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15000" y="46155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6324480" y="4343400"/>
              <a:ext cx="457200" cy="380880"/>
              <a:chOff x="6324480" y="4343400"/>
              <a:chExt cx="457200" cy="380880"/>
            </a:xfrm>
          </p:grpSpPr>
          <p:sp>
            <p:nvSpPr>
              <p:cNvPr id="753" name=""/>
              <p:cNvSpPr/>
              <p:nvPr/>
            </p:nvSpPr>
            <p:spPr>
              <a:xfrm>
                <a:off x="6415920" y="434340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24480" y="461556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2209680" y="3581280"/>
              <a:ext cx="457200" cy="380880"/>
              <a:chOff x="2209680" y="3581280"/>
              <a:chExt cx="457200" cy="380880"/>
            </a:xfrm>
          </p:grpSpPr>
          <p:sp>
            <p:nvSpPr>
              <p:cNvPr id="756" name=""/>
              <p:cNvSpPr/>
              <p:nvPr/>
            </p:nvSpPr>
            <p:spPr>
              <a:xfrm>
                <a:off x="230112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209680" y="385344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895480" y="3581280"/>
              <a:ext cx="457200" cy="380880"/>
              <a:chOff x="2895480" y="3581280"/>
              <a:chExt cx="457200" cy="380880"/>
            </a:xfrm>
          </p:grpSpPr>
          <p:sp>
            <p:nvSpPr>
              <p:cNvPr id="759" name=""/>
              <p:cNvSpPr/>
              <p:nvPr/>
            </p:nvSpPr>
            <p:spPr>
              <a:xfrm>
                <a:off x="298692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895480" y="385344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3505320" y="3581280"/>
              <a:ext cx="457200" cy="380880"/>
              <a:chOff x="3505320" y="3581280"/>
              <a:chExt cx="457200" cy="380880"/>
            </a:xfrm>
          </p:grpSpPr>
          <p:sp>
            <p:nvSpPr>
              <p:cNvPr id="762" name=""/>
              <p:cNvSpPr/>
              <p:nvPr/>
            </p:nvSpPr>
            <p:spPr>
              <a:xfrm>
                <a:off x="3596760" y="358128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505320" y="385344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3505320" y="4191120"/>
              <a:ext cx="457200" cy="380880"/>
              <a:chOff x="3505320" y="4191120"/>
              <a:chExt cx="457200" cy="380880"/>
            </a:xfrm>
          </p:grpSpPr>
          <p:sp>
            <p:nvSpPr>
              <p:cNvPr id="765" name=""/>
              <p:cNvSpPr/>
              <p:nvPr/>
            </p:nvSpPr>
            <p:spPr>
              <a:xfrm>
                <a:off x="3596760" y="4191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05320" y="4463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2209680" y="3048120"/>
              <a:ext cx="457200" cy="380880"/>
              <a:chOff x="2209680" y="3048120"/>
              <a:chExt cx="457200" cy="380880"/>
            </a:xfrm>
          </p:grpSpPr>
          <p:sp>
            <p:nvSpPr>
              <p:cNvPr id="768" name=""/>
              <p:cNvSpPr/>
              <p:nvPr/>
            </p:nvSpPr>
            <p:spPr>
              <a:xfrm>
                <a:off x="2301120" y="3048120"/>
                <a:ext cx="274320" cy="272160"/>
              </a:xfrm>
              <a:prstGeom prst="bevel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09680" y="3320280"/>
                <a:ext cx="457200" cy="10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1295280" y="48769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nux ,Solar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Globus Toolkit for Windows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1828800" y="609480"/>
            <a:ext cx="6629400" cy="5564880"/>
            <a:chOff x="1828800" y="609480"/>
            <a:chExt cx="6629400" cy="5564880"/>
          </a:xfrm>
        </p:grpSpPr>
        <p:pic>
          <p:nvPicPr>
            <p:cNvPr id="772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60948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828800" y="586728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Future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143000" y="2286000"/>
            <a:ext cx="6400800" cy="3108240"/>
            <a:chOff x="1143000" y="2286000"/>
            <a:chExt cx="6400800" cy="3108240"/>
          </a:xfrm>
        </p:grpSpPr>
        <p:pic>
          <p:nvPicPr>
            <p:cNvPr id="776" name="landdata" descr=""/>
            <p:cNvPicPr/>
            <p:nvPr/>
          </p:nvPicPr>
          <p:blipFill>
            <a:blip r:embed="rId2"/>
            <a:stretch/>
          </p:blipFill>
          <p:spPr>
            <a:xfrm>
              <a:off x="1143000" y="2286000"/>
              <a:ext cx="640080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 flipH="1" flipV="1">
              <a:off x="2912760" y="3047400"/>
              <a:ext cx="326844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2913120" y="2818800"/>
              <a:ext cx="156600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79480" y="2819160"/>
              <a:ext cx="1702440" cy="99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181920" y="3123720"/>
              <a:ext cx="27216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54440" y="3124080"/>
              <a:ext cx="54432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13120" y="3047760"/>
              <a:ext cx="1770120" cy="144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300400" y="3047760"/>
              <a:ext cx="612720" cy="76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479480" y="2819160"/>
              <a:ext cx="156636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45840" y="3200400"/>
              <a:ext cx="13608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00400" y="3124080"/>
              <a:ext cx="816840" cy="1523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752480" y="5562720"/>
            <a:ext cx="304920" cy="228600"/>
            <a:chOff x="1752480" y="5562720"/>
            <a:chExt cx="304920" cy="228600"/>
          </a:xfrm>
        </p:grpSpPr>
        <p:sp>
          <p:nvSpPr>
            <p:cNvPr id="788" name=""/>
            <p:cNvSpPr/>
            <p:nvPr/>
          </p:nvSpPr>
          <p:spPr>
            <a:xfrm>
              <a:off x="1813320" y="5562720"/>
              <a:ext cx="182880" cy="16344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52480" y="5726160"/>
              <a:ext cx="304920" cy="65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2590920" y="5334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09680" y="5486400"/>
            <a:ext cx="3581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A=randn(1M*p,1M*p);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tic,B=eig(A);toc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elapsed_time =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Outline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oals of the projec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ckground:Matlab*P, Globus and MPICH-G2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tlab*P overview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we have d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Discussion and conclus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795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Observed problem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ottleneck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Bandwidth and network latenc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entralised server in P.P.Server model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calabilit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ad balanc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Geographical distribution (important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0">
              <a:spcBef>
                <a:spcPts val="575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800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Conclusion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uster and the Gri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Different environment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Porting is easy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Difficult to maintain efficienc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805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105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roject Presentation Outline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oals of the projec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ckground:Matlab*P, Globus and MPICH-G2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tlab*P overview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we have d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iscussion and conclus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Further work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timisation techniqu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ompressi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rid-aware Matlab*P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DS (Meta Directory Services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ugges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Hierarchy of PPHOST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810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Bibliography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5000"/>
          </a:bodyPr>
          <a:p>
            <a:pPr marL="307800" indent="-30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e Parallel Problems Server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 Client-Server Model for Interactive Large Scale Scientific Computation. In Proc. VECPAR98, 1998. 7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rry Husbands and Charles Isbe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Interactive Supercomputing with MIT Matla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rry Husbands, Charles Isbell and Alan Edel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A Grid-enabled MPI: Message Passing in Heterogeneous Distributed Computing Syste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an Foster and Nicholas T. Karoni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815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Acknowledgement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of. Alan Edelman and Prof. Hsu Wen J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on Choy and Wang Hao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lobus discussion lis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820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Q &amp; A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4" name="globusLogoNoSwoosh" descr=""/>
          <p:cNvPicPr/>
          <p:nvPr/>
        </p:nvPicPr>
        <p:blipFill>
          <a:blip r:embed="rId1"/>
          <a:stretch/>
        </p:blipFill>
        <p:spPr>
          <a:xfrm>
            <a:off x="1066680" y="4989600"/>
            <a:ext cx="4572000" cy="1311120"/>
          </a:xfrm>
          <a:prstGeom prst="rect">
            <a:avLst/>
          </a:prstGeom>
          <a:ln w="0">
            <a:noFill/>
          </a:ln>
        </p:spPr>
      </p:pic>
      <p:grpSp>
        <p:nvGrpSpPr>
          <p:cNvPr id="825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826" name="sma_logo" descr=""/>
            <p:cNvPicPr/>
            <p:nvPr/>
          </p:nvPicPr>
          <p:blipFill>
            <a:blip r:embed="rId2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Goals of the project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t up a Grid infrastructure using Globu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stall Matlab*P on top of this infrastructu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btain performance benchmarks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orise and discuss (Identify bottleneck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112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3400" spc="-1" strike="noStrike">
                <a:solidFill>
                  <a:srgbClr val="ff6600"/>
                </a:solidFill>
                <a:latin typeface="Arial"/>
              </a:rPr>
              <a:t>Background: Matlab*P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itiative for better UI to supercomput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mploys the Parallel Problem Server technolog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PI Backe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267080"/>
            <a:ext cx="1371600" cy="7621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atlab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64832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038480"/>
            <a:ext cx="1981080" cy="10670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rallel Proble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50292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5486400"/>
            <a:ext cx="2362320" cy="7621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atlab*P Classes &amp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122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561440" cy="1079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3400" spc="-1" strike="noStrike">
                <a:solidFill>
                  <a:srgbClr val="ff6600"/>
                </a:solidFill>
                <a:latin typeface="Arial"/>
              </a:rPr>
              <a:t>Background:Globu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63280" y="2232000"/>
            <a:ext cx="7561080" cy="3527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rid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infrastructur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oordinated resource sharing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Geographically distributed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01640" indent="-27000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Inter-(network domain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57200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irtual Organisations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128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561440" cy="1079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3400" spc="-1" strike="noStrike">
                <a:solidFill>
                  <a:srgbClr val="ff6600"/>
                </a:solidFill>
                <a:latin typeface="Arial"/>
              </a:rPr>
              <a:t>Background:Globus -- V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4114800"/>
            <a:ext cx="2819160" cy="22096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514600"/>
            <a:ext cx="2514600" cy="17524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4724280"/>
            <a:ext cx="2057400" cy="1447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819520" y="4267080"/>
            <a:ext cx="609480" cy="456840"/>
            <a:chOff x="2819520" y="4267080"/>
            <a:chExt cx="609480" cy="456840"/>
          </a:xfrm>
        </p:grpSpPr>
        <p:sp>
          <p:nvSpPr>
            <p:cNvPr id="135" name=""/>
            <p:cNvSpPr/>
            <p:nvPr/>
          </p:nvSpPr>
          <p:spPr>
            <a:xfrm>
              <a:off x="2941560" y="4267080"/>
              <a:ext cx="365400" cy="326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19520" y="4593600"/>
              <a:ext cx="609480" cy="130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895480" y="4876920"/>
            <a:ext cx="609840" cy="456840"/>
            <a:chOff x="2895480" y="4876920"/>
            <a:chExt cx="609840" cy="456840"/>
          </a:xfrm>
        </p:grpSpPr>
        <p:sp>
          <p:nvSpPr>
            <p:cNvPr id="138" name=""/>
            <p:cNvSpPr/>
            <p:nvPr/>
          </p:nvSpPr>
          <p:spPr>
            <a:xfrm>
              <a:off x="3017520" y="4876920"/>
              <a:ext cx="365760" cy="326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5203440"/>
              <a:ext cx="609840" cy="130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505320" y="4648320"/>
            <a:ext cx="609480" cy="456840"/>
            <a:chOff x="3505320" y="4648320"/>
            <a:chExt cx="609480" cy="456840"/>
          </a:xfrm>
        </p:grpSpPr>
        <p:sp>
          <p:nvSpPr>
            <p:cNvPr id="141" name=""/>
            <p:cNvSpPr/>
            <p:nvPr/>
          </p:nvSpPr>
          <p:spPr>
            <a:xfrm>
              <a:off x="3627360" y="4648320"/>
              <a:ext cx="365400" cy="3265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05320" y="4974840"/>
              <a:ext cx="609480" cy="130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10080" y="5029200"/>
            <a:ext cx="609840" cy="456840"/>
            <a:chOff x="5410080" y="5029200"/>
            <a:chExt cx="609840" cy="456840"/>
          </a:xfrm>
        </p:grpSpPr>
        <p:sp>
          <p:nvSpPr>
            <p:cNvPr id="144" name=""/>
            <p:cNvSpPr/>
            <p:nvPr/>
          </p:nvSpPr>
          <p:spPr>
            <a:xfrm>
              <a:off x="5532120" y="5029200"/>
              <a:ext cx="365760" cy="326520"/>
            </a:xfrm>
            <a:prstGeom prst="beve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0080" y="5355720"/>
              <a:ext cx="609840" cy="130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724280" y="2895480"/>
            <a:ext cx="609840" cy="456840"/>
            <a:chOff x="4724280" y="2895480"/>
            <a:chExt cx="609840" cy="456840"/>
          </a:xfrm>
        </p:grpSpPr>
        <p:sp>
          <p:nvSpPr>
            <p:cNvPr id="147" name=""/>
            <p:cNvSpPr/>
            <p:nvPr/>
          </p:nvSpPr>
          <p:spPr>
            <a:xfrm>
              <a:off x="4846320" y="2895480"/>
              <a:ext cx="365760" cy="32652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3222000"/>
              <a:ext cx="609840" cy="130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2971800"/>
            <a:ext cx="609480" cy="456840"/>
            <a:chOff x="3505320" y="2971800"/>
            <a:chExt cx="609480" cy="456840"/>
          </a:xfrm>
        </p:grpSpPr>
        <p:sp>
          <p:nvSpPr>
            <p:cNvPr id="150" name=""/>
            <p:cNvSpPr/>
            <p:nvPr/>
          </p:nvSpPr>
          <p:spPr>
            <a:xfrm>
              <a:off x="3627360" y="2971800"/>
              <a:ext cx="365400" cy="326520"/>
            </a:xfrm>
            <a:prstGeom prst="bevel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5320" y="3298320"/>
              <a:ext cx="609480" cy="130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124080" y="5562720"/>
            <a:ext cx="533520" cy="4572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3581280"/>
            <a:ext cx="533160" cy="4572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5562720"/>
            <a:ext cx="533160" cy="4572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5562720"/>
            <a:ext cx="533520" cy="4572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19920" y="4800600"/>
            <a:ext cx="609480" cy="456840"/>
            <a:chOff x="6019920" y="4800600"/>
            <a:chExt cx="609480" cy="456840"/>
          </a:xfrm>
        </p:grpSpPr>
        <p:sp>
          <p:nvSpPr>
            <p:cNvPr id="157" name=""/>
            <p:cNvSpPr/>
            <p:nvPr/>
          </p:nvSpPr>
          <p:spPr>
            <a:xfrm>
              <a:off x="6141960" y="4800600"/>
              <a:ext cx="365400" cy="326520"/>
            </a:xfrm>
            <a:prstGeom prst="bevel">
              <a:avLst>
                <a:gd name="adj" fmla="val 125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5127120"/>
              <a:ext cx="609480" cy="130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14800" y="2666880"/>
            <a:ext cx="609480" cy="456840"/>
            <a:chOff x="4114800" y="2666880"/>
            <a:chExt cx="609480" cy="456840"/>
          </a:xfrm>
        </p:grpSpPr>
        <p:sp>
          <p:nvSpPr>
            <p:cNvPr id="160" name=""/>
            <p:cNvSpPr/>
            <p:nvPr/>
          </p:nvSpPr>
          <p:spPr>
            <a:xfrm>
              <a:off x="4236840" y="2666880"/>
              <a:ext cx="365400" cy="326520"/>
            </a:xfrm>
            <a:prstGeom prst="bevel">
              <a:avLst>
                <a:gd name="adj" fmla="val 125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2993400"/>
              <a:ext cx="609480" cy="1303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29400" y="5029200"/>
            <a:ext cx="609480" cy="456840"/>
            <a:chOff x="6629400" y="5029200"/>
            <a:chExt cx="609480" cy="456840"/>
          </a:xfrm>
        </p:grpSpPr>
        <p:sp>
          <p:nvSpPr>
            <p:cNvPr id="163" name=""/>
            <p:cNvSpPr/>
            <p:nvPr/>
          </p:nvSpPr>
          <p:spPr>
            <a:xfrm>
              <a:off x="6751440" y="5029200"/>
              <a:ext cx="365400" cy="326520"/>
            </a:xfrm>
            <a:prstGeom prst="bevel">
              <a:avLst>
                <a:gd name="adj" fmla="val 125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5355720"/>
              <a:ext cx="609480" cy="1303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248520" y="5562720"/>
            <a:ext cx="533160" cy="4572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581280"/>
            <a:ext cx="533160" cy="4572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362320"/>
            <a:ext cx="1524240" cy="175248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480"/>
              <a:gd name="textAreaBottom" fmla="*/ 1678320 h 1752480"/>
            </a:gdLst>
            <a:ahLst/>
            <a:rect l="textAreaLeft" t="textAreaTop" r="textAreaRight" b="textAreaBottom"/>
            <a:pathLst>
              <a:path w="21600" h="24834">
                <a:moveTo>
                  <a:pt x="3600" y="0"/>
                </a:moveTo>
                <a:arcTo wR="3600" hR="3600" stAng="16200000" swAng="-5400000"/>
                <a:lnTo>
                  <a:pt x="0" y="21234"/>
                </a:lnTo>
                <a:arcTo wR="3600" hR="3600" stAng="10800000" swAng="-5400000"/>
                <a:lnTo>
                  <a:pt x="18000" y="2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Multidisciplina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design us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programs &amp; dat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at multiple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locations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438280"/>
            <a:ext cx="1524240" cy="17528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Ray tracing us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cycles provided by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cycle sharing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consortiu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505320" y="2614320"/>
            <a:ext cx="761760" cy="204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2286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rticipants in 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n run progra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2514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rticipants in Q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n use cycles if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dle and budget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ot exceede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5720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rticipants in 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n run progra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7913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rticipants in 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n read data 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05120" y="4647960"/>
            <a:ext cx="91440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905120" y="5867280"/>
            <a:ext cx="22860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3124080"/>
            <a:ext cx="152640" cy="1600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7800" y="2895480"/>
            <a:ext cx="53352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561440" cy="1079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Background:Grid Scenari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048040" y="2514600"/>
            <a:ext cx="1749240" cy="1917720"/>
            <a:chOff x="2048040" y="2514600"/>
            <a:chExt cx="1749240" cy="1917720"/>
          </a:xfrm>
        </p:grpSpPr>
        <p:sp>
          <p:nvSpPr>
            <p:cNvPr id="180" name=""/>
            <p:cNvSpPr/>
            <p:nvPr/>
          </p:nvSpPr>
          <p:spPr>
            <a:xfrm>
              <a:off x="2048040" y="2514600"/>
              <a:ext cx="1749240" cy="1917720"/>
            </a:xfrm>
            <a:custGeom>
              <a:avLst/>
              <a:gdLst>
                <a:gd name="textAreaLeft" fmla="*/ 85320 w 1749240"/>
                <a:gd name="textAreaRight" fmla="*/ 1663920 w 1749240"/>
                <a:gd name="textAreaTop" fmla="*/ 85320 h 1917720"/>
                <a:gd name="textAreaBottom" fmla="*/ 1832400 h 1917720"/>
              </a:gdLst>
              <a:ahLst/>
              <a:rect l="textAreaLeft" t="textAreaTop" r="textAreaRight" b="textAreaBottom"/>
              <a:pathLst>
                <a:path w="21600" h="23680">
                  <a:moveTo>
                    <a:pt x="3600" y="0"/>
                  </a:moveTo>
                  <a:arcTo wR="3600" hR="3600" stAng="16200000" swAng="-5400000"/>
                  <a:lnTo>
                    <a:pt x="0" y="20080"/>
                  </a:lnTo>
                  <a:arcTo wR="3600" hR="3600" stAng="10800000" swAng="-5400000"/>
                  <a:lnTo>
                    <a:pt x="18000" y="236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177640" y="2814120"/>
              <a:ext cx="1489680" cy="539280"/>
              <a:chOff x="2177640" y="2814120"/>
              <a:chExt cx="1489680" cy="539280"/>
            </a:xfrm>
          </p:grpSpPr>
          <p:sp>
            <p:nvSpPr>
              <p:cNvPr id="182" name=""/>
              <p:cNvSpPr/>
              <p:nvPr/>
            </p:nvSpPr>
            <p:spPr>
              <a:xfrm>
                <a:off x="2177640" y="2814120"/>
                <a:ext cx="1489680" cy="53928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42440" y="3053880"/>
                <a:ext cx="25884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66080" y="3053880"/>
                <a:ext cx="25920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889720" y="3053880"/>
                <a:ext cx="25920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4080" y="3053880"/>
                <a:ext cx="25884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760480" y="2814120"/>
                <a:ext cx="8420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imes New Roman"/>
                  </a:rPr>
                  <a:t>Shared Memory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177640" y="3713040"/>
              <a:ext cx="1489680" cy="539280"/>
              <a:chOff x="2177640" y="3713040"/>
              <a:chExt cx="1489680" cy="539280"/>
            </a:xfrm>
          </p:grpSpPr>
          <p:sp>
            <p:nvSpPr>
              <p:cNvPr id="189" name=""/>
              <p:cNvSpPr/>
              <p:nvPr/>
            </p:nvSpPr>
            <p:spPr>
              <a:xfrm>
                <a:off x="2177640" y="3713040"/>
                <a:ext cx="1489680" cy="53928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42440" y="3952800"/>
                <a:ext cx="25884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66080" y="3952800"/>
                <a:ext cx="25920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89720" y="3952800"/>
                <a:ext cx="25920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14080" y="3952800"/>
                <a:ext cx="25884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60480" y="3713040"/>
                <a:ext cx="8420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imes New Roman"/>
                  </a:rPr>
                  <a:t>Shared Memory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890080" y="3353400"/>
              <a:ext cx="0" cy="35928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12840" y="2574360"/>
              <a:ext cx="161964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imes New Roman"/>
                </a:rPr>
                <a:t>Message Passing Library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905120" y="2209680"/>
            <a:ext cx="3962160" cy="228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52800" y="2514600"/>
            <a:ext cx="1749600" cy="1917720"/>
            <a:chOff x="3952800" y="2514600"/>
            <a:chExt cx="1749600" cy="1917720"/>
          </a:xfrm>
        </p:grpSpPr>
        <p:sp>
          <p:nvSpPr>
            <p:cNvPr id="199" name=""/>
            <p:cNvSpPr/>
            <p:nvPr/>
          </p:nvSpPr>
          <p:spPr>
            <a:xfrm>
              <a:off x="3952800" y="2514600"/>
              <a:ext cx="1749600" cy="1917720"/>
            </a:xfrm>
            <a:custGeom>
              <a:avLst/>
              <a:gdLst>
                <a:gd name="textAreaLeft" fmla="*/ 85320 w 1749600"/>
                <a:gd name="textAreaRight" fmla="*/ 1664280 w 1749600"/>
                <a:gd name="textAreaTop" fmla="*/ 85320 h 1917720"/>
                <a:gd name="textAreaBottom" fmla="*/ 1832400 h 1917720"/>
              </a:gdLst>
              <a:ahLst/>
              <a:rect l="textAreaLeft" t="textAreaTop" r="textAreaRight" b="textAreaBottom"/>
              <a:pathLst>
                <a:path w="21600" h="23675">
                  <a:moveTo>
                    <a:pt x="3600" y="0"/>
                  </a:moveTo>
                  <a:arcTo wR="3600" hR="3600" stAng="16200000" swAng="-5400000"/>
                  <a:lnTo>
                    <a:pt x="0" y="20075"/>
                  </a:lnTo>
                  <a:arcTo wR="3600" hR="3600" stAng="10800000" swAng="-5400000"/>
                  <a:lnTo>
                    <a:pt x="18000" y="236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082400" y="2814120"/>
              <a:ext cx="1490040" cy="539280"/>
              <a:chOff x="4082400" y="2814120"/>
              <a:chExt cx="1490040" cy="539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082400" y="2814120"/>
                <a:ext cx="1490040" cy="53928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47200" y="3053880"/>
                <a:ext cx="25884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70840" y="3053880"/>
                <a:ext cx="25920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94840" y="3053880"/>
                <a:ext cx="25920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18840" y="3053880"/>
                <a:ext cx="25884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665240" y="2814120"/>
                <a:ext cx="8420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imes New Roman"/>
                  </a:rPr>
                  <a:t>Shared Memory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82400" y="3713040"/>
              <a:ext cx="1490040" cy="539280"/>
              <a:chOff x="4082400" y="3713040"/>
              <a:chExt cx="1490040" cy="539280"/>
            </a:xfrm>
          </p:grpSpPr>
          <p:sp>
            <p:nvSpPr>
              <p:cNvPr id="208" name=""/>
              <p:cNvSpPr/>
              <p:nvPr/>
            </p:nvSpPr>
            <p:spPr>
              <a:xfrm>
                <a:off x="4082400" y="3713040"/>
                <a:ext cx="1490040" cy="53928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47200" y="3952800"/>
                <a:ext cx="25884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70840" y="3952800"/>
                <a:ext cx="25920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94840" y="3952800"/>
                <a:ext cx="25920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118840" y="3952800"/>
                <a:ext cx="258840" cy="2394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65240" y="3713040"/>
                <a:ext cx="8420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imes New Roman"/>
                  </a:rPr>
                  <a:t>Shared Memory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4795200" y="3353400"/>
              <a:ext cx="0" cy="35928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17600" y="2574360"/>
              <a:ext cx="162000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imes New Roman"/>
                </a:rPr>
                <a:t>Message Passing Library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25720" y="2209680"/>
            <a:ext cx="1174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TCP/IP over switch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4495680"/>
            <a:ext cx="1749600" cy="1832040"/>
            <a:chOff x="838080" y="4495680"/>
            <a:chExt cx="1749600" cy="1832040"/>
          </a:xfrm>
        </p:grpSpPr>
        <p:sp>
          <p:nvSpPr>
            <p:cNvPr id="218" name=""/>
            <p:cNvSpPr/>
            <p:nvPr/>
          </p:nvSpPr>
          <p:spPr>
            <a:xfrm>
              <a:off x="838080" y="4495680"/>
              <a:ext cx="1749600" cy="1832040"/>
            </a:xfrm>
            <a:custGeom>
              <a:avLst/>
              <a:gdLst>
                <a:gd name="textAreaLeft" fmla="*/ 85320 w 1749600"/>
                <a:gd name="textAreaRight" fmla="*/ 1664280 w 1749600"/>
                <a:gd name="textAreaTop" fmla="*/ 85320 h 1832040"/>
                <a:gd name="textAreaBottom" fmla="*/ 1746720 h 1832040"/>
              </a:gdLst>
              <a:ahLst/>
              <a:rect l="textAreaLeft" t="textAreaTop" r="textAreaRight" b="textAreaBottom"/>
              <a:pathLst>
                <a:path w="21600" h="22618">
                  <a:moveTo>
                    <a:pt x="3600" y="0"/>
                  </a:moveTo>
                  <a:arcTo wR="3600" hR="3600" stAng="16200000" swAng="-5400000"/>
                  <a:lnTo>
                    <a:pt x="0" y="19018"/>
                  </a:lnTo>
                  <a:arcTo wR="3600" hR="3600" stAng="10800000" swAng="-5400000"/>
                  <a:lnTo>
                    <a:pt x="18000" y="226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967680" y="4781880"/>
              <a:ext cx="1490040" cy="515160"/>
              <a:chOff x="967680" y="4781880"/>
              <a:chExt cx="1490040" cy="515160"/>
            </a:xfrm>
          </p:grpSpPr>
          <p:sp>
            <p:nvSpPr>
              <p:cNvPr id="220" name=""/>
              <p:cNvSpPr/>
              <p:nvPr/>
            </p:nvSpPr>
            <p:spPr>
              <a:xfrm>
                <a:off x="967680" y="4781880"/>
                <a:ext cx="1490040" cy="515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032480" y="5010840"/>
                <a:ext cx="258840" cy="2286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56120" y="5010840"/>
                <a:ext cx="259200" cy="2286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0120" y="5010840"/>
                <a:ext cx="259200" cy="2286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04120" y="5010840"/>
                <a:ext cx="258840" cy="2286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50520" y="4781880"/>
                <a:ext cx="84204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imes New Roman"/>
                  </a:rPr>
                  <a:t>Shared Memory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967680" y="5640480"/>
              <a:ext cx="1490040" cy="515160"/>
              <a:chOff x="967680" y="5640480"/>
              <a:chExt cx="1490040" cy="51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967680" y="5640480"/>
                <a:ext cx="1490040" cy="515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032480" y="5869440"/>
                <a:ext cx="258840" cy="2286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56120" y="5869440"/>
                <a:ext cx="259200" cy="2286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80120" y="5869440"/>
                <a:ext cx="259200" cy="2286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04120" y="5869440"/>
                <a:ext cx="258840" cy="22860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50520" y="5640480"/>
                <a:ext cx="84204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imes New Roman"/>
                  </a:rPr>
                  <a:t>Shared Memory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1680480" y="5297040"/>
              <a:ext cx="0" cy="34344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2880" y="4552920"/>
              <a:ext cx="16200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imes New Roman"/>
                </a:rPr>
                <a:t>Message Passing Library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248520" y="4191120"/>
            <a:ext cx="1749240" cy="1917720"/>
          </a:xfrm>
          <a:custGeom>
            <a:avLst/>
            <a:gdLst>
              <a:gd name="textAreaLeft" fmla="*/ 85320 w 1749240"/>
              <a:gd name="textAreaRight" fmla="*/ 1663920 w 1749240"/>
              <a:gd name="textAreaTop" fmla="*/ 85320 h 1917720"/>
              <a:gd name="textAreaBottom" fmla="*/ 1832400 h 1917720"/>
            </a:gdLst>
            <a:ahLst/>
            <a:rect l="textAreaLeft" t="textAreaTop" r="textAreaRight" b="textAreaBottom"/>
            <a:pathLst>
              <a:path w="21600" h="23680">
                <a:moveTo>
                  <a:pt x="3600" y="0"/>
                </a:moveTo>
                <a:arcTo wR="3600" hR="3600" stAng="16200000" swAng="-5400000"/>
                <a:lnTo>
                  <a:pt x="0" y="20080"/>
                </a:lnTo>
                <a:arcTo wR="3600" hR="3600" stAng="10800000" swAng="-5400000"/>
                <a:lnTo>
                  <a:pt x="18000" y="236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78480" y="4491000"/>
            <a:ext cx="1489320" cy="539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43640" y="4730760"/>
            <a:ext cx="258840" cy="239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67640" y="4730760"/>
            <a:ext cx="258480" cy="239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4730760"/>
            <a:ext cx="258840" cy="239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15280" y="4730760"/>
            <a:ext cx="258840" cy="239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61320" y="4491000"/>
            <a:ext cx="841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Shared Memo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78480" y="5389560"/>
            <a:ext cx="1489320" cy="539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3640" y="5629320"/>
            <a:ext cx="258840" cy="239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67640" y="5629320"/>
            <a:ext cx="258480" cy="239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1280" y="5629320"/>
            <a:ext cx="258840" cy="239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15280" y="5629320"/>
            <a:ext cx="258840" cy="239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61320" y="5389560"/>
            <a:ext cx="841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Shared Memo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91280" y="5030640"/>
            <a:ext cx="0" cy="35892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13320" y="4251240"/>
            <a:ext cx="161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Message Passing Libra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09760" y="3044880"/>
            <a:ext cx="495360" cy="1603440"/>
          </a:xfrm>
          <a:custGeom>
            <a:avLst/>
            <a:gdLst/>
            <a:ahLst/>
            <a:rect l="l" t="t" r="r" b="b"/>
            <a:pathLst>
              <a:path w="312" h="1010">
                <a:moveTo>
                  <a:pt x="312" y="2"/>
                </a:moveTo>
                <a:cubicBezTo>
                  <a:pt x="180" y="1"/>
                  <a:pt x="48" y="0"/>
                  <a:pt x="24" y="168"/>
                </a:cubicBezTo>
                <a:cubicBezTo>
                  <a:pt x="0" y="336"/>
                  <a:pt x="144" y="870"/>
                  <a:pt x="168" y="1010"/>
                </a:cubicBezTo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581280"/>
            <a:ext cx="83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TCP/IP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Over L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495680"/>
            <a:ext cx="380880" cy="45720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4952880"/>
            <a:ext cx="129564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4952880"/>
            <a:ext cx="685800" cy="39708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50292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TCP/IP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Over W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590920" y="4952880"/>
            <a:ext cx="1676160" cy="9669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7" name="sma_logo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76520" cy="13017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905120" y="5943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SMA 5505 Project Presentation, May 16,200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63280" y="720360"/>
            <a:ext cx="7561080" cy="10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GB" sz="3400" spc="-1" strike="noStrike">
                <a:solidFill>
                  <a:srgbClr val="ff6600"/>
                </a:solidFill>
                <a:latin typeface="Arial"/>
              </a:rPr>
              <a:t>Background:Problem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561440" cy="3886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Different bandwidths/Irregular Network Topolog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curity – different domain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Efficient Communicati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24000" indent="-3240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Resource management (MPI_COMM_WORLD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828800" y="533520"/>
            <a:ext cx="6629400" cy="5564880"/>
            <a:chOff x="1828800" y="533520"/>
            <a:chExt cx="6629400" cy="5564880"/>
          </a:xfrm>
        </p:grpSpPr>
        <p:pic>
          <p:nvPicPr>
            <p:cNvPr id="262" name="sma_logo" descr=""/>
            <p:cNvPicPr/>
            <p:nvPr/>
          </p:nvPicPr>
          <p:blipFill>
            <a:blip r:embed="rId1"/>
            <a:stretch/>
          </p:blipFill>
          <p:spPr>
            <a:xfrm>
              <a:off x="6629400" y="533520"/>
              <a:ext cx="16765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828800" y="5791320"/>
              <a:ext cx="66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SMA 5505 Project Presentation, May 16,200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06:38:12Z</dcterms:created>
  <dc:creator/>
  <dc:description/>
  <dc:language>en-US</dc:language>
  <cp:lastModifiedBy>NUS</cp:lastModifiedBy>
  <cp:lastPrinted>2002-01-30T01:47:42Z</cp:lastPrinted>
  <dcterms:modified xsi:type="dcterms:W3CDTF">2002-05-19T12:04:00Z</dcterms:modified>
  <cp:revision>675</cp:revision>
  <dc:subject/>
  <dc:title>Globus Tookit Deployment</dc:title>
</cp:coreProperties>
</file>