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52A-301D-4ADD-BD4E-752B28F4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D6B-BD2A-4D94-8FC6-1EF85743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DAA-8299-48B6-9068-5ED69A1D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78C-1F37-49F7-969E-DD33184F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6D44-7CA5-4091-AC8A-EE142F51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CF1B-1FFF-4F3B-BCBC-F770921B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FD06-D8D7-45DF-AD7A-B28B8B86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BE48-E51D-4E3D-8D8A-9AEAD616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4453-1238-4D8F-A473-C43CB474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B41E-AC25-4A77-B76F-C44CF40F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BF6B-4C91-4C9C-8D52-7B32FDA7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642-60C8-46D3-ABB8-643717E1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9037-6B50-4032-8261-A27F0E2F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5430-A01E-4F4A-9A8E-B548AA2E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71B3-A401-43B1-B480-670AF81C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5415-D4F8-4F64-86D5-A15470ED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C3AE-AC56-4A6A-B4BD-E6FE1091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CE6DC-73CA-4127-AAAC-6D77B3D5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87C1F-3371-45EF-B66E-BB27251F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09A5A-2449-4320-A72B-56FBF189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8C3E4-7BCA-4C10-A2CE-67A25272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7EBBB-71D1-4053-B29A-3ACDBF3C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FE1-56F8-46FC-849B-DAE4AE25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DDAAD-C513-4223-A734-04472FCF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EAD12-6687-4C53-8B74-C5227F0B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F0333-A41D-4008-9DF2-99C925B0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3023-051D-49EB-8925-5FE9A76E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61908-A6EB-4229-B46A-FB75C073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C184B-0CEC-4926-A6AF-C6E11DAE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828E-8DA8-4664-9029-0C148412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86C-FE89-42A1-97CD-C90DDDED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3E9-B36C-4A6F-85A3-04158777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CBD-83EB-4B4A-94C5-C1358078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BA3-8BD0-42CF-B6C2-6EF5C428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07EE-DCA9-4EA9-8FC5-6DD69435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4A4-A543-4018-9B2B-4001BC56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7C74-5A9D-4239-AC1F-FB7F88E642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F56D-1C2B-45B2-AFE9-229BBF5876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346D-AB52-4CF3-AAA0-6A9C94A53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Future Fast Fourier Transfor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Yu Bei, Zhang Sheng and Zhao Q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erenced Paper: ‘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e Future Fast Fourier Transform?’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an Edelman, Peter McCorquodale, Sivan Toledo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roximate Matrix of F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838080" y="2362320"/>
                <a:ext cx="7848720" cy="22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:</m:t>
                              </m:r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m</m:t>
                              </m:r>
                              <m:r>
                                <m:t xml:space="preserve">:</m:t>
                              </m:r>
                              <m:r>
                                <m:t xml:space="preserve">2</m:t>
                              </m:r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  <m:r>
                                <m:t xml:space="preserve">: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:</m:t>
                              </m:r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m</m:t>
                              </m:r>
                              <m:r>
                                <m:t xml:space="preserve">:</m:t>
                              </m:r>
                              <m:r>
                                <m:t xml:space="preserve">2</m:t>
                              </m:r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  <m:r>
                                <m:t xml:space="preserve">: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936720" y="5257800"/>
            <a:ext cx="72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50840" y="483408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5029200"/>
            <a:ext cx="7924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ecom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 A matrices to each processor along the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 B matrices to each processor along the 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seudo Code of the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foreach processor s = 0:p-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3240" indent="-174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r = 0:p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9160" indent="-209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foreach processor s = 0:p-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3240" indent="-174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r = 0:p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      to processor r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      from processor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9160" indent="-209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foreach processor s = 0:p-1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2854440"/>
                <a:ext cx="5968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m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←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m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971800" y="4495680"/>
                <a:ext cx="533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359160" y="4952880"/>
                <a:ext cx="5335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33640" y="6178680"/>
                <a:ext cx="61722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m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m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lex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number of scalars sent by each processor is (p-1)k = m(1-1/p)+O(log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out SVD, total #scalars sent by each processor is m(p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er arithmetic computation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D too expensive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2209680"/>
          <a:ext cx="8305920" cy="4365720"/>
        </p:xfrm>
        <a:graphic>
          <a:graphicData uri="http://schemas.openxmlformats.org/drawingml/2006/table">
            <a:tbl>
              <a:tblPr/>
              <a:tblGrid>
                <a:gridCol w="1260720"/>
                <a:gridCol w="1260360"/>
                <a:gridCol w="1112760"/>
                <a:gridCol w="1185840"/>
                <a:gridCol w="1112760"/>
                <a:gridCol w="1260720"/>
                <a:gridCol w="1112760"/>
              </a:tblGrid>
              <a:tr h="78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=5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=5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=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=1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=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=1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=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=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=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=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=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3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2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3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 for SV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9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 for commun-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 for precomp-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F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trix-Vector Algorith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at is FF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-step fram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t Multipol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Fourier Trans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653080" y="2708280"/>
            <a:ext cx="3021480" cy="2577240"/>
            <a:chOff x="5653080" y="2708280"/>
            <a:chExt cx="3021480" cy="2577240"/>
          </a:xfrm>
        </p:grpSpPr>
        <p:grpSp>
          <p:nvGrpSpPr>
            <p:cNvPr id="204" name=""/>
            <p:cNvGrpSpPr/>
            <p:nvPr/>
          </p:nvGrpSpPr>
          <p:grpSpPr>
            <a:xfrm>
              <a:off x="8259120" y="2708280"/>
              <a:ext cx="415440" cy="2566800"/>
              <a:chOff x="8259120" y="2708280"/>
              <a:chExt cx="415440" cy="256680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8259120" y="2708280"/>
                <a:ext cx="415440" cy="1241640"/>
                <a:chOff x="8259120" y="2708280"/>
                <a:chExt cx="415440" cy="12416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8259120" y="270828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259120" y="301176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259120" y="337032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59120" y="370368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8259120" y="4031280"/>
                <a:ext cx="415440" cy="1243800"/>
                <a:chOff x="8259120" y="4031280"/>
                <a:chExt cx="415440" cy="12438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8259120" y="403128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59120" y="433872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259120" y="469080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59120" y="502884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"/>
            <p:cNvGrpSpPr/>
            <p:nvPr/>
          </p:nvGrpSpPr>
          <p:grpSpPr>
            <a:xfrm>
              <a:off x="5973840" y="2851200"/>
              <a:ext cx="2315160" cy="2434320"/>
              <a:chOff x="5973840" y="2851200"/>
              <a:chExt cx="2315160" cy="243432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5973840" y="2851920"/>
                <a:ext cx="1542960" cy="2433600"/>
                <a:chOff x="5973840" y="2851920"/>
                <a:chExt cx="1542960" cy="243360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5973840" y="2853360"/>
                  <a:ext cx="771120" cy="2431800"/>
                  <a:chOff x="5973840" y="2853360"/>
                  <a:chExt cx="771120" cy="2431800"/>
                </a:xfrm>
              </p:grpSpPr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5973840" y="4938120"/>
                    <a:ext cx="771120" cy="347040"/>
                    <a:chOff x="5973840" y="4938120"/>
                    <a:chExt cx="771120" cy="34704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 flipH="1">
                      <a:off x="5973840" y="5285160"/>
                      <a:ext cx="77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flipH="1">
                      <a:off x="5973840" y="4938120"/>
                      <a:ext cx="77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flipV="1">
                      <a:off x="5973840" y="4938120"/>
                      <a:ext cx="771120" cy="3470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H="1">
                      <a:off x="5973840" y="4938120"/>
                      <a:ext cx="771120" cy="3470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5973840" y="4243680"/>
                    <a:ext cx="771120" cy="346320"/>
                    <a:chOff x="5973840" y="4243680"/>
                    <a:chExt cx="771120" cy="34632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 flipH="1">
                      <a:off x="5973840" y="4590000"/>
                      <a:ext cx="77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 flipH="1">
                      <a:off x="5973840" y="4243680"/>
                      <a:ext cx="77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flipH="1" flipV="1">
                      <a:off x="5973840" y="4243680"/>
                      <a:ext cx="771120" cy="34632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>
                      <a:off x="5973840" y="4243680"/>
                      <a:ext cx="771120" cy="34632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5973840" y="3548520"/>
                    <a:ext cx="771120" cy="346320"/>
                    <a:chOff x="5973840" y="3548520"/>
                    <a:chExt cx="771120" cy="346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>
                      <a:off x="5973840" y="3894840"/>
                      <a:ext cx="77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>
                      <a:off x="5973840" y="3548520"/>
                      <a:ext cx="77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flipH="1" flipV="1">
                      <a:off x="5973840" y="3548520"/>
                      <a:ext cx="771120" cy="34632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flipH="1">
                      <a:off x="5973840" y="3548520"/>
                      <a:ext cx="771120" cy="34632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973840" y="2853360"/>
                    <a:ext cx="771120" cy="347040"/>
                    <a:chOff x="5973840" y="2853360"/>
                    <a:chExt cx="771120" cy="34704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flipH="1">
                      <a:off x="5973840" y="3200400"/>
                      <a:ext cx="77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flipH="1">
                      <a:off x="5973840" y="2853360"/>
                      <a:ext cx="77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5973840" y="2853360"/>
                      <a:ext cx="771120" cy="3470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 flipH="1">
                      <a:off x="5973840" y="2853360"/>
                      <a:ext cx="771120" cy="3470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38" name=""/>
                <p:cNvSpPr/>
                <p:nvPr/>
              </p:nvSpPr>
              <p:spPr>
                <a:xfrm>
                  <a:off x="6745320" y="5285160"/>
                  <a:ext cx="7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745320" y="4937400"/>
                  <a:ext cx="7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745320" y="4590000"/>
                  <a:ext cx="7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745320" y="4242600"/>
                  <a:ext cx="7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745320" y="3894480"/>
                  <a:ext cx="7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745320" y="3547080"/>
                  <a:ext cx="7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745320" y="3200040"/>
                  <a:ext cx="7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745320" y="2851920"/>
                  <a:ext cx="7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745320" y="4590360"/>
                  <a:ext cx="771480" cy="69516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745320" y="4243320"/>
                  <a:ext cx="771480" cy="69444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745320" y="3200400"/>
                  <a:ext cx="771480" cy="69444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745320" y="2852280"/>
                  <a:ext cx="771480" cy="69516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6744960" y="4590360"/>
                  <a:ext cx="771480" cy="69516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744960" y="4243320"/>
                  <a:ext cx="771480" cy="69444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>
                  <a:off x="6744960" y="3200400"/>
                  <a:ext cx="771480" cy="69444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6744960" y="2852280"/>
                  <a:ext cx="771480" cy="69516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 flipH="1">
                <a:off x="7516440" y="5285160"/>
                <a:ext cx="7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7516440" y="4937040"/>
                <a:ext cx="7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7516440" y="4589640"/>
                <a:ext cx="7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7516440" y="4242240"/>
                <a:ext cx="7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516440" y="3894120"/>
                <a:ext cx="7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7516440" y="3546720"/>
                <a:ext cx="7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7516440" y="3199320"/>
                <a:ext cx="7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7516440" y="2851200"/>
                <a:ext cx="7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516800" y="3894120"/>
                <a:ext cx="772200" cy="1391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7516800" y="3546720"/>
                <a:ext cx="772200" cy="13903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516800" y="3199320"/>
                <a:ext cx="772200" cy="13903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516800" y="2851200"/>
                <a:ext cx="772200" cy="1391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7516440" y="3894120"/>
                <a:ext cx="772200" cy="1391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flipV="1">
                <a:off x="7516440" y="3546720"/>
                <a:ext cx="772200" cy="13903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flipV="1">
                <a:off x="7516440" y="3199320"/>
                <a:ext cx="772200" cy="13903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7516440" y="2851200"/>
                <a:ext cx="772200" cy="1391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653080" y="2708280"/>
              <a:ext cx="415440" cy="2566800"/>
              <a:chOff x="5653080" y="2708280"/>
              <a:chExt cx="415440" cy="256680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5653080" y="2708280"/>
                <a:ext cx="415440" cy="1241640"/>
                <a:chOff x="5653080" y="2708280"/>
                <a:chExt cx="415440" cy="12416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653080" y="270828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653080" y="301176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653080" y="337032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653080" y="370368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653080" y="4031280"/>
                <a:ext cx="415440" cy="1243800"/>
                <a:chOff x="5653080" y="4031280"/>
                <a:chExt cx="415440" cy="12438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653080" y="403128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653080" y="433872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653080" y="469080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653080" y="502884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95280" y="2708280"/>
            <a:ext cx="4933800" cy="2519280"/>
            <a:chOff x="395280" y="2708280"/>
            <a:chExt cx="4933800" cy="251928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395280" y="2708280"/>
                  <a:ext cx="173016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k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sup>
                          </m:sSup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682560" y="3355920"/>
                  <a:ext cx="417672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k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j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sup>
                          </m:sSup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k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sup>
                          </m:sSup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682560" y="4075200"/>
                  <a:ext cx="464652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j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sSup>
                        <m:e>
                          <m:r>
                            <m:t xml:space="preserve">W</m:t>
                          </m:r>
                        </m:e>
                        <m:sup>
                          <m:r>
                            <m:t xml:space="preserve">k</m:t>
                          </m:r>
                        </m:sup>
                      </m:sSup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j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682560" y="4837320"/>
                  <a:ext cx="154152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  <m:sup>
                          <m:r>
                            <m:t xml:space="preserve">e</m:t>
                          </m:r>
                        </m:sup>
                      </m:sSubSup>
                      <m:r>
                        <m:t xml:space="preserve">+</m:t>
                      </m:r>
                      <m:sSup>
                        <m:e>
                          <m:r>
                            <m:t xml:space="preserve">W</m:t>
                          </m:r>
                        </m:e>
                        <m:sup>
                          <m:r>
                            <m:t xml:space="preserve">k</m:t>
                          </m:r>
                        </m:sup>
                      </m:sSup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6" name=""/>
          <p:cNvSpPr/>
          <p:nvPr/>
        </p:nvSpPr>
        <p:spPr>
          <a:xfrm>
            <a:off x="395280" y="2203560"/>
            <a:ext cx="777708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: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mplex multiplications,  Computation cost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000" y="6093000"/>
            <a:ext cx="7272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T: each step need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), log N steps in total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N log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5445000"/>
            <a:ext cx="23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--Danielson and Lanc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651640" y="2708280"/>
            <a:ext cx="3021480" cy="2577240"/>
            <a:chOff x="5651640" y="2708280"/>
            <a:chExt cx="3021480" cy="2577240"/>
          </a:xfrm>
        </p:grpSpPr>
        <p:grpSp>
          <p:nvGrpSpPr>
            <p:cNvPr id="290" name=""/>
            <p:cNvGrpSpPr/>
            <p:nvPr/>
          </p:nvGrpSpPr>
          <p:grpSpPr>
            <a:xfrm>
              <a:off x="8257680" y="2708280"/>
              <a:ext cx="415440" cy="2566800"/>
              <a:chOff x="8257680" y="2708280"/>
              <a:chExt cx="415440" cy="256680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8257680" y="2708280"/>
                <a:ext cx="415440" cy="1241640"/>
                <a:chOff x="8257680" y="2708280"/>
                <a:chExt cx="415440" cy="12416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8257680" y="270828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257680" y="301176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257680" y="337032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257680" y="370368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8257680" y="4031280"/>
                <a:ext cx="415440" cy="1243800"/>
                <a:chOff x="8257680" y="4031280"/>
                <a:chExt cx="415440" cy="12438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8257680" y="403128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257680" y="433872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257680" y="469080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257680" y="502884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5972400" y="2851200"/>
              <a:ext cx="2315160" cy="2434320"/>
              <a:chOff x="5972400" y="2851200"/>
              <a:chExt cx="2315160" cy="243432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5972400" y="2851920"/>
                <a:ext cx="1542960" cy="2433600"/>
                <a:chOff x="5972400" y="2851920"/>
                <a:chExt cx="1542960" cy="243360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5972400" y="2853360"/>
                  <a:ext cx="771120" cy="2431800"/>
                  <a:chOff x="5972400" y="2853360"/>
                  <a:chExt cx="771120" cy="2431800"/>
                </a:xfrm>
              </p:grpSpPr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5972400" y="4938120"/>
                    <a:ext cx="771120" cy="347040"/>
                    <a:chOff x="5972400" y="4938120"/>
                    <a:chExt cx="771120" cy="3470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>
                      <a:off x="5972400" y="5285160"/>
                      <a:ext cx="77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>
                      <a:off x="5972400" y="4938120"/>
                      <a:ext cx="77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 flipH="1" flipV="1">
                      <a:off x="5972400" y="4938120"/>
                      <a:ext cx="771120" cy="3470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flipH="1">
                      <a:off x="5972400" y="4938120"/>
                      <a:ext cx="771120" cy="3470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972400" y="4243680"/>
                    <a:ext cx="771120" cy="346320"/>
                    <a:chOff x="5972400" y="4243680"/>
                    <a:chExt cx="771120" cy="34632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flipH="1">
                      <a:off x="5972400" y="4590000"/>
                      <a:ext cx="77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flipH="1">
                      <a:off x="5972400" y="4243680"/>
                      <a:ext cx="77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flipV="1">
                      <a:off x="5972400" y="4243680"/>
                      <a:ext cx="771120" cy="34632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flipH="1">
                      <a:off x="5972400" y="4243680"/>
                      <a:ext cx="771120" cy="34632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5972400" y="3548520"/>
                    <a:ext cx="771120" cy="346320"/>
                    <a:chOff x="5972400" y="3548520"/>
                    <a:chExt cx="771120" cy="34632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flipH="1">
                      <a:off x="5972400" y="3894840"/>
                      <a:ext cx="77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H="1">
                      <a:off x="5972400" y="3548520"/>
                      <a:ext cx="77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 flipV="1">
                      <a:off x="5972400" y="3548520"/>
                      <a:ext cx="771120" cy="34632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>
                      <a:off x="5972400" y="3548520"/>
                      <a:ext cx="771120" cy="34632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972400" y="2853360"/>
                    <a:ext cx="771120" cy="347040"/>
                    <a:chOff x="5972400" y="2853360"/>
                    <a:chExt cx="771120" cy="34704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>
                      <a:off x="5972400" y="3200400"/>
                      <a:ext cx="77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>
                      <a:off x="5972400" y="2853360"/>
                      <a:ext cx="77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flipH="1" flipV="1">
                      <a:off x="5972400" y="2853360"/>
                      <a:ext cx="771120" cy="3470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>
                      <a:off x="5972400" y="2853360"/>
                      <a:ext cx="771120" cy="3470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24" name=""/>
                <p:cNvSpPr/>
                <p:nvPr/>
              </p:nvSpPr>
              <p:spPr>
                <a:xfrm>
                  <a:off x="6743880" y="5285160"/>
                  <a:ext cx="7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743880" y="4937400"/>
                  <a:ext cx="7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743880" y="4590000"/>
                  <a:ext cx="7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743880" y="4242600"/>
                  <a:ext cx="7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743880" y="3894480"/>
                  <a:ext cx="7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743880" y="3547080"/>
                  <a:ext cx="7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743880" y="3200040"/>
                  <a:ext cx="7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743880" y="2851920"/>
                  <a:ext cx="7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743880" y="4590360"/>
                  <a:ext cx="771480" cy="69516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43880" y="4243320"/>
                  <a:ext cx="771480" cy="69444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43880" y="3200400"/>
                  <a:ext cx="771480" cy="69444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43880" y="2852280"/>
                  <a:ext cx="771480" cy="69516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6743520" y="4590360"/>
                  <a:ext cx="771480" cy="69516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6743520" y="4243320"/>
                  <a:ext cx="771480" cy="69444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>
                  <a:off x="6743520" y="3200400"/>
                  <a:ext cx="771480" cy="69444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>
                  <a:off x="6743520" y="2852280"/>
                  <a:ext cx="771480" cy="69516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 flipH="1">
                <a:off x="7515000" y="5285160"/>
                <a:ext cx="7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7515000" y="4937040"/>
                <a:ext cx="7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7515000" y="4589640"/>
                <a:ext cx="7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515000" y="4242240"/>
                <a:ext cx="7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515000" y="3894120"/>
                <a:ext cx="7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7515000" y="3546720"/>
                <a:ext cx="7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7515000" y="3199320"/>
                <a:ext cx="7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7515000" y="2851200"/>
                <a:ext cx="7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7515360" y="3894120"/>
                <a:ext cx="772200" cy="1391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7515360" y="3546720"/>
                <a:ext cx="772200" cy="13903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515360" y="3199320"/>
                <a:ext cx="772200" cy="13903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7515360" y="2851200"/>
                <a:ext cx="772200" cy="1391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>
                <a:off x="7515000" y="3894120"/>
                <a:ext cx="772200" cy="1391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>
                <a:off x="7515000" y="3546720"/>
                <a:ext cx="772200" cy="13903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>
                <a:off x="7515000" y="3199320"/>
                <a:ext cx="772200" cy="13903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7515000" y="2851200"/>
                <a:ext cx="772200" cy="1391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651640" y="2708280"/>
              <a:ext cx="415440" cy="2566800"/>
              <a:chOff x="5651640" y="2708280"/>
              <a:chExt cx="415440" cy="256680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5651640" y="2708280"/>
                <a:ext cx="415440" cy="1241640"/>
                <a:chOff x="5651640" y="2708280"/>
                <a:chExt cx="415440" cy="12416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5651640" y="270828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651640" y="301176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651640" y="337032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651640" y="370368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651640" y="4031280"/>
                <a:ext cx="415440" cy="1243800"/>
                <a:chOff x="5651640" y="4031280"/>
                <a:chExt cx="415440" cy="12438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651640" y="403128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651640" y="433872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651640" y="469080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651640" y="5028840"/>
                  <a:ext cx="41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7" name=""/>
          <p:cNvSpPr/>
          <p:nvPr/>
        </p:nvSpPr>
        <p:spPr>
          <a:xfrm>
            <a:off x="6156360" y="5445000"/>
            <a:ext cx="1873080" cy="289080"/>
          </a:xfrm>
          <a:prstGeom prst="leftArrow">
            <a:avLst>
              <a:gd name="adj1" fmla="val 50000"/>
              <a:gd name="adj2" fmla="val 161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Fourier Transform 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(cont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211640" y="3211560"/>
            <a:ext cx="647640" cy="2881080"/>
            <a:chOff x="4211640" y="3211560"/>
            <a:chExt cx="647640" cy="2881080"/>
          </a:xfrm>
        </p:grpSpPr>
        <p:sp>
          <p:nvSpPr>
            <p:cNvPr id="370" name=""/>
            <p:cNvSpPr/>
            <p:nvPr/>
          </p:nvSpPr>
          <p:spPr>
            <a:xfrm>
              <a:off x="4211640" y="3211560"/>
              <a:ext cx="647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11640" y="3571920"/>
              <a:ext cx="647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11640" y="3932280"/>
              <a:ext cx="647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11640" y="4292640"/>
              <a:ext cx="647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11640" y="4653000"/>
              <a:ext cx="647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11640" y="5011560"/>
              <a:ext cx="647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11640" y="5371920"/>
              <a:ext cx="647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11640" y="5732280"/>
              <a:ext cx="647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8" name=""/>
          <p:cNvCxnSpPr/>
          <p:nvPr/>
        </p:nvCxnSpPr>
        <p:spPr>
          <a:xfrm flipH="1" flipV="1" rot="10800000">
            <a:off x="1402200" y="3428640"/>
            <a:ext cx="2520" cy="1442160"/>
          </a:xfrm>
          <a:prstGeom prst="curvedConnector5">
            <a:avLst>
              <a:gd name="adj1" fmla="val -57900000"/>
              <a:gd name="adj2" fmla="val 49987"/>
              <a:gd name="adj3" fmla="val -579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79" name=""/>
          <p:cNvGrpSpPr/>
          <p:nvPr/>
        </p:nvGrpSpPr>
        <p:grpSpPr>
          <a:xfrm>
            <a:off x="1403280" y="3211560"/>
            <a:ext cx="647640" cy="2881440"/>
            <a:chOff x="1403280" y="3211560"/>
            <a:chExt cx="647640" cy="2881440"/>
          </a:xfrm>
        </p:grpSpPr>
        <p:sp>
          <p:nvSpPr>
            <p:cNvPr id="380" name=""/>
            <p:cNvSpPr/>
            <p:nvPr/>
          </p:nvSpPr>
          <p:spPr>
            <a:xfrm>
              <a:off x="1403280" y="3211560"/>
              <a:ext cx="647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03280" y="3571920"/>
              <a:ext cx="647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03280" y="3932280"/>
              <a:ext cx="647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03280" y="4292640"/>
              <a:ext cx="647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03280" y="4653000"/>
              <a:ext cx="647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03280" y="5011920"/>
              <a:ext cx="647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03280" y="5372280"/>
              <a:ext cx="647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03280" y="5732640"/>
              <a:ext cx="647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050920" y="3429000"/>
            <a:ext cx="2158920" cy="2520720"/>
            <a:chOff x="2050920" y="3429000"/>
            <a:chExt cx="2158920" cy="2520720"/>
          </a:xfrm>
        </p:grpSpPr>
        <p:grpSp>
          <p:nvGrpSpPr>
            <p:cNvPr id="389" name=""/>
            <p:cNvGrpSpPr/>
            <p:nvPr/>
          </p:nvGrpSpPr>
          <p:grpSpPr>
            <a:xfrm>
              <a:off x="2050920" y="3429000"/>
              <a:ext cx="2158920" cy="1512720"/>
              <a:chOff x="2050920" y="3429000"/>
              <a:chExt cx="2158920" cy="151272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0920" y="342900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050920" y="3862440"/>
                <a:ext cx="215892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2050920" y="3789360"/>
              <a:ext cx="215892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50920" y="4149720"/>
              <a:ext cx="21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50920" y="4581360"/>
              <a:ext cx="215892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0920" y="5302080"/>
              <a:ext cx="21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2050920" y="4581000"/>
              <a:ext cx="215892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50920" y="5949720"/>
              <a:ext cx="21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971640" y="2060640"/>
            <a:ext cx="62643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ick: Bit Re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uch simpler in implement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858920" y="3428640"/>
            <a:ext cx="559440" cy="2521440"/>
            <a:chOff x="4858920" y="3428640"/>
            <a:chExt cx="559440" cy="2521440"/>
          </a:xfrm>
        </p:grpSpPr>
        <p:cxnSp>
          <p:nvCxnSpPr>
            <p:cNvPr id="400" name=""/>
            <p:cNvCxnSpPr/>
            <p:nvPr/>
          </p:nvCxnSpPr>
          <p:spPr>
            <a:xfrm>
              <a:off x="4858920" y="3428640"/>
              <a:ext cx="2520" cy="361080"/>
            </a:xfrm>
            <a:prstGeom prst="curvedConnector5">
              <a:avLst>
                <a:gd name="adj1" fmla="val 25900000"/>
                <a:gd name="adj2" fmla="val 50000"/>
                <a:gd name="adj3" fmla="val 259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01" name=""/>
            <p:cNvCxnSpPr/>
            <p:nvPr/>
          </p:nvCxnSpPr>
          <p:spPr>
            <a:xfrm>
              <a:off x="4858920" y="4149360"/>
              <a:ext cx="2520" cy="361080"/>
            </a:xfrm>
            <a:prstGeom prst="curvedConnector5">
              <a:avLst>
                <a:gd name="adj1" fmla="val 25900000"/>
                <a:gd name="adj2" fmla="val 50000"/>
                <a:gd name="adj3" fmla="val 259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02" name=""/>
            <p:cNvCxnSpPr/>
            <p:nvPr/>
          </p:nvCxnSpPr>
          <p:spPr>
            <a:xfrm>
              <a:off x="4858920" y="4868640"/>
              <a:ext cx="2520" cy="361080"/>
            </a:xfrm>
            <a:prstGeom prst="curvedConnector5">
              <a:avLst>
                <a:gd name="adj1" fmla="val 25900000"/>
                <a:gd name="adj2" fmla="val 50000"/>
                <a:gd name="adj3" fmla="val 259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03" name=""/>
            <p:cNvCxnSpPr/>
            <p:nvPr/>
          </p:nvCxnSpPr>
          <p:spPr>
            <a:xfrm>
              <a:off x="4858920" y="5589360"/>
              <a:ext cx="2520" cy="361080"/>
            </a:xfrm>
            <a:prstGeom prst="curvedConnector5">
              <a:avLst>
                <a:gd name="adj1" fmla="val 25900000"/>
                <a:gd name="adj2" fmla="val 50000"/>
                <a:gd name="adj3" fmla="val 259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404" name=""/>
          <p:cNvGrpSpPr/>
          <p:nvPr/>
        </p:nvGrpSpPr>
        <p:grpSpPr>
          <a:xfrm>
            <a:off x="5364000" y="3573360"/>
            <a:ext cx="503280" cy="2374920"/>
            <a:chOff x="5364000" y="3573360"/>
            <a:chExt cx="503280" cy="2374920"/>
          </a:xfrm>
        </p:grpSpPr>
        <p:sp>
          <p:nvSpPr>
            <p:cNvPr id="405" name=""/>
            <p:cNvSpPr/>
            <p:nvPr/>
          </p:nvSpPr>
          <p:spPr>
            <a:xfrm>
              <a:off x="5364000" y="3573360"/>
              <a:ext cx="503280" cy="935280"/>
            </a:xfrm>
            <a:custGeom>
              <a:avLst/>
              <a:gdLst>
                <a:gd name="textAreaLeft" fmla="*/ 67320 w 503280"/>
                <a:gd name="textAreaRight" fmla="*/ 435960 w 503280"/>
                <a:gd name="textAreaTop" fmla="*/ 163440 h 935280"/>
                <a:gd name="textAreaBottom" fmla="*/ 6782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64000" y="5013360"/>
              <a:ext cx="503280" cy="934920"/>
            </a:xfrm>
            <a:custGeom>
              <a:avLst/>
              <a:gdLst>
                <a:gd name="textAreaLeft" fmla="*/ 67320 w 503280"/>
                <a:gd name="textAreaRight" fmla="*/ 435960 w 503280"/>
                <a:gd name="textAreaTop" fmla="*/ 163440 h 934920"/>
                <a:gd name="textAreaBottom" fmla="*/ 67788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076720" y="3789360"/>
            <a:ext cx="3600720" cy="2735280"/>
            <a:chOff x="5076720" y="3789360"/>
            <a:chExt cx="3600720" cy="2735280"/>
          </a:xfrm>
        </p:grpSpPr>
        <p:sp>
          <p:nvSpPr>
            <p:cNvPr id="408" name=""/>
            <p:cNvSpPr/>
            <p:nvPr/>
          </p:nvSpPr>
          <p:spPr>
            <a:xfrm>
              <a:off x="5940360" y="3789360"/>
              <a:ext cx="1152720" cy="2087640"/>
            </a:xfrm>
            <a:custGeom>
              <a:avLst/>
              <a:gdLst>
                <a:gd name="textAreaLeft" fmla="*/ 154440 w 1152720"/>
                <a:gd name="textAreaRight" fmla="*/ 998280 w 1152720"/>
                <a:gd name="textAreaTop" fmla="*/ 365400 h 2087640"/>
                <a:gd name="textAreaBottom" fmla="*/ 1513800 h 20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76720" y="6237360"/>
              <a:ext cx="360072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lways combine adjacent pai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F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trix-Vector Algorith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FF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ix-step fram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t Multipol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t Multipole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x-Step Framework   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(Intro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5760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lobal bit reversal or shuff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FFTs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m lay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by twiddle f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lobal trans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FFTs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 lay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lobal shuffle or bit revers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=n/p n: size, p: #process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 +lo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 = lo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m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443640" y="2131920"/>
            <a:ext cx="2305080" cy="2952720"/>
            <a:chOff x="6443640" y="2131920"/>
            <a:chExt cx="2305080" cy="2952720"/>
          </a:xfrm>
        </p:grpSpPr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8317080" y="2131920"/>
                  <a:ext cx="431640" cy="3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7236000" y="2606760"/>
                  <a:ext cx="143964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⊗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"/>
                <p:cNvSpPr txBox="1"/>
                <p:nvPr/>
              </p:nvSpPr>
              <p:spPr>
                <a:xfrm>
                  <a:off x="7054920" y="3087720"/>
                  <a:ext cx="162072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⊗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6443640" y="4599000"/>
                  <a:ext cx="219564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⊗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x-Step Framework   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(Intro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443640" y="2131920"/>
            <a:ext cx="2305080" cy="2952720"/>
            <a:chOff x="6443640" y="2131920"/>
            <a:chExt cx="2305080" cy="2952720"/>
          </a:xfrm>
        </p:grpSpPr>
        <mc:AlternateContent>
          <mc:Choice xmlns:a14="http://schemas.microsoft.com/office/drawing/2010/main" Requires="a14">
            <p:sp>
              <p:nvSpPr>
                <p:cNvPr id="421" name=""/>
                <p:cNvSpPr txBox="1"/>
                <p:nvPr/>
              </p:nvSpPr>
              <p:spPr>
                <a:xfrm>
                  <a:off x="8317080" y="2131920"/>
                  <a:ext cx="431640" cy="3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7236000" y="2606760"/>
                  <a:ext cx="143964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⊗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7054920" y="3087720"/>
                  <a:ext cx="162072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⊗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6443640" y="4599000"/>
                  <a:ext cx="219564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⊗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71280" y="2017800"/>
            <a:ext cx="53290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ronecker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439272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at is DF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trix-Vector Algorith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FF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-step Fram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t Multipol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x-Step Framework   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(figur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77440" cy="40849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6300720" y="6093000"/>
            <a:ext cx="2303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From “The future fast fourier transfor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x-Step Framework    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(Cost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8102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re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FF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by 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lobal trans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FF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revers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42920" y="2017440"/>
            <a:ext cx="374508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-1) n/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n/p*log(n/p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n/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-1) n/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n*log(p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-1) n/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611280" y="5589720"/>
            <a:ext cx="691344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utation cost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n/p*log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munication cost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formance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70578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=2^20, tested on Beowulf, time (s)   Serial version: 3.57s (step 2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5148360" y="2492280"/>
            <a:ext cx="1152360" cy="4119480"/>
            <a:chOff x="5148360" y="2492280"/>
            <a:chExt cx="1152360" cy="4119480"/>
          </a:xfrm>
        </p:grpSpPr>
        <p:sp>
          <p:nvSpPr>
            <p:cNvPr id="437" name=""/>
            <p:cNvSpPr/>
            <p:nvPr/>
          </p:nvSpPr>
          <p:spPr>
            <a:xfrm>
              <a:off x="5148360" y="6021360"/>
              <a:ext cx="11523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0.0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48360" y="5432400"/>
              <a:ext cx="11523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0.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48360" y="4842000"/>
              <a:ext cx="11523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0.0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48360" y="4253040"/>
              <a:ext cx="11523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0.01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48360" y="3660840"/>
              <a:ext cx="115236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0.3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48360" y="3068640"/>
              <a:ext cx="115236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0.0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48360" y="2492280"/>
              <a:ext cx="115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#p=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300720" y="2492280"/>
            <a:ext cx="1366920" cy="4119480"/>
            <a:chOff x="6300720" y="2492280"/>
            <a:chExt cx="1366920" cy="4119480"/>
          </a:xfrm>
        </p:grpSpPr>
        <p:sp>
          <p:nvSpPr>
            <p:cNvPr id="445" name=""/>
            <p:cNvSpPr/>
            <p:nvPr/>
          </p:nvSpPr>
          <p:spPr>
            <a:xfrm>
              <a:off x="6300720" y="3068640"/>
              <a:ext cx="136692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0.0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00720" y="6021360"/>
              <a:ext cx="136692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0.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00720" y="5432400"/>
              <a:ext cx="13669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0.0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00720" y="4842000"/>
              <a:ext cx="136692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0.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00720" y="4253040"/>
              <a:ext cx="13669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0.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00720" y="3660840"/>
              <a:ext cx="136692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0.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00720" y="2492280"/>
              <a:ext cx="1366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#p=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924360" y="2492280"/>
            <a:ext cx="1224000" cy="4119480"/>
            <a:chOff x="3924360" y="2492280"/>
            <a:chExt cx="1224000" cy="4119480"/>
          </a:xfrm>
        </p:grpSpPr>
        <p:sp>
          <p:nvSpPr>
            <p:cNvPr id="453" name=""/>
            <p:cNvSpPr/>
            <p:nvPr/>
          </p:nvSpPr>
          <p:spPr>
            <a:xfrm>
              <a:off x="3924360" y="3068640"/>
              <a:ext cx="122400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0.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924360" y="6021360"/>
              <a:ext cx="12240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0.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24360" y="5432400"/>
              <a:ext cx="12240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0.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24360" y="4842000"/>
              <a:ext cx="12240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0.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24360" y="4253040"/>
              <a:ext cx="12240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0.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24360" y="3660840"/>
              <a:ext cx="122400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0.8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24360" y="2492280"/>
              <a:ext cx="1224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#p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700360" y="2492280"/>
            <a:ext cx="1224000" cy="4119480"/>
            <a:chOff x="2700360" y="2492280"/>
            <a:chExt cx="1224000" cy="4119480"/>
          </a:xfrm>
        </p:grpSpPr>
        <p:sp>
          <p:nvSpPr>
            <p:cNvPr id="461" name=""/>
            <p:cNvSpPr/>
            <p:nvPr/>
          </p:nvSpPr>
          <p:spPr>
            <a:xfrm>
              <a:off x="2700360" y="3068640"/>
              <a:ext cx="122400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0.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00360" y="6021360"/>
              <a:ext cx="12240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0.28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00360" y="5432400"/>
              <a:ext cx="12240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0.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00360" y="4842000"/>
              <a:ext cx="12240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0.2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00360" y="4253040"/>
              <a:ext cx="12240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0.0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00360" y="3660840"/>
              <a:ext cx="122400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1.6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00360" y="2492280"/>
              <a:ext cx="1224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#p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116000" y="2492280"/>
            <a:ext cx="1584360" cy="4119480"/>
            <a:chOff x="1116000" y="2492280"/>
            <a:chExt cx="1584360" cy="4119480"/>
          </a:xfrm>
        </p:grpSpPr>
        <p:sp>
          <p:nvSpPr>
            <p:cNvPr id="469" name=""/>
            <p:cNvSpPr/>
            <p:nvPr/>
          </p:nvSpPr>
          <p:spPr>
            <a:xfrm>
              <a:off x="1116000" y="3068640"/>
              <a:ext cx="158436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tep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16000" y="6021360"/>
              <a:ext cx="15843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tep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16000" y="5432400"/>
              <a:ext cx="15843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Step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16000" y="4842000"/>
              <a:ext cx="15843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tep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16000" y="4253040"/>
              <a:ext cx="15843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Step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16000" y="3660840"/>
              <a:ext cx="158436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Step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16000" y="2492280"/>
              <a:ext cx="1584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116000" y="2492280"/>
            <a:ext cx="6551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16000" y="3068640"/>
            <a:ext cx="655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116000" y="4253040"/>
            <a:ext cx="655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116000" y="4842000"/>
            <a:ext cx="655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116000" y="5432400"/>
            <a:ext cx="655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116000" y="6021360"/>
            <a:ext cx="655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116000" y="6611760"/>
            <a:ext cx="6551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116000" y="2492280"/>
            <a:ext cx="0" cy="4119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700360" y="2492280"/>
            <a:ext cx="0" cy="411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924360" y="2492280"/>
            <a:ext cx="0" cy="411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48360" y="2492280"/>
            <a:ext cx="0" cy="411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667640" y="2492280"/>
            <a:ext cx="0" cy="4119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116000" y="3660840"/>
            <a:ext cx="655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300720" y="2492280"/>
            <a:ext cx="0" cy="411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’s the foc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local FFT algorithm is not “fast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, improvement on it is limi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c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eight is &gt; 25% or even larg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hould try to reduce the Comm. Cos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We ca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F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trix-Vector Algorith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FF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-step fram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ast Multipol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403280" y="3068640"/>
                <a:ext cx="42879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363680" y="4508640"/>
                <a:ext cx="41450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1835280" y="3789360"/>
                <a:ext cx="3657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M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the distribution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228600" y="76320"/>
            <a:ext cx="8457840" cy="6711840"/>
            <a:chOff x="228600" y="76320"/>
            <a:chExt cx="8457840" cy="6711840"/>
          </a:xfrm>
        </p:grpSpPr>
        <p:grpSp>
          <p:nvGrpSpPr>
            <p:cNvPr id="500" name=""/>
            <p:cNvGrpSpPr/>
            <p:nvPr/>
          </p:nvGrpSpPr>
          <p:grpSpPr>
            <a:xfrm>
              <a:off x="8358120" y="76320"/>
              <a:ext cx="328320" cy="6402240"/>
              <a:chOff x="8358120" y="76320"/>
              <a:chExt cx="328320" cy="640224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8358120" y="76320"/>
                <a:ext cx="328320" cy="1480680"/>
                <a:chOff x="8358120" y="76320"/>
                <a:chExt cx="328320" cy="1480680"/>
              </a:xfrm>
            </p:grpSpPr>
            <p:grpSp>
              <p:nvGrpSpPr>
                <p:cNvPr id="502" name=""/>
                <p:cNvGrpSpPr/>
                <p:nvPr/>
              </p:nvGrpSpPr>
              <p:grpSpPr>
                <a:xfrm>
                  <a:off x="8358120" y="76320"/>
                  <a:ext cx="328320" cy="775800"/>
                  <a:chOff x="8358120" y="76320"/>
                  <a:chExt cx="328320" cy="77580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8358120" y="76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8358120" y="237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8358120" y="4284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8358120" y="6058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"/>
                <p:cNvGrpSpPr/>
                <p:nvPr/>
              </p:nvGrpSpPr>
              <p:grpSpPr>
                <a:xfrm>
                  <a:off x="8358120" y="780120"/>
                  <a:ext cx="328320" cy="776880"/>
                  <a:chOff x="8358120" y="780120"/>
                  <a:chExt cx="328320" cy="77688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8358120" y="7801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8358120" y="9435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8358120" y="113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8358120" y="131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2" name=""/>
              <p:cNvGrpSpPr/>
              <p:nvPr/>
            </p:nvGrpSpPr>
            <p:grpSpPr>
              <a:xfrm>
                <a:off x="8358120" y="1676520"/>
                <a:ext cx="328320" cy="1481040"/>
                <a:chOff x="8358120" y="1676520"/>
                <a:chExt cx="328320" cy="1481040"/>
              </a:xfrm>
            </p:grpSpPr>
            <p:grpSp>
              <p:nvGrpSpPr>
                <p:cNvPr id="513" name=""/>
                <p:cNvGrpSpPr/>
                <p:nvPr/>
              </p:nvGrpSpPr>
              <p:grpSpPr>
                <a:xfrm>
                  <a:off x="8358120" y="1676520"/>
                  <a:ext cx="328320" cy="776160"/>
                  <a:chOff x="8358120" y="1676520"/>
                  <a:chExt cx="328320" cy="776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8358120" y="1676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8358120" y="1840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8358120" y="2028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8358120" y="2206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8358120" y="2385000"/>
                  <a:ext cx="328320" cy="772560"/>
                  <a:chOff x="8358120" y="2385000"/>
                  <a:chExt cx="328320" cy="7725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8358120" y="2385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8358120" y="2546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8358120" y="2734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8358120" y="291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3" name=""/>
              <p:cNvGrpSpPr/>
              <p:nvPr/>
            </p:nvGrpSpPr>
            <p:grpSpPr>
              <a:xfrm>
                <a:off x="8358120" y="3321360"/>
                <a:ext cx="328320" cy="1480680"/>
                <a:chOff x="8358120" y="3321360"/>
                <a:chExt cx="328320" cy="1480680"/>
              </a:xfrm>
            </p:grpSpPr>
            <p:grpSp>
              <p:nvGrpSpPr>
                <p:cNvPr id="524" name=""/>
                <p:cNvGrpSpPr/>
                <p:nvPr/>
              </p:nvGrpSpPr>
              <p:grpSpPr>
                <a:xfrm>
                  <a:off x="8358120" y="3321360"/>
                  <a:ext cx="328320" cy="775800"/>
                  <a:chOff x="8358120" y="3321360"/>
                  <a:chExt cx="328320" cy="7758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>
                    <a:off x="8358120" y="33213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8358120" y="34826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8358120" y="3673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8358120" y="3850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8358120" y="4025160"/>
                  <a:ext cx="328320" cy="776880"/>
                  <a:chOff x="8358120" y="4025160"/>
                  <a:chExt cx="328320" cy="77688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>
                    <a:off x="8358120" y="40251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8358120" y="418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8358120" y="437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8358120" y="455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4" name=""/>
              <p:cNvGrpSpPr/>
              <p:nvPr/>
            </p:nvGrpSpPr>
            <p:grpSpPr>
              <a:xfrm>
                <a:off x="8358120" y="4997520"/>
                <a:ext cx="328320" cy="1481040"/>
                <a:chOff x="8358120" y="4997520"/>
                <a:chExt cx="328320" cy="148104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8358120" y="4997520"/>
                  <a:ext cx="328320" cy="776160"/>
                  <a:chOff x="8358120" y="4997520"/>
                  <a:chExt cx="328320" cy="77616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>
                    <a:off x="8358120" y="499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8358120" y="516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8358120" y="5349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8358120" y="5527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8358120" y="5706000"/>
                  <a:ext cx="328320" cy="772560"/>
                  <a:chOff x="8358120" y="5706000"/>
                  <a:chExt cx="328320" cy="77256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8358120" y="5706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8358120" y="5867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8358120" y="6055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8358120" y="6232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45" name=""/>
            <p:cNvGrpSpPr/>
            <p:nvPr/>
          </p:nvGrpSpPr>
          <p:grpSpPr>
            <a:xfrm>
              <a:off x="7467480" y="76320"/>
              <a:ext cx="328320" cy="6402240"/>
              <a:chOff x="7467480" y="76320"/>
              <a:chExt cx="328320" cy="640224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7467480" y="76320"/>
                <a:ext cx="328320" cy="1480680"/>
                <a:chOff x="7467480" y="76320"/>
                <a:chExt cx="328320" cy="1480680"/>
              </a:xfrm>
            </p:grpSpPr>
            <p:grpSp>
              <p:nvGrpSpPr>
                <p:cNvPr id="547" name=""/>
                <p:cNvGrpSpPr/>
                <p:nvPr/>
              </p:nvGrpSpPr>
              <p:grpSpPr>
                <a:xfrm>
                  <a:off x="7467480" y="76320"/>
                  <a:ext cx="328320" cy="775800"/>
                  <a:chOff x="7467480" y="76320"/>
                  <a:chExt cx="328320" cy="77580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7467480" y="76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7467480" y="237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467480" y="4284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467480" y="6058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467480" y="780120"/>
                  <a:ext cx="328320" cy="776880"/>
                  <a:chOff x="7467480" y="780120"/>
                  <a:chExt cx="328320" cy="77688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7467480" y="7801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7467480" y="9424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7467480" y="113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467480" y="131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7" name=""/>
              <p:cNvGrpSpPr/>
              <p:nvPr/>
            </p:nvGrpSpPr>
            <p:grpSpPr>
              <a:xfrm>
                <a:off x="7467480" y="1676520"/>
                <a:ext cx="328320" cy="1481040"/>
                <a:chOff x="7467480" y="1676520"/>
                <a:chExt cx="328320" cy="1481040"/>
              </a:xfrm>
            </p:grpSpPr>
            <p:grpSp>
              <p:nvGrpSpPr>
                <p:cNvPr id="558" name=""/>
                <p:cNvGrpSpPr/>
                <p:nvPr/>
              </p:nvGrpSpPr>
              <p:grpSpPr>
                <a:xfrm>
                  <a:off x="7467480" y="1676520"/>
                  <a:ext cx="328320" cy="776160"/>
                  <a:chOff x="7467480" y="1676520"/>
                  <a:chExt cx="328320" cy="77616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7467480" y="1676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7467480" y="1840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7467480" y="2028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467480" y="2206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7467480" y="2385000"/>
                  <a:ext cx="328320" cy="772560"/>
                  <a:chOff x="7467480" y="2385000"/>
                  <a:chExt cx="328320" cy="77256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7467480" y="2385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7467480" y="2546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7467480" y="2734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7467480" y="291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8" name=""/>
              <p:cNvGrpSpPr/>
              <p:nvPr/>
            </p:nvGrpSpPr>
            <p:grpSpPr>
              <a:xfrm>
                <a:off x="7467480" y="3321360"/>
                <a:ext cx="328320" cy="1480680"/>
                <a:chOff x="7467480" y="3321360"/>
                <a:chExt cx="328320" cy="1480680"/>
              </a:xfrm>
            </p:grpSpPr>
            <p:grpSp>
              <p:nvGrpSpPr>
                <p:cNvPr id="569" name=""/>
                <p:cNvGrpSpPr/>
                <p:nvPr/>
              </p:nvGrpSpPr>
              <p:grpSpPr>
                <a:xfrm>
                  <a:off x="7467480" y="3321360"/>
                  <a:ext cx="328320" cy="775800"/>
                  <a:chOff x="7467480" y="3321360"/>
                  <a:chExt cx="328320" cy="77580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>
                    <a:off x="7467480" y="33213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7467480" y="34826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7467480" y="3673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7467480" y="3850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7467480" y="4025160"/>
                  <a:ext cx="328320" cy="776880"/>
                  <a:chOff x="7467480" y="4025160"/>
                  <a:chExt cx="328320" cy="77688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7467480" y="40251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7467480" y="418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7467480" y="437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7467480" y="455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9" name=""/>
              <p:cNvGrpSpPr/>
              <p:nvPr/>
            </p:nvGrpSpPr>
            <p:grpSpPr>
              <a:xfrm>
                <a:off x="7467480" y="4997520"/>
                <a:ext cx="328320" cy="1481040"/>
                <a:chOff x="7467480" y="4997520"/>
                <a:chExt cx="328320" cy="1481040"/>
              </a:xfrm>
            </p:grpSpPr>
            <p:grpSp>
              <p:nvGrpSpPr>
                <p:cNvPr id="580" name=""/>
                <p:cNvGrpSpPr/>
                <p:nvPr/>
              </p:nvGrpSpPr>
              <p:grpSpPr>
                <a:xfrm>
                  <a:off x="7467480" y="4997520"/>
                  <a:ext cx="328320" cy="776160"/>
                  <a:chOff x="7467480" y="4997520"/>
                  <a:chExt cx="328320" cy="77616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7467480" y="499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7467480" y="516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7467480" y="5349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7467480" y="5527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7467480" y="5706000"/>
                  <a:ext cx="328320" cy="772560"/>
                  <a:chOff x="7467480" y="5706000"/>
                  <a:chExt cx="328320" cy="772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7467480" y="5706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7467480" y="5867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7467480" y="6055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7467480" y="6232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mc:AlternateContent>
          <mc:Choice xmlns:a14="http://schemas.microsoft.com/office/drawing/2010/main" Requires="a14">
            <p:sp>
              <p:nvSpPr>
                <p:cNvPr id="590" name=""/>
                <p:cNvSpPr txBox="1"/>
                <p:nvPr/>
              </p:nvSpPr>
              <p:spPr>
                <a:xfrm>
                  <a:off x="7924680" y="6500880"/>
                  <a:ext cx="31140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91" name=""/>
            <p:cNvGrpSpPr/>
            <p:nvPr/>
          </p:nvGrpSpPr>
          <p:grpSpPr>
            <a:xfrm>
              <a:off x="533160" y="151920"/>
              <a:ext cx="1827720" cy="6248520"/>
              <a:chOff x="533160" y="151920"/>
              <a:chExt cx="1827720" cy="624852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160" y="151920"/>
                <a:ext cx="1827720" cy="1295280"/>
                <a:chOff x="533160" y="151920"/>
                <a:chExt cx="1827720" cy="1295280"/>
              </a:xfrm>
            </p:grpSpPr>
            <p:grpSp>
              <p:nvGrpSpPr>
                <p:cNvPr id="593" name=""/>
                <p:cNvGrpSpPr/>
                <p:nvPr/>
              </p:nvGrpSpPr>
              <p:grpSpPr>
                <a:xfrm>
                  <a:off x="1143000" y="151920"/>
                  <a:ext cx="1217880" cy="1294920"/>
                  <a:chOff x="1143000" y="151920"/>
                  <a:chExt cx="1217880" cy="1294920"/>
                </a:xfrm>
              </p:grpSpPr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1752120" y="151920"/>
                    <a:ext cx="608760" cy="1294200"/>
                    <a:chOff x="1752120" y="151920"/>
                    <a:chExt cx="608760" cy="1294200"/>
                  </a:xfrm>
                </p:grpSpPr>
                <p:grpSp>
                  <p:nvGrpSpPr>
                    <p:cNvPr id="595" name=""/>
                    <p:cNvGrpSpPr/>
                    <p:nvPr/>
                  </p:nvGrpSpPr>
                  <p:grpSpPr>
                    <a:xfrm>
                      <a:off x="1752120" y="151920"/>
                      <a:ext cx="608760" cy="185040"/>
                      <a:chOff x="1752120" y="151920"/>
                      <a:chExt cx="608760" cy="185040"/>
                    </a:xfrm>
                  </p:grpSpPr>
                  <p:sp>
                    <p:nvSpPr>
                      <p:cNvPr id="596" name=""/>
                      <p:cNvSpPr/>
                      <p:nvPr/>
                    </p:nvSpPr>
                    <p:spPr>
                      <a:xfrm>
                        <a:off x="1752120" y="15228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"/>
                      <p:cNvSpPr/>
                      <p:nvPr/>
                    </p:nvSpPr>
                    <p:spPr>
                      <a:xfrm>
                        <a:off x="1752120" y="33696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"/>
                      <p:cNvSpPr/>
                      <p:nvPr/>
                    </p:nvSpPr>
                    <p:spPr>
                      <a:xfrm>
                        <a:off x="1752120" y="15228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 flipV="1">
                        <a:off x="1752120" y="15192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0" name=""/>
                    <p:cNvGrpSpPr/>
                    <p:nvPr/>
                  </p:nvGrpSpPr>
                  <p:grpSpPr>
                    <a:xfrm>
                      <a:off x="1752120" y="522000"/>
                      <a:ext cx="608760" cy="184320"/>
                      <a:chOff x="1752120" y="522000"/>
                      <a:chExt cx="608760" cy="184320"/>
                    </a:xfrm>
                  </p:grpSpPr>
                  <p:sp>
                    <p:nvSpPr>
                      <p:cNvPr id="601" name=""/>
                      <p:cNvSpPr/>
                      <p:nvPr/>
                    </p:nvSpPr>
                    <p:spPr>
                      <a:xfrm>
                        <a:off x="1752120" y="52200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"/>
                      <p:cNvSpPr/>
                      <p:nvPr/>
                    </p:nvSpPr>
                    <p:spPr>
                      <a:xfrm>
                        <a:off x="1752120" y="70632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" name=""/>
                      <p:cNvSpPr/>
                      <p:nvPr/>
                    </p:nvSpPr>
                    <p:spPr>
                      <a:xfrm>
                        <a:off x="1752120" y="52200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"/>
                      <p:cNvSpPr/>
                      <p:nvPr/>
                    </p:nvSpPr>
                    <p:spPr>
                      <a:xfrm flipV="1">
                        <a:off x="1752120" y="52200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5" name=""/>
                    <p:cNvGrpSpPr/>
                    <p:nvPr/>
                  </p:nvGrpSpPr>
                  <p:grpSpPr>
                    <a:xfrm>
                      <a:off x="1752120" y="892080"/>
                      <a:ext cx="608760" cy="184320"/>
                      <a:chOff x="1752120" y="892080"/>
                      <a:chExt cx="608760" cy="184320"/>
                    </a:xfrm>
                  </p:grpSpPr>
                  <p:sp>
                    <p:nvSpPr>
                      <p:cNvPr id="606" name=""/>
                      <p:cNvSpPr/>
                      <p:nvPr/>
                    </p:nvSpPr>
                    <p:spPr>
                      <a:xfrm>
                        <a:off x="1752120" y="89208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"/>
                      <p:cNvSpPr/>
                      <p:nvPr/>
                    </p:nvSpPr>
                    <p:spPr>
                      <a:xfrm>
                        <a:off x="1752120" y="107640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8" name=""/>
                      <p:cNvSpPr/>
                      <p:nvPr/>
                    </p:nvSpPr>
                    <p:spPr>
                      <a:xfrm>
                        <a:off x="1752120" y="89208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9" name=""/>
                      <p:cNvSpPr/>
                      <p:nvPr/>
                    </p:nvSpPr>
                    <p:spPr>
                      <a:xfrm flipV="1">
                        <a:off x="1752120" y="89208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0" name=""/>
                    <p:cNvGrpSpPr/>
                    <p:nvPr/>
                  </p:nvGrpSpPr>
                  <p:grpSpPr>
                    <a:xfrm>
                      <a:off x="1752120" y="1261080"/>
                      <a:ext cx="608760" cy="185040"/>
                      <a:chOff x="1752120" y="1261080"/>
                      <a:chExt cx="608760" cy="185040"/>
                    </a:xfrm>
                  </p:grpSpPr>
                  <p:sp>
                    <p:nvSpPr>
                      <p:cNvPr id="611" name=""/>
                      <p:cNvSpPr/>
                      <p:nvPr/>
                    </p:nvSpPr>
                    <p:spPr>
                      <a:xfrm>
                        <a:off x="1752120" y="126144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" name=""/>
                      <p:cNvSpPr/>
                      <p:nvPr/>
                    </p:nvSpPr>
                    <p:spPr>
                      <a:xfrm>
                        <a:off x="1752120" y="144612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"/>
                      <p:cNvSpPr/>
                      <p:nvPr/>
                    </p:nvSpPr>
                    <p:spPr>
                      <a:xfrm>
                        <a:off x="1752120" y="126144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"/>
                      <p:cNvSpPr/>
                      <p:nvPr/>
                    </p:nvSpPr>
                    <p:spPr>
                      <a:xfrm flipV="1">
                        <a:off x="1752120" y="126108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15" name=""/>
                  <p:cNvSpPr/>
                  <p:nvPr/>
                </p:nvSpPr>
                <p:spPr>
                  <a:xfrm flipH="1">
                    <a:off x="1143000" y="15228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1143000" y="33732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1143000" y="5220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1143000" y="70704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1143000" y="89208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1143000" y="107676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1143000" y="12618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>
                    <a:off x="1143000" y="144684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 flipV="1">
                    <a:off x="1143000" y="15192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 flipV="1">
                    <a:off x="1143000" y="33732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 flipV="1">
                    <a:off x="1143000" y="89208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 flipV="1">
                    <a:off x="1143000" y="107640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V="1">
                    <a:off x="1143000" y="15192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V="1">
                    <a:off x="1143000" y="33732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V="1">
                    <a:off x="1143000" y="89208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V="1">
                    <a:off x="1143000" y="107640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"/>
                <p:cNvSpPr/>
                <p:nvPr/>
              </p:nvSpPr>
              <p:spPr>
                <a:xfrm>
                  <a:off x="533520" y="1522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33520" y="3373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33520" y="52236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33520" y="7070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33520" y="8924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33520" y="10771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33520" y="126216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33520" y="14472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H="1">
                  <a:off x="533160" y="15228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>
                  <a:off x="533160" y="33732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>
                  <a:off x="533160" y="52236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>
                  <a:off x="533160" y="70704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33520" y="15228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33520" y="33732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33520" y="52236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33520" y="70704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33160" y="3428640"/>
                <a:ext cx="1827720" cy="1295280"/>
                <a:chOff x="533160" y="3428640"/>
                <a:chExt cx="1827720" cy="129528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1143000" y="3428640"/>
                  <a:ext cx="1217880" cy="1294920"/>
                  <a:chOff x="1143000" y="3428640"/>
                  <a:chExt cx="1217880" cy="1294920"/>
                </a:xfrm>
              </p:grpSpPr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1752120" y="3428640"/>
                    <a:ext cx="608760" cy="1294200"/>
                    <a:chOff x="1752120" y="3428640"/>
                    <a:chExt cx="608760" cy="1294200"/>
                  </a:xfrm>
                </p:grpSpPr>
                <p:grpSp>
                  <p:nvGrpSpPr>
                    <p:cNvPr id="650" name=""/>
                    <p:cNvGrpSpPr/>
                    <p:nvPr/>
                  </p:nvGrpSpPr>
                  <p:grpSpPr>
                    <a:xfrm>
                      <a:off x="1752120" y="3428640"/>
                      <a:ext cx="608760" cy="185040"/>
                      <a:chOff x="1752120" y="3428640"/>
                      <a:chExt cx="608760" cy="185040"/>
                    </a:xfrm>
                  </p:grpSpPr>
                  <p:sp>
                    <p:nvSpPr>
                      <p:cNvPr id="651" name=""/>
                      <p:cNvSpPr/>
                      <p:nvPr/>
                    </p:nvSpPr>
                    <p:spPr>
                      <a:xfrm>
                        <a:off x="1752120" y="342900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2" name=""/>
                      <p:cNvSpPr/>
                      <p:nvPr/>
                    </p:nvSpPr>
                    <p:spPr>
                      <a:xfrm>
                        <a:off x="1752120" y="361368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3" name=""/>
                      <p:cNvSpPr/>
                      <p:nvPr/>
                    </p:nvSpPr>
                    <p:spPr>
                      <a:xfrm>
                        <a:off x="1752120" y="342900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4" name=""/>
                      <p:cNvSpPr/>
                      <p:nvPr/>
                    </p:nvSpPr>
                    <p:spPr>
                      <a:xfrm flipV="1">
                        <a:off x="1752120" y="342864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55" name=""/>
                    <p:cNvGrpSpPr/>
                    <p:nvPr/>
                  </p:nvGrpSpPr>
                  <p:grpSpPr>
                    <a:xfrm>
                      <a:off x="1752120" y="3798720"/>
                      <a:ext cx="608760" cy="184320"/>
                      <a:chOff x="1752120" y="3798720"/>
                      <a:chExt cx="608760" cy="184320"/>
                    </a:xfrm>
                  </p:grpSpPr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1752120" y="379872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7" name=""/>
                      <p:cNvSpPr/>
                      <p:nvPr/>
                    </p:nvSpPr>
                    <p:spPr>
                      <a:xfrm>
                        <a:off x="1752120" y="398304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8" name=""/>
                      <p:cNvSpPr/>
                      <p:nvPr/>
                    </p:nvSpPr>
                    <p:spPr>
                      <a:xfrm>
                        <a:off x="1752120" y="379872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9" name=""/>
                      <p:cNvSpPr/>
                      <p:nvPr/>
                    </p:nvSpPr>
                    <p:spPr>
                      <a:xfrm flipV="1">
                        <a:off x="1752120" y="379872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0" name=""/>
                    <p:cNvGrpSpPr/>
                    <p:nvPr/>
                  </p:nvGrpSpPr>
                  <p:grpSpPr>
                    <a:xfrm>
                      <a:off x="1752120" y="4168800"/>
                      <a:ext cx="608760" cy="184320"/>
                      <a:chOff x="1752120" y="4168800"/>
                      <a:chExt cx="608760" cy="184320"/>
                    </a:xfrm>
                  </p:grpSpPr>
                  <p:sp>
                    <p:nvSpPr>
                      <p:cNvPr id="661" name=""/>
                      <p:cNvSpPr/>
                      <p:nvPr/>
                    </p:nvSpPr>
                    <p:spPr>
                      <a:xfrm>
                        <a:off x="1752120" y="416880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2" name=""/>
                      <p:cNvSpPr/>
                      <p:nvPr/>
                    </p:nvSpPr>
                    <p:spPr>
                      <a:xfrm>
                        <a:off x="1752120" y="435312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3" name=""/>
                      <p:cNvSpPr/>
                      <p:nvPr/>
                    </p:nvSpPr>
                    <p:spPr>
                      <a:xfrm>
                        <a:off x="1752120" y="416880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4" name=""/>
                      <p:cNvSpPr/>
                      <p:nvPr/>
                    </p:nvSpPr>
                    <p:spPr>
                      <a:xfrm flipV="1">
                        <a:off x="1752120" y="416880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5" name=""/>
                    <p:cNvGrpSpPr/>
                    <p:nvPr/>
                  </p:nvGrpSpPr>
                  <p:grpSpPr>
                    <a:xfrm>
                      <a:off x="1752120" y="4537800"/>
                      <a:ext cx="608760" cy="185040"/>
                      <a:chOff x="1752120" y="4537800"/>
                      <a:chExt cx="608760" cy="185040"/>
                    </a:xfrm>
                  </p:grpSpPr>
                  <p:sp>
                    <p:nvSpPr>
                      <p:cNvPr id="666" name=""/>
                      <p:cNvSpPr/>
                      <p:nvPr/>
                    </p:nvSpPr>
                    <p:spPr>
                      <a:xfrm>
                        <a:off x="1752120" y="453816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7" name=""/>
                      <p:cNvSpPr/>
                      <p:nvPr/>
                    </p:nvSpPr>
                    <p:spPr>
                      <a:xfrm>
                        <a:off x="1752120" y="472284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8" name=""/>
                      <p:cNvSpPr/>
                      <p:nvPr/>
                    </p:nvSpPr>
                    <p:spPr>
                      <a:xfrm>
                        <a:off x="1752120" y="453816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9" name=""/>
                      <p:cNvSpPr/>
                      <p:nvPr/>
                    </p:nvSpPr>
                    <p:spPr>
                      <a:xfrm flipV="1">
                        <a:off x="1752120" y="453780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70" name=""/>
                  <p:cNvSpPr/>
                  <p:nvPr/>
                </p:nvSpPr>
                <p:spPr>
                  <a:xfrm flipH="1">
                    <a:off x="1143000" y="34290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H="1">
                    <a:off x="1143000" y="361404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H="1">
                    <a:off x="1143000" y="379872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H="1">
                    <a:off x="1143000" y="398376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H="1">
                    <a:off x="1143000" y="41688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>
                    <a:off x="1143000" y="435348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>
                    <a:off x="1143000" y="453852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>
                    <a:off x="1143000" y="472356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 flipV="1">
                    <a:off x="1143000" y="342864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H="1" flipV="1">
                    <a:off x="1143000" y="361404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H="1" flipV="1">
                    <a:off x="1143000" y="416880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 flipV="1">
                    <a:off x="1143000" y="435312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V="1">
                    <a:off x="1143000" y="342864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V="1">
                    <a:off x="1143000" y="361404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V="1">
                    <a:off x="1143000" y="416880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V="1">
                    <a:off x="1143000" y="435312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6" name=""/>
                <p:cNvSpPr/>
                <p:nvPr/>
              </p:nvSpPr>
              <p:spPr>
                <a:xfrm>
                  <a:off x="533520" y="34290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3520" y="36140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33520" y="37990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33520" y="398376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33520" y="416916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33520" y="43538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33520" y="45388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33520" y="47239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H="1">
                  <a:off x="533160" y="342900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H="1">
                  <a:off x="533160" y="361404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H="1">
                  <a:off x="533160" y="379908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H="1">
                  <a:off x="533160" y="398376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33520" y="342900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33520" y="361404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33520" y="379908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33520" y="398376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533160" y="1752120"/>
                <a:ext cx="1827720" cy="1295280"/>
                <a:chOff x="533160" y="1752120"/>
                <a:chExt cx="1827720" cy="1295280"/>
              </a:xfrm>
            </p:grpSpPr>
            <p:grpSp>
              <p:nvGrpSpPr>
                <p:cNvPr id="703" name=""/>
                <p:cNvGrpSpPr/>
                <p:nvPr/>
              </p:nvGrpSpPr>
              <p:grpSpPr>
                <a:xfrm>
                  <a:off x="1143000" y="1752120"/>
                  <a:ext cx="1217880" cy="1294920"/>
                  <a:chOff x="1143000" y="1752120"/>
                  <a:chExt cx="1217880" cy="1294920"/>
                </a:xfrm>
              </p:grpSpPr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1752120" y="1752120"/>
                    <a:ext cx="608760" cy="1294200"/>
                    <a:chOff x="1752120" y="1752120"/>
                    <a:chExt cx="608760" cy="1294200"/>
                  </a:xfrm>
                </p:grpSpPr>
                <p:grpSp>
                  <p:nvGrpSpPr>
                    <p:cNvPr id="705" name=""/>
                    <p:cNvGrpSpPr/>
                    <p:nvPr/>
                  </p:nvGrpSpPr>
                  <p:grpSpPr>
                    <a:xfrm>
                      <a:off x="1752120" y="1752120"/>
                      <a:ext cx="608760" cy="185040"/>
                      <a:chOff x="1752120" y="1752120"/>
                      <a:chExt cx="608760" cy="185040"/>
                    </a:xfrm>
                  </p:grpSpPr>
                  <p:sp>
                    <p:nvSpPr>
                      <p:cNvPr id="706" name=""/>
                      <p:cNvSpPr/>
                      <p:nvPr/>
                    </p:nvSpPr>
                    <p:spPr>
                      <a:xfrm>
                        <a:off x="1752120" y="175248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1752120" y="193716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>
                        <a:off x="1752120" y="175248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9" name=""/>
                      <p:cNvSpPr/>
                      <p:nvPr/>
                    </p:nvSpPr>
                    <p:spPr>
                      <a:xfrm flipV="1">
                        <a:off x="1752120" y="175212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0" name=""/>
                    <p:cNvGrpSpPr/>
                    <p:nvPr/>
                  </p:nvGrpSpPr>
                  <p:grpSpPr>
                    <a:xfrm>
                      <a:off x="1752120" y="2122200"/>
                      <a:ext cx="608760" cy="184320"/>
                      <a:chOff x="1752120" y="2122200"/>
                      <a:chExt cx="608760" cy="184320"/>
                    </a:xfrm>
                  </p:grpSpPr>
                  <p:sp>
                    <p:nvSpPr>
                      <p:cNvPr id="711" name=""/>
                      <p:cNvSpPr/>
                      <p:nvPr/>
                    </p:nvSpPr>
                    <p:spPr>
                      <a:xfrm>
                        <a:off x="1752120" y="212220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"/>
                      <p:cNvSpPr/>
                      <p:nvPr/>
                    </p:nvSpPr>
                    <p:spPr>
                      <a:xfrm>
                        <a:off x="1752120" y="230652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"/>
                      <p:cNvSpPr/>
                      <p:nvPr/>
                    </p:nvSpPr>
                    <p:spPr>
                      <a:xfrm>
                        <a:off x="1752120" y="212220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"/>
                      <p:cNvSpPr/>
                      <p:nvPr/>
                    </p:nvSpPr>
                    <p:spPr>
                      <a:xfrm flipV="1">
                        <a:off x="1752120" y="212220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5" name=""/>
                    <p:cNvGrpSpPr/>
                    <p:nvPr/>
                  </p:nvGrpSpPr>
                  <p:grpSpPr>
                    <a:xfrm>
                      <a:off x="1752120" y="2492280"/>
                      <a:ext cx="608760" cy="184320"/>
                      <a:chOff x="1752120" y="2492280"/>
                      <a:chExt cx="608760" cy="184320"/>
                    </a:xfrm>
                  </p:grpSpPr>
                  <p:sp>
                    <p:nvSpPr>
                      <p:cNvPr id="716" name=""/>
                      <p:cNvSpPr/>
                      <p:nvPr/>
                    </p:nvSpPr>
                    <p:spPr>
                      <a:xfrm>
                        <a:off x="1752120" y="249228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"/>
                      <p:cNvSpPr/>
                      <p:nvPr/>
                    </p:nvSpPr>
                    <p:spPr>
                      <a:xfrm>
                        <a:off x="1752120" y="267660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"/>
                      <p:cNvSpPr/>
                      <p:nvPr/>
                    </p:nvSpPr>
                    <p:spPr>
                      <a:xfrm>
                        <a:off x="1752120" y="249228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"/>
                      <p:cNvSpPr/>
                      <p:nvPr/>
                    </p:nvSpPr>
                    <p:spPr>
                      <a:xfrm flipV="1">
                        <a:off x="1752120" y="249228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0" name=""/>
                    <p:cNvGrpSpPr/>
                    <p:nvPr/>
                  </p:nvGrpSpPr>
                  <p:grpSpPr>
                    <a:xfrm>
                      <a:off x="1752120" y="2861280"/>
                      <a:ext cx="608760" cy="185040"/>
                      <a:chOff x="1752120" y="2861280"/>
                      <a:chExt cx="608760" cy="185040"/>
                    </a:xfrm>
                  </p:grpSpPr>
                  <p:sp>
                    <p:nvSpPr>
                      <p:cNvPr id="721" name=""/>
                      <p:cNvSpPr/>
                      <p:nvPr/>
                    </p:nvSpPr>
                    <p:spPr>
                      <a:xfrm>
                        <a:off x="1752120" y="286164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2" name=""/>
                      <p:cNvSpPr/>
                      <p:nvPr/>
                    </p:nvSpPr>
                    <p:spPr>
                      <a:xfrm>
                        <a:off x="1752120" y="304632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3" name=""/>
                      <p:cNvSpPr/>
                      <p:nvPr/>
                    </p:nvSpPr>
                    <p:spPr>
                      <a:xfrm>
                        <a:off x="1752120" y="286164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"/>
                      <p:cNvSpPr/>
                      <p:nvPr/>
                    </p:nvSpPr>
                    <p:spPr>
                      <a:xfrm flipV="1">
                        <a:off x="1752120" y="286128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25" name=""/>
                  <p:cNvSpPr/>
                  <p:nvPr/>
                </p:nvSpPr>
                <p:spPr>
                  <a:xfrm flipH="1">
                    <a:off x="1143000" y="175248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>
                    <a:off x="1143000" y="193752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H="1">
                    <a:off x="1143000" y="21222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flipH="1">
                    <a:off x="1143000" y="230724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H="1">
                    <a:off x="1143000" y="249228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 flipH="1">
                    <a:off x="1143000" y="267696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flipH="1">
                    <a:off x="1143000" y="28620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H="1">
                    <a:off x="1143000" y="304704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flipH="1" flipV="1">
                    <a:off x="1143000" y="175212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flipH="1" flipV="1">
                    <a:off x="1143000" y="193752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flipH="1" flipV="1">
                    <a:off x="1143000" y="249228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 flipH="1" flipV="1">
                    <a:off x="1143000" y="267660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V="1">
                    <a:off x="1143000" y="175212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flipV="1">
                    <a:off x="1143000" y="193752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flipV="1">
                    <a:off x="1143000" y="249228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flipV="1">
                    <a:off x="1143000" y="267660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1" name=""/>
                <p:cNvSpPr/>
                <p:nvPr/>
              </p:nvSpPr>
              <p:spPr>
                <a:xfrm>
                  <a:off x="533520" y="17524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33520" y="19375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33520" y="212256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33520" y="23072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33520" y="24926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33520" y="26773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33520" y="286236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33520" y="30474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H="1">
                  <a:off x="533160" y="175248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H="1">
                  <a:off x="533160" y="193752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H="1">
                  <a:off x="533160" y="212256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>
                  <a:off x="533160" y="230724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33520" y="175248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33520" y="193752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33520" y="212256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33520" y="230724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533160" y="5104800"/>
                <a:ext cx="1827720" cy="1295640"/>
                <a:chOff x="533160" y="5104800"/>
                <a:chExt cx="1827720" cy="1295640"/>
              </a:xfrm>
            </p:grpSpPr>
            <p:grpSp>
              <p:nvGrpSpPr>
                <p:cNvPr id="758" name=""/>
                <p:cNvGrpSpPr/>
                <p:nvPr/>
              </p:nvGrpSpPr>
              <p:grpSpPr>
                <a:xfrm>
                  <a:off x="1143000" y="5104800"/>
                  <a:ext cx="1217880" cy="1295280"/>
                  <a:chOff x="1143000" y="5104800"/>
                  <a:chExt cx="1217880" cy="1295280"/>
                </a:xfrm>
              </p:grpSpPr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1752120" y="5104800"/>
                    <a:ext cx="608760" cy="1294560"/>
                    <a:chOff x="1752120" y="5104800"/>
                    <a:chExt cx="608760" cy="1294560"/>
                  </a:xfrm>
                </p:grpSpPr>
                <p:grpSp>
                  <p:nvGrpSpPr>
                    <p:cNvPr id="760" name=""/>
                    <p:cNvGrpSpPr/>
                    <p:nvPr/>
                  </p:nvGrpSpPr>
                  <p:grpSpPr>
                    <a:xfrm>
                      <a:off x="1752120" y="5104800"/>
                      <a:ext cx="608760" cy="185040"/>
                      <a:chOff x="1752120" y="5104800"/>
                      <a:chExt cx="608760" cy="185040"/>
                    </a:xfrm>
                  </p:grpSpPr>
                  <p:sp>
                    <p:nvSpPr>
                      <p:cNvPr id="761" name=""/>
                      <p:cNvSpPr/>
                      <p:nvPr/>
                    </p:nvSpPr>
                    <p:spPr>
                      <a:xfrm>
                        <a:off x="1752120" y="510516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"/>
                      <p:cNvSpPr/>
                      <p:nvPr/>
                    </p:nvSpPr>
                    <p:spPr>
                      <a:xfrm>
                        <a:off x="1752120" y="528984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"/>
                      <p:cNvSpPr/>
                      <p:nvPr/>
                    </p:nvSpPr>
                    <p:spPr>
                      <a:xfrm>
                        <a:off x="1752120" y="510516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"/>
                      <p:cNvSpPr/>
                      <p:nvPr/>
                    </p:nvSpPr>
                    <p:spPr>
                      <a:xfrm flipV="1">
                        <a:off x="1752120" y="510480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"/>
                    <p:cNvGrpSpPr/>
                    <p:nvPr/>
                  </p:nvGrpSpPr>
                  <p:grpSpPr>
                    <a:xfrm>
                      <a:off x="1752120" y="5474880"/>
                      <a:ext cx="608760" cy="184320"/>
                      <a:chOff x="1752120" y="5474880"/>
                      <a:chExt cx="608760" cy="184320"/>
                    </a:xfrm>
                  </p:grpSpPr>
                  <p:sp>
                    <p:nvSpPr>
                      <p:cNvPr id="766" name=""/>
                      <p:cNvSpPr/>
                      <p:nvPr/>
                    </p:nvSpPr>
                    <p:spPr>
                      <a:xfrm>
                        <a:off x="1752120" y="547488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1752120" y="565920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1752120" y="547488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 flipV="1">
                        <a:off x="1752120" y="547488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0" name=""/>
                    <p:cNvGrpSpPr/>
                    <p:nvPr/>
                  </p:nvGrpSpPr>
                  <p:grpSpPr>
                    <a:xfrm>
                      <a:off x="1752120" y="5844960"/>
                      <a:ext cx="608760" cy="184320"/>
                      <a:chOff x="1752120" y="5844960"/>
                      <a:chExt cx="608760" cy="184320"/>
                    </a:xfrm>
                  </p:grpSpPr>
                  <p:sp>
                    <p:nvSpPr>
                      <p:cNvPr id="771" name=""/>
                      <p:cNvSpPr/>
                      <p:nvPr/>
                    </p:nvSpPr>
                    <p:spPr>
                      <a:xfrm>
                        <a:off x="1752120" y="584496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"/>
                      <p:cNvSpPr/>
                      <p:nvPr/>
                    </p:nvSpPr>
                    <p:spPr>
                      <a:xfrm>
                        <a:off x="1752120" y="602928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1752120" y="584496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 flipV="1">
                        <a:off x="1752120" y="584496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5" name=""/>
                    <p:cNvGrpSpPr/>
                    <p:nvPr/>
                  </p:nvGrpSpPr>
                  <p:grpSpPr>
                    <a:xfrm>
                      <a:off x="1752120" y="6214320"/>
                      <a:ext cx="608760" cy="185040"/>
                      <a:chOff x="1752120" y="6214320"/>
                      <a:chExt cx="608760" cy="185040"/>
                    </a:xfrm>
                  </p:grpSpPr>
                  <p:sp>
                    <p:nvSpPr>
                      <p:cNvPr id="776" name=""/>
                      <p:cNvSpPr/>
                      <p:nvPr/>
                    </p:nvSpPr>
                    <p:spPr>
                      <a:xfrm>
                        <a:off x="1752120" y="621468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7" name=""/>
                      <p:cNvSpPr/>
                      <p:nvPr/>
                    </p:nvSpPr>
                    <p:spPr>
                      <a:xfrm>
                        <a:off x="1752120" y="639936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8" name=""/>
                      <p:cNvSpPr/>
                      <p:nvPr/>
                    </p:nvSpPr>
                    <p:spPr>
                      <a:xfrm>
                        <a:off x="1752120" y="621468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9" name=""/>
                      <p:cNvSpPr/>
                      <p:nvPr/>
                    </p:nvSpPr>
                    <p:spPr>
                      <a:xfrm flipV="1">
                        <a:off x="1752120" y="621432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80" name=""/>
                  <p:cNvSpPr/>
                  <p:nvPr/>
                </p:nvSpPr>
                <p:spPr>
                  <a:xfrm flipH="1">
                    <a:off x="1143000" y="510516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>
                    <a:off x="1143000" y="52902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>
                    <a:off x="1143000" y="547524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H="1">
                    <a:off x="1143000" y="565992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>
                    <a:off x="1143000" y="584532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>
                    <a:off x="1143000" y="60300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>
                    <a:off x="1143000" y="621504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>
                    <a:off x="1143000" y="640008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 flipV="1">
                    <a:off x="1143000" y="5105160"/>
                    <a:ext cx="609120" cy="37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H="1" flipV="1">
                    <a:off x="1143000" y="529020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flipV="1">
                    <a:off x="1143000" y="584532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flipV="1">
                    <a:off x="1143000" y="6030000"/>
                    <a:ext cx="609120" cy="37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V="1">
                    <a:off x="1143000" y="5105160"/>
                    <a:ext cx="609120" cy="37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V="1">
                    <a:off x="1143000" y="529020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V="1">
                    <a:off x="1143000" y="584532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flipV="1">
                    <a:off x="1143000" y="6030000"/>
                    <a:ext cx="609120" cy="37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6" name=""/>
                <p:cNvSpPr/>
                <p:nvPr/>
              </p:nvSpPr>
              <p:spPr>
                <a:xfrm>
                  <a:off x="533520" y="510516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33520" y="52902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33520" y="54752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33520" y="56599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33520" y="58453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33520" y="603036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33520" y="62150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33520" y="64004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>
                  <a:off x="533160" y="510516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H="1">
                  <a:off x="533160" y="529020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H="1">
                  <a:off x="533160" y="547524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H="1">
                  <a:off x="533160" y="565992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33520" y="510516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33520" y="529020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33520" y="547524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33520" y="565992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2" name=""/>
            <p:cNvGrpSpPr/>
            <p:nvPr/>
          </p:nvGrpSpPr>
          <p:grpSpPr>
            <a:xfrm>
              <a:off x="7772040" y="533520"/>
              <a:ext cx="609480" cy="5104800"/>
              <a:chOff x="7772040" y="533520"/>
              <a:chExt cx="609480" cy="5104800"/>
            </a:xfrm>
          </p:grpSpPr>
          <p:sp>
            <p:nvSpPr>
              <p:cNvPr id="813" name=""/>
              <p:cNvSpPr/>
              <p:nvPr/>
            </p:nvSpPr>
            <p:spPr>
              <a:xfrm flipH="1" flipV="1">
                <a:off x="7772040" y="533520"/>
                <a:ext cx="60948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 flipV="1">
                <a:off x="7772040" y="761760"/>
                <a:ext cx="609480" cy="17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7772040" y="1904760"/>
                <a:ext cx="6094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 flipV="1">
                <a:off x="7772040" y="2361960"/>
                <a:ext cx="60948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7772040" y="2133360"/>
                <a:ext cx="60948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7772040" y="2895480"/>
                <a:ext cx="609480" cy="106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7772040" y="2361960"/>
                <a:ext cx="609480" cy="31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7772040" y="3047760"/>
                <a:ext cx="60948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228600" y="76320"/>
              <a:ext cx="328320" cy="6402240"/>
              <a:chOff x="228600" y="76320"/>
              <a:chExt cx="328320" cy="6402240"/>
            </a:xfrm>
          </p:grpSpPr>
          <p:grpSp>
            <p:nvGrpSpPr>
              <p:cNvPr id="822" name=""/>
              <p:cNvGrpSpPr/>
              <p:nvPr/>
            </p:nvGrpSpPr>
            <p:grpSpPr>
              <a:xfrm>
                <a:off x="228600" y="76320"/>
                <a:ext cx="328320" cy="1480680"/>
                <a:chOff x="228600" y="76320"/>
                <a:chExt cx="328320" cy="1480680"/>
              </a:xfrm>
            </p:grpSpPr>
            <p:grpSp>
              <p:nvGrpSpPr>
                <p:cNvPr id="823" name=""/>
                <p:cNvGrpSpPr/>
                <p:nvPr/>
              </p:nvGrpSpPr>
              <p:grpSpPr>
                <a:xfrm>
                  <a:off x="228600" y="76320"/>
                  <a:ext cx="328320" cy="775800"/>
                  <a:chOff x="228600" y="76320"/>
                  <a:chExt cx="328320" cy="77580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>
                    <a:off x="228600" y="76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28600" y="237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228600" y="4284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228600" y="6058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228600" y="780120"/>
                  <a:ext cx="328320" cy="776880"/>
                  <a:chOff x="228600" y="780120"/>
                  <a:chExt cx="328320" cy="77688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228600" y="7801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28600" y="9435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228600" y="113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28600" y="131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3" name=""/>
              <p:cNvGrpSpPr/>
              <p:nvPr/>
            </p:nvGrpSpPr>
            <p:grpSpPr>
              <a:xfrm>
                <a:off x="228600" y="1676520"/>
                <a:ext cx="328320" cy="1481040"/>
                <a:chOff x="228600" y="1676520"/>
                <a:chExt cx="328320" cy="1481040"/>
              </a:xfrm>
            </p:grpSpPr>
            <p:grpSp>
              <p:nvGrpSpPr>
                <p:cNvPr id="834" name=""/>
                <p:cNvGrpSpPr/>
                <p:nvPr/>
              </p:nvGrpSpPr>
              <p:grpSpPr>
                <a:xfrm>
                  <a:off x="228600" y="1676520"/>
                  <a:ext cx="328320" cy="776160"/>
                  <a:chOff x="228600" y="1676520"/>
                  <a:chExt cx="328320" cy="776160"/>
                </a:xfrm>
              </p:grpSpPr>
              <p:sp>
                <p:nvSpPr>
                  <p:cNvPr id="835" name=""/>
                  <p:cNvSpPr/>
                  <p:nvPr/>
                </p:nvSpPr>
                <p:spPr>
                  <a:xfrm>
                    <a:off x="228600" y="1676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228600" y="1840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28600" y="2028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228600" y="2206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9" name=""/>
                <p:cNvGrpSpPr/>
                <p:nvPr/>
              </p:nvGrpSpPr>
              <p:grpSpPr>
                <a:xfrm>
                  <a:off x="228600" y="2385000"/>
                  <a:ext cx="328320" cy="772560"/>
                  <a:chOff x="228600" y="2385000"/>
                  <a:chExt cx="328320" cy="77256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>
                    <a:off x="228600" y="2385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228600" y="2546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228600" y="2734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228600" y="291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4" name=""/>
              <p:cNvGrpSpPr/>
              <p:nvPr/>
            </p:nvGrpSpPr>
            <p:grpSpPr>
              <a:xfrm>
                <a:off x="228600" y="3321360"/>
                <a:ext cx="328320" cy="1480680"/>
                <a:chOff x="228600" y="3321360"/>
                <a:chExt cx="328320" cy="1480680"/>
              </a:xfrm>
            </p:grpSpPr>
            <p:grpSp>
              <p:nvGrpSpPr>
                <p:cNvPr id="845" name=""/>
                <p:cNvGrpSpPr/>
                <p:nvPr/>
              </p:nvGrpSpPr>
              <p:grpSpPr>
                <a:xfrm>
                  <a:off x="228600" y="3321360"/>
                  <a:ext cx="328320" cy="775800"/>
                  <a:chOff x="228600" y="3321360"/>
                  <a:chExt cx="328320" cy="77580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>
                    <a:off x="228600" y="33213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228600" y="34826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228600" y="3673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28600" y="3850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0" name=""/>
                <p:cNvGrpSpPr/>
                <p:nvPr/>
              </p:nvGrpSpPr>
              <p:grpSpPr>
                <a:xfrm>
                  <a:off x="228600" y="4025160"/>
                  <a:ext cx="328320" cy="776880"/>
                  <a:chOff x="228600" y="4025160"/>
                  <a:chExt cx="328320" cy="77688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228600" y="40251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228600" y="418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228600" y="437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28600" y="455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5" name=""/>
              <p:cNvGrpSpPr/>
              <p:nvPr/>
            </p:nvGrpSpPr>
            <p:grpSpPr>
              <a:xfrm>
                <a:off x="228600" y="4997520"/>
                <a:ext cx="328320" cy="1481040"/>
                <a:chOff x="228600" y="4997520"/>
                <a:chExt cx="328320" cy="1481040"/>
              </a:xfrm>
            </p:grpSpPr>
            <p:grpSp>
              <p:nvGrpSpPr>
                <p:cNvPr id="856" name=""/>
                <p:cNvGrpSpPr/>
                <p:nvPr/>
              </p:nvGrpSpPr>
              <p:grpSpPr>
                <a:xfrm>
                  <a:off x="228600" y="4997520"/>
                  <a:ext cx="328320" cy="776160"/>
                  <a:chOff x="228600" y="4997520"/>
                  <a:chExt cx="328320" cy="77616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>
                    <a:off x="228600" y="499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228600" y="516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228600" y="5349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228600" y="5527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1" name=""/>
                <p:cNvGrpSpPr/>
                <p:nvPr/>
              </p:nvGrpSpPr>
              <p:grpSpPr>
                <a:xfrm>
                  <a:off x="228600" y="5706000"/>
                  <a:ext cx="328320" cy="772560"/>
                  <a:chOff x="228600" y="5706000"/>
                  <a:chExt cx="328320" cy="772560"/>
                </a:xfrm>
              </p:grpSpPr>
              <p:sp>
                <p:nvSpPr>
                  <p:cNvPr id="862" name=""/>
                  <p:cNvSpPr/>
                  <p:nvPr/>
                </p:nvSpPr>
                <p:spPr>
                  <a:xfrm>
                    <a:off x="228600" y="5706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228600" y="5867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228600" y="6055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228600" y="6232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mc:AlternateContent>
          <mc:Choice xmlns:a14="http://schemas.microsoft.com/office/drawing/2010/main" Requires="a14">
            <p:sp>
              <p:nvSpPr>
                <p:cNvPr id="866" name=""/>
                <p:cNvSpPr txBox="1"/>
                <p:nvPr/>
              </p:nvSpPr>
              <p:spPr>
                <a:xfrm>
                  <a:off x="990720" y="6451560"/>
                  <a:ext cx="1676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⊗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867" name=""/>
            <p:cNvGrpSpPr/>
            <p:nvPr/>
          </p:nvGrpSpPr>
          <p:grpSpPr>
            <a:xfrm>
              <a:off x="3809880" y="140760"/>
              <a:ext cx="1217880" cy="6248520"/>
              <a:chOff x="3809880" y="140760"/>
              <a:chExt cx="1217880" cy="6248520"/>
            </a:xfrm>
          </p:grpSpPr>
          <p:grpSp>
            <p:nvGrpSpPr>
              <p:cNvPr id="868" name=""/>
              <p:cNvGrpSpPr/>
              <p:nvPr/>
            </p:nvGrpSpPr>
            <p:grpSpPr>
              <a:xfrm>
                <a:off x="3809880" y="140760"/>
                <a:ext cx="1217880" cy="1295640"/>
                <a:chOff x="3809880" y="140760"/>
                <a:chExt cx="1217880" cy="1295640"/>
              </a:xfrm>
            </p:grpSpPr>
            <p:grpSp>
              <p:nvGrpSpPr>
                <p:cNvPr id="869" name=""/>
                <p:cNvGrpSpPr/>
                <p:nvPr/>
              </p:nvGrpSpPr>
              <p:grpSpPr>
                <a:xfrm>
                  <a:off x="4419000" y="140760"/>
                  <a:ext cx="608760" cy="1294920"/>
                  <a:chOff x="4419000" y="140760"/>
                  <a:chExt cx="608760" cy="1294920"/>
                </a:xfrm>
              </p:grpSpPr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4419000" y="140760"/>
                    <a:ext cx="608760" cy="185040"/>
                    <a:chOff x="4419000" y="140760"/>
                    <a:chExt cx="608760" cy="185040"/>
                  </a:xfrm>
                </p:grpSpPr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4419000" y="14112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>
                      <a:off x="4419000" y="3258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>
                      <a:off x="4419000" y="14112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 flipV="1">
                      <a:off x="4419000" y="14076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5" name=""/>
                  <p:cNvGrpSpPr/>
                  <p:nvPr/>
                </p:nvGrpSpPr>
                <p:grpSpPr>
                  <a:xfrm>
                    <a:off x="4419000" y="511200"/>
                    <a:ext cx="608760" cy="184320"/>
                    <a:chOff x="4419000" y="511200"/>
                    <a:chExt cx="608760" cy="184320"/>
                  </a:xfrm>
                </p:grpSpPr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4419000" y="5112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>
                      <a:off x="4419000" y="69552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4419000" y="51120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 flipV="1">
                      <a:off x="4419000" y="51120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0" name=""/>
                  <p:cNvGrpSpPr/>
                  <p:nvPr/>
                </p:nvGrpSpPr>
                <p:grpSpPr>
                  <a:xfrm>
                    <a:off x="4419000" y="881280"/>
                    <a:ext cx="608760" cy="184320"/>
                    <a:chOff x="4419000" y="881280"/>
                    <a:chExt cx="608760" cy="184320"/>
                  </a:xfrm>
                </p:grpSpPr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4419000" y="88128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4419000" y="10656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4419000" y="88128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 flipV="1">
                      <a:off x="4419000" y="88128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5" name=""/>
                  <p:cNvGrpSpPr/>
                  <p:nvPr/>
                </p:nvGrpSpPr>
                <p:grpSpPr>
                  <a:xfrm>
                    <a:off x="4419000" y="1250640"/>
                    <a:ext cx="608760" cy="185040"/>
                    <a:chOff x="4419000" y="1250640"/>
                    <a:chExt cx="608760" cy="185040"/>
                  </a:xfrm>
                </p:grpSpPr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4419000" y="12510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4419000" y="143568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4419000" y="125100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 flipV="1">
                      <a:off x="4419000" y="125064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90" name=""/>
                <p:cNvSpPr/>
                <p:nvPr/>
              </p:nvSpPr>
              <p:spPr>
                <a:xfrm flipH="1">
                  <a:off x="3809880" y="14112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>
                  <a:off x="3809880" y="32616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>
                  <a:off x="3809880" y="5112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3809880" y="69588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>
                  <a:off x="3809880" y="88128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>
                  <a:off x="3809880" y="106632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>
                  <a:off x="3809880" y="12510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>
                  <a:off x="3809880" y="14364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flipV="1">
                  <a:off x="3809880" y="14112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 flipV="1">
                  <a:off x="3809880" y="325800"/>
                  <a:ext cx="60912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 flipV="1">
                  <a:off x="3809880" y="880920"/>
                  <a:ext cx="60912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 flipV="1">
                  <a:off x="3809880" y="106632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V="1">
                  <a:off x="3809880" y="14112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V="1">
                  <a:off x="3809880" y="325800"/>
                  <a:ext cx="60912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V="1">
                  <a:off x="3809880" y="880920"/>
                  <a:ext cx="60912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V="1">
                  <a:off x="3809880" y="106632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3809880" y="1740960"/>
                <a:ext cx="1217880" cy="1295640"/>
                <a:chOff x="3809880" y="1740960"/>
                <a:chExt cx="1217880" cy="1295640"/>
              </a:xfrm>
            </p:grpSpPr>
            <p:grpSp>
              <p:nvGrpSpPr>
                <p:cNvPr id="907" name=""/>
                <p:cNvGrpSpPr/>
                <p:nvPr/>
              </p:nvGrpSpPr>
              <p:grpSpPr>
                <a:xfrm>
                  <a:off x="4419000" y="1740960"/>
                  <a:ext cx="608760" cy="1294920"/>
                  <a:chOff x="4419000" y="1740960"/>
                  <a:chExt cx="608760" cy="1294920"/>
                </a:xfrm>
              </p:grpSpPr>
              <p:grpSp>
                <p:nvGrpSpPr>
                  <p:cNvPr id="908" name=""/>
                  <p:cNvGrpSpPr/>
                  <p:nvPr/>
                </p:nvGrpSpPr>
                <p:grpSpPr>
                  <a:xfrm>
                    <a:off x="4419000" y="1740960"/>
                    <a:ext cx="608760" cy="185040"/>
                    <a:chOff x="4419000" y="1740960"/>
                    <a:chExt cx="608760" cy="185040"/>
                  </a:xfrm>
                </p:grpSpPr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4419000" y="174132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4419000" y="19260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4419000" y="174132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 flipV="1">
                      <a:off x="4419000" y="174096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3" name=""/>
                  <p:cNvGrpSpPr/>
                  <p:nvPr/>
                </p:nvGrpSpPr>
                <p:grpSpPr>
                  <a:xfrm>
                    <a:off x="4419000" y="2111400"/>
                    <a:ext cx="608760" cy="184320"/>
                    <a:chOff x="4419000" y="2111400"/>
                    <a:chExt cx="608760" cy="184320"/>
                  </a:xfrm>
                </p:grpSpPr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4419000" y="21114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4419000" y="229572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4419000" y="211140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 flipV="1">
                      <a:off x="4419000" y="211140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8" name=""/>
                  <p:cNvGrpSpPr/>
                  <p:nvPr/>
                </p:nvGrpSpPr>
                <p:grpSpPr>
                  <a:xfrm>
                    <a:off x="4419000" y="2481480"/>
                    <a:ext cx="608760" cy="184320"/>
                    <a:chOff x="4419000" y="2481480"/>
                    <a:chExt cx="608760" cy="184320"/>
                  </a:xfrm>
                </p:grpSpPr>
                <p:sp>
                  <p:nvSpPr>
                    <p:cNvPr id="919" name=""/>
                    <p:cNvSpPr/>
                    <p:nvPr/>
                  </p:nvSpPr>
                  <p:spPr>
                    <a:xfrm>
                      <a:off x="4419000" y="248148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4419000" y="26658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4419000" y="248148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 flipV="1">
                      <a:off x="4419000" y="248148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3" name=""/>
                  <p:cNvGrpSpPr/>
                  <p:nvPr/>
                </p:nvGrpSpPr>
                <p:grpSpPr>
                  <a:xfrm>
                    <a:off x="4419000" y="2850840"/>
                    <a:ext cx="608760" cy="185040"/>
                    <a:chOff x="4419000" y="2850840"/>
                    <a:chExt cx="608760" cy="185040"/>
                  </a:xfrm>
                </p:grpSpPr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4419000" y="28512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4419000" y="303588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>
                      <a:off x="4419000" y="285120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 flipV="1">
                      <a:off x="4419000" y="285084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28" name=""/>
                <p:cNvSpPr/>
                <p:nvPr/>
              </p:nvSpPr>
              <p:spPr>
                <a:xfrm flipH="1">
                  <a:off x="3809880" y="174132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>
                  <a:off x="3809880" y="192636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>
                  <a:off x="3809880" y="21114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3809880" y="229608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>
                  <a:off x="3809880" y="248148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>
                  <a:off x="3809880" y="266652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H="1">
                  <a:off x="3809880" y="28512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>
                  <a:off x="3809880" y="30366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 flipV="1">
                  <a:off x="3809880" y="174132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 flipV="1">
                  <a:off x="3809880" y="1926000"/>
                  <a:ext cx="60912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 flipV="1">
                  <a:off x="3809880" y="2481120"/>
                  <a:ext cx="60912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 flipV="1">
                  <a:off x="3809880" y="266652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V="1">
                  <a:off x="3809880" y="174132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V="1">
                  <a:off x="3809880" y="1926000"/>
                  <a:ext cx="60912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V="1">
                  <a:off x="3809880" y="2481120"/>
                  <a:ext cx="60912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V="1">
                  <a:off x="3809880" y="266652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3809880" y="3417480"/>
                <a:ext cx="1217880" cy="1295280"/>
                <a:chOff x="3809880" y="3417480"/>
                <a:chExt cx="1217880" cy="1295280"/>
              </a:xfrm>
            </p:grpSpPr>
            <p:grpSp>
              <p:nvGrpSpPr>
                <p:cNvPr id="945" name=""/>
                <p:cNvGrpSpPr/>
                <p:nvPr/>
              </p:nvGrpSpPr>
              <p:grpSpPr>
                <a:xfrm>
                  <a:off x="4419000" y="3417480"/>
                  <a:ext cx="608760" cy="1294560"/>
                  <a:chOff x="4419000" y="3417480"/>
                  <a:chExt cx="608760" cy="1294560"/>
                </a:xfrm>
              </p:grpSpPr>
              <p:grpSp>
                <p:nvGrpSpPr>
                  <p:cNvPr id="946" name=""/>
                  <p:cNvGrpSpPr/>
                  <p:nvPr/>
                </p:nvGrpSpPr>
                <p:grpSpPr>
                  <a:xfrm>
                    <a:off x="4419000" y="3417480"/>
                    <a:ext cx="608760" cy="185040"/>
                    <a:chOff x="4419000" y="3417480"/>
                    <a:chExt cx="608760" cy="185040"/>
                  </a:xfrm>
                </p:grpSpPr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4419000" y="341784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4419000" y="360252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4419000" y="341784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 flipV="1">
                      <a:off x="4419000" y="341748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4419000" y="3787560"/>
                    <a:ext cx="608760" cy="184320"/>
                    <a:chOff x="4419000" y="3787560"/>
                    <a:chExt cx="608760" cy="184320"/>
                  </a:xfrm>
                </p:grpSpPr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4419000" y="378756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4419000" y="397188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4419000" y="378756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 flipV="1">
                      <a:off x="4419000" y="378756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4419000" y="4157640"/>
                    <a:ext cx="608760" cy="184320"/>
                    <a:chOff x="4419000" y="4157640"/>
                    <a:chExt cx="608760" cy="184320"/>
                  </a:xfrm>
                </p:grpSpPr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4419000" y="415764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>
                      <a:off x="4419000" y="434196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4419000" y="415764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 flipV="1">
                      <a:off x="4419000" y="415764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4419000" y="4527000"/>
                    <a:ext cx="608760" cy="185040"/>
                    <a:chOff x="4419000" y="4527000"/>
                    <a:chExt cx="608760" cy="185040"/>
                  </a:xfrm>
                </p:grpSpPr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4419000" y="452736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4419000" y="471204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4419000" y="452736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flipV="1">
                      <a:off x="4419000" y="452700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66" name=""/>
                <p:cNvSpPr/>
                <p:nvPr/>
              </p:nvSpPr>
              <p:spPr>
                <a:xfrm flipH="1">
                  <a:off x="3809880" y="341784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3809880" y="360288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H="1">
                  <a:off x="3809880" y="378792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H="1">
                  <a:off x="3809880" y="39726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>
                  <a:off x="3809880" y="41580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>
                  <a:off x="3809880" y="434268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>
                  <a:off x="3809880" y="452772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>
                  <a:off x="3809880" y="471276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 flipV="1">
                  <a:off x="3809880" y="341784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flipV="1">
                  <a:off x="3809880" y="3602880"/>
                  <a:ext cx="60912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 flipV="1">
                  <a:off x="3809880" y="4158000"/>
                  <a:ext cx="60912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 flipV="1">
                  <a:off x="3809880" y="434268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V="1">
                  <a:off x="3809880" y="341784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V="1">
                  <a:off x="3809880" y="3602880"/>
                  <a:ext cx="60912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V="1">
                  <a:off x="3809880" y="4158000"/>
                  <a:ext cx="60912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V="1">
                  <a:off x="3809880" y="434268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3809880" y="5094000"/>
                <a:ext cx="1217880" cy="1295280"/>
                <a:chOff x="3809880" y="5094000"/>
                <a:chExt cx="1217880" cy="1295280"/>
              </a:xfrm>
            </p:grpSpPr>
            <p:grpSp>
              <p:nvGrpSpPr>
                <p:cNvPr id="983" name=""/>
                <p:cNvGrpSpPr/>
                <p:nvPr/>
              </p:nvGrpSpPr>
              <p:grpSpPr>
                <a:xfrm>
                  <a:off x="4419000" y="5094000"/>
                  <a:ext cx="608760" cy="1294560"/>
                  <a:chOff x="4419000" y="5094000"/>
                  <a:chExt cx="608760" cy="1294560"/>
                </a:xfrm>
              </p:grpSpPr>
              <p:grpSp>
                <p:nvGrpSpPr>
                  <p:cNvPr id="984" name=""/>
                  <p:cNvGrpSpPr/>
                  <p:nvPr/>
                </p:nvGrpSpPr>
                <p:grpSpPr>
                  <a:xfrm>
                    <a:off x="4419000" y="5094000"/>
                    <a:ext cx="608760" cy="185040"/>
                    <a:chOff x="4419000" y="5094000"/>
                    <a:chExt cx="608760" cy="185040"/>
                  </a:xfrm>
                </p:grpSpPr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4419000" y="509436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4419000" y="527904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4419000" y="509436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flipV="1">
                      <a:off x="4419000" y="509400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4419000" y="5464080"/>
                    <a:ext cx="608760" cy="184320"/>
                    <a:chOff x="4419000" y="5464080"/>
                    <a:chExt cx="608760" cy="18432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4419000" y="546408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4419000" y="56484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4419000" y="546408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 flipV="1">
                      <a:off x="4419000" y="546408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4" name=""/>
                  <p:cNvGrpSpPr/>
                  <p:nvPr/>
                </p:nvGrpSpPr>
                <p:grpSpPr>
                  <a:xfrm>
                    <a:off x="4419000" y="5834160"/>
                    <a:ext cx="608760" cy="184320"/>
                    <a:chOff x="4419000" y="5834160"/>
                    <a:chExt cx="608760" cy="184320"/>
                  </a:xfrm>
                </p:grpSpPr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4419000" y="583416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4419000" y="601848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4419000" y="583416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 flipV="1">
                      <a:off x="4419000" y="583416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4419000" y="6203520"/>
                    <a:ext cx="608760" cy="185040"/>
                    <a:chOff x="4419000" y="6203520"/>
                    <a:chExt cx="608760" cy="18504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4419000" y="620388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4419000" y="638856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>
                      <a:off x="4419000" y="620388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 flipV="1">
                      <a:off x="4419000" y="620352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4" name=""/>
                <p:cNvSpPr/>
                <p:nvPr/>
              </p:nvSpPr>
              <p:spPr>
                <a:xfrm flipH="1">
                  <a:off x="3809880" y="509436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H="1">
                  <a:off x="3809880" y="52794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H="1">
                  <a:off x="3809880" y="546444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H="1">
                  <a:off x="3809880" y="564912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>
                  <a:off x="3809880" y="583452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H="1">
                  <a:off x="3809880" y="60192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H="1">
                  <a:off x="3809880" y="620424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3809880" y="638928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 flipV="1">
                  <a:off x="3809880" y="509436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 flipV="1">
                  <a:off x="3809880" y="5279400"/>
                  <a:ext cx="60912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H="1" flipV="1">
                  <a:off x="3809880" y="5834520"/>
                  <a:ext cx="60912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H="1" flipV="1">
                  <a:off x="3809880" y="601920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V="1">
                  <a:off x="3809880" y="509436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V="1">
                  <a:off x="3809880" y="5279400"/>
                  <a:ext cx="60912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3809880" y="5834520"/>
                  <a:ext cx="60912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V="1">
                  <a:off x="3809880" y="601920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020" name=""/>
                <p:cNvSpPr txBox="1"/>
                <p:nvPr/>
              </p:nvSpPr>
              <p:spPr>
                <a:xfrm>
                  <a:off x="4191120" y="6400800"/>
                  <a:ext cx="17524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21" name=""/>
            <p:cNvSpPr/>
            <p:nvPr/>
          </p:nvSpPr>
          <p:spPr>
            <a:xfrm>
              <a:off x="2971800" y="647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33520" y="647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14600" y="6629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533520" y="6629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2871720" y="76320"/>
              <a:ext cx="328320" cy="6403320"/>
              <a:chOff x="2871720" y="76320"/>
              <a:chExt cx="328320" cy="6403320"/>
            </a:xfrm>
          </p:grpSpPr>
          <p:grpSp>
            <p:nvGrpSpPr>
              <p:cNvPr id="1026" name=""/>
              <p:cNvGrpSpPr/>
              <p:nvPr/>
            </p:nvGrpSpPr>
            <p:grpSpPr>
              <a:xfrm>
                <a:off x="2871720" y="76320"/>
                <a:ext cx="328320" cy="1480680"/>
                <a:chOff x="2871720" y="76320"/>
                <a:chExt cx="328320" cy="1480680"/>
              </a:xfrm>
            </p:grpSpPr>
            <p:grpSp>
              <p:nvGrpSpPr>
                <p:cNvPr id="1027" name=""/>
                <p:cNvGrpSpPr/>
                <p:nvPr/>
              </p:nvGrpSpPr>
              <p:grpSpPr>
                <a:xfrm>
                  <a:off x="2871720" y="76320"/>
                  <a:ext cx="328320" cy="775800"/>
                  <a:chOff x="2871720" y="76320"/>
                  <a:chExt cx="328320" cy="77580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2871720" y="76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2871720" y="237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2871720" y="4284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2871720" y="6058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2" name=""/>
                <p:cNvGrpSpPr/>
                <p:nvPr/>
              </p:nvGrpSpPr>
              <p:grpSpPr>
                <a:xfrm>
                  <a:off x="2871720" y="780120"/>
                  <a:ext cx="328320" cy="776880"/>
                  <a:chOff x="2871720" y="780120"/>
                  <a:chExt cx="328320" cy="77688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2871720" y="7801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2871720" y="9435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2871720" y="113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871720" y="131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7" name=""/>
              <p:cNvGrpSpPr/>
              <p:nvPr/>
            </p:nvGrpSpPr>
            <p:grpSpPr>
              <a:xfrm>
                <a:off x="2871720" y="1676520"/>
                <a:ext cx="328320" cy="1481040"/>
                <a:chOff x="2871720" y="1676520"/>
                <a:chExt cx="328320" cy="1481040"/>
              </a:xfrm>
            </p:grpSpPr>
            <p:grpSp>
              <p:nvGrpSpPr>
                <p:cNvPr id="1038" name=""/>
                <p:cNvGrpSpPr/>
                <p:nvPr/>
              </p:nvGrpSpPr>
              <p:grpSpPr>
                <a:xfrm>
                  <a:off x="2871720" y="1676520"/>
                  <a:ext cx="328320" cy="776160"/>
                  <a:chOff x="2871720" y="1676520"/>
                  <a:chExt cx="328320" cy="7761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2871720" y="1676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871720" y="1840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2871720" y="2028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2871720" y="2206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3" name=""/>
                <p:cNvGrpSpPr/>
                <p:nvPr/>
              </p:nvGrpSpPr>
              <p:grpSpPr>
                <a:xfrm>
                  <a:off x="2871720" y="2385000"/>
                  <a:ext cx="328320" cy="772560"/>
                  <a:chOff x="2871720" y="2385000"/>
                  <a:chExt cx="328320" cy="772560"/>
                </a:xfrm>
              </p:grpSpPr>
              <p:sp>
                <p:nvSpPr>
                  <p:cNvPr id="1044" name=""/>
                  <p:cNvSpPr/>
                  <p:nvPr/>
                </p:nvSpPr>
                <p:spPr>
                  <a:xfrm>
                    <a:off x="2871720" y="2385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2871720" y="2546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871720" y="2734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871720" y="291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8" name=""/>
              <p:cNvGrpSpPr/>
              <p:nvPr/>
            </p:nvGrpSpPr>
            <p:grpSpPr>
              <a:xfrm>
                <a:off x="2871720" y="3321360"/>
                <a:ext cx="328320" cy="1482120"/>
                <a:chOff x="2871720" y="3321360"/>
                <a:chExt cx="328320" cy="1482120"/>
              </a:xfrm>
            </p:grpSpPr>
            <p:grpSp>
              <p:nvGrpSpPr>
                <p:cNvPr id="1049" name=""/>
                <p:cNvGrpSpPr/>
                <p:nvPr/>
              </p:nvGrpSpPr>
              <p:grpSpPr>
                <a:xfrm>
                  <a:off x="2871720" y="3321360"/>
                  <a:ext cx="328320" cy="775800"/>
                  <a:chOff x="2871720" y="3321360"/>
                  <a:chExt cx="328320" cy="775800"/>
                </a:xfrm>
              </p:grpSpPr>
              <p:sp>
                <p:nvSpPr>
                  <p:cNvPr id="1050" name=""/>
                  <p:cNvSpPr/>
                  <p:nvPr/>
                </p:nvSpPr>
                <p:spPr>
                  <a:xfrm>
                    <a:off x="2871720" y="33213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871720" y="34826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871720" y="3673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871720" y="3850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2871720" y="4025160"/>
                  <a:ext cx="328320" cy="778320"/>
                  <a:chOff x="2871720" y="4025160"/>
                  <a:chExt cx="328320" cy="77832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2871720" y="40251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2871720" y="418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2871720" y="43747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871720" y="45572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9" name=""/>
              <p:cNvGrpSpPr/>
              <p:nvPr/>
            </p:nvGrpSpPr>
            <p:grpSpPr>
              <a:xfrm>
                <a:off x="2871720" y="4997520"/>
                <a:ext cx="328320" cy="1482120"/>
                <a:chOff x="2871720" y="4997520"/>
                <a:chExt cx="328320" cy="1482120"/>
              </a:xfrm>
            </p:grpSpPr>
            <p:grpSp>
              <p:nvGrpSpPr>
                <p:cNvPr id="1060" name=""/>
                <p:cNvGrpSpPr/>
                <p:nvPr/>
              </p:nvGrpSpPr>
              <p:grpSpPr>
                <a:xfrm>
                  <a:off x="2871720" y="4997520"/>
                  <a:ext cx="328320" cy="776160"/>
                  <a:chOff x="2871720" y="4997520"/>
                  <a:chExt cx="328320" cy="7761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2871720" y="499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871720" y="516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871720" y="5349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2871720" y="5527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5" name=""/>
                <p:cNvGrpSpPr/>
                <p:nvPr/>
              </p:nvGrpSpPr>
              <p:grpSpPr>
                <a:xfrm>
                  <a:off x="2871720" y="5706000"/>
                  <a:ext cx="328320" cy="773640"/>
                  <a:chOff x="2871720" y="5706000"/>
                  <a:chExt cx="328320" cy="77364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2871720" y="5706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2871720" y="5867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2871720" y="6055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2871720" y="62334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70" name=""/>
            <p:cNvGrpSpPr/>
            <p:nvPr/>
          </p:nvGrpSpPr>
          <p:grpSpPr>
            <a:xfrm>
              <a:off x="2340000" y="152280"/>
              <a:ext cx="555480" cy="1273320"/>
              <a:chOff x="2340000" y="152280"/>
              <a:chExt cx="555480" cy="1273320"/>
            </a:xfrm>
          </p:grpSpPr>
          <p:sp>
            <p:nvSpPr>
              <p:cNvPr id="1071" name=""/>
              <p:cNvSpPr/>
              <p:nvPr/>
            </p:nvSpPr>
            <p:spPr>
              <a:xfrm flipH="1">
                <a:off x="2361960" y="1522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 flipV="1">
                <a:off x="2361960" y="347400"/>
                <a:ext cx="5331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>
                <a:off x="2340000" y="35892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2361960" y="5335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 flipV="1">
                <a:off x="2361960" y="707760"/>
                <a:ext cx="5331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2362320" y="73980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2361960" y="10666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2361960" y="14256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2351160" y="1752480"/>
              <a:ext cx="555480" cy="1273320"/>
              <a:chOff x="2351160" y="1752480"/>
              <a:chExt cx="555480" cy="1273320"/>
            </a:xfrm>
          </p:grpSpPr>
          <p:sp>
            <p:nvSpPr>
              <p:cNvPr id="1080" name=""/>
              <p:cNvSpPr/>
              <p:nvPr/>
            </p:nvSpPr>
            <p:spPr>
              <a:xfrm flipH="1">
                <a:off x="2373120" y="17524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 flipV="1">
                <a:off x="2373120" y="1947600"/>
                <a:ext cx="5331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>
                <a:off x="2351160" y="195912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>
                <a:off x="2373120" y="21337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 flipV="1">
                <a:off x="2373120" y="2307960"/>
                <a:ext cx="5331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2373480" y="234000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>
                <a:off x="2373120" y="26668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2373120" y="30258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2340000" y="3429000"/>
              <a:ext cx="555480" cy="1273320"/>
              <a:chOff x="2340000" y="3429000"/>
              <a:chExt cx="555480" cy="1273320"/>
            </a:xfrm>
          </p:grpSpPr>
          <p:sp>
            <p:nvSpPr>
              <p:cNvPr id="1089" name=""/>
              <p:cNvSpPr/>
              <p:nvPr/>
            </p:nvSpPr>
            <p:spPr>
              <a:xfrm flipH="1">
                <a:off x="2361960" y="34290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 flipV="1">
                <a:off x="2361960" y="3624120"/>
                <a:ext cx="5331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2340000" y="363564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2361960" y="381024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 flipV="1">
                <a:off x="2361960" y="3984480"/>
                <a:ext cx="5331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2362320" y="401652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>
                <a:off x="2361960" y="43434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2361960" y="47023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2340000" y="5105520"/>
              <a:ext cx="555480" cy="1272960"/>
              <a:chOff x="2340000" y="5105520"/>
              <a:chExt cx="555480" cy="1272960"/>
            </a:xfrm>
          </p:grpSpPr>
          <p:sp>
            <p:nvSpPr>
              <p:cNvPr id="1098" name=""/>
              <p:cNvSpPr/>
              <p:nvPr/>
            </p:nvSpPr>
            <p:spPr>
              <a:xfrm flipH="1">
                <a:off x="2361960" y="51055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 flipV="1">
                <a:off x="2361960" y="5300640"/>
                <a:ext cx="53316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H="1">
                <a:off x="2340000" y="5311800"/>
                <a:ext cx="53352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>
                <a:off x="2361960" y="54864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 flipV="1">
                <a:off x="2361960" y="5661000"/>
                <a:ext cx="53316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2362320" y="5692320"/>
                <a:ext cx="5331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2361960" y="60195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2361960" y="63784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6858000" y="76320"/>
              <a:ext cx="328320" cy="6402240"/>
              <a:chOff x="6858000" y="76320"/>
              <a:chExt cx="328320" cy="6402240"/>
            </a:xfrm>
          </p:grpSpPr>
          <p:grpSp>
            <p:nvGrpSpPr>
              <p:cNvPr id="1107" name=""/>
              <p:cNvGrpSpPr/>
              <p:nvPr/>
            </p:nvGrpSpPr>
            <p:grpSpPr>
              <a:xfrm>
                <a:off x="6858000" y="76320"/>
                <a:ext cx="328320" cy="1480680"/>
                <a:chOff x="6858000" y="76320"/>
                <a:chExt cx="328320" cy="1480680"/>
              </a:xfrm>
            </p:grpSpPr>
            <p:grpSp>
              <p:nvGrpSpPr>
                <p:cNvPr id="1108" name=""/>
                <p:cNvGrpSpPr/>
                <p:nvPr/>
              </p:nvGrpSpPr>
              <p:grpSpPr>
                <a:xfrm>
                  <a:off x="6858000" y="76320"/>
                  <a:ext cx="328320" cy="775800"/>
                  <a:chOff x="6858000" y="76320"/>
                  <a:chExt cx="328320" cy="775800"/>
                </a:xfrm>
              </p:grpSpPr>
              <p:sp>
                <p:nvSpPr>
                  <p:cNvPr id="1109" name=""/>
                  <p:cNvSpPr/>
                  <p:nvPr/>
                </p:nvSpPr>
                <p:spPr>
                  <a:xfrm>
                    <a:off x="6858000" y="76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858000" y="237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6858000" y="4284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6858000" y="6058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3" name=""/>
                <p:cNvGrpSpPr/>
                <p:nvPr/>
              </p:nvGrpSpPr>
              <p:grpSpPr>
                <a:xfrm>
                  <a:off x="6858000" y="780120"/>
                  <a:ext cx="328320" cy="776880"/>
                  <a:chOff x="6858000" y="780120"/>
                  <a:chExt cx="328320" cy="77688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>
                    <a:off x="6858000" y="7801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6858000" y="9424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6858000" y="113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6858000" y="131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6858000" y="1676520"/>
                <a:ext cx="328320" cy="1481040"/>
                <a:chOff x="6858000" y="1676520"/>
                <a:chExt cx="328320" cy="148104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6858000" y="1676520"/>
                  <a:ext cx="328320" cy="776160"/>
                  <a:chOff x="6858000" y="1676520"/>
                  <a:chExt cx="328320" cy="7761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6858000" y="1676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6858000" y="1840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6858000" y="2028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6858000" y="2206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4" name=""/>
                <p:cNvGrpSpPr/>
                <p:nvPr/>
              </p:nvGrpSpPr>
              <p:grpSpPr>
                <a:xfrm>
                  <a:off x="6858000" y="2385000"/>
                  <a:ext cx="328320" cy="772560"/>
                  <a:chOff x="6858000" y="2385000"/>
                  <a:chExt cx="328320" cy="77256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>
                    <a:off x="6858000" y="2385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6858000" y="2546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6858000" y="2734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6858000" y="291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9" name=""/>
              <p:cNvGrpSpPr/>
              <p:nvPr/>
            </p:nvGrpSpPr>
            <p:grpSpPr>
              <a:xfrm>
                <a:off x="6858000" y="3321360"/>
                <a:ext cx="328320" cy="1480680"/>
                <a:chOff x="6858000" y="3321360"/>
                <a:chExt cx="328320" cy="1480680"/>
              </a:xfrm>
            </p:grpSpPr>
            <p:grpSp>
              <p:nvGrpSpPr>
                <p:cNvPr id="1130" name=""/>
                <p:cNvGrpSpPr/>
                <p:nvPr/>
              </p:nvGrpSpPr>
              <p:grpSpPr>
                <a:xfrm>
                  <a:off x="6858000" y="3321360"/>
                  <a:ext cx="328320" cy="775800"/>
                  <a:chOff x="6858000" y="3321360"/>
                  <a:chExt cx="328320" cy="77580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>
                    <a:off x="6858000" y="33213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858000" y="34826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6858000" y="3673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6858000" y="3850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6858000" y="4025160"/>
                  <a:ext cx="328320" cy="776880"/>
                  <a:chOff x="6858000" y="4025160"/>
                  <a:chExt cx="328320" cy="77688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6858000" y="40251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6858000" y="418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6858000" y="437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6858000" y="455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6858000" y="4997520"/>
                <a:ext cx="328320" cy="1481040"/>
                <a:chOff x="6858000" y="4997520"/>
                <a:chExt cx="328320" cy="148104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6858000" y="4997520"/>
                  <a:ext cx="328320" cy="776160"/>
                  <a:chOff x="6858000" y="4997520"/>
                  <a:chExt cx="328320" cy="77616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6858000" y="499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6858000" y="516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6858000" y="5349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6858000" y="5527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6" name=""/>
                <p:cNvGrpSpPr/>
                <p:nvPr/>
              </p:nvGrpSpPr>
              <p:grpSpPr>
                <a:xfrm>
                  <a:off x="6858000" y="5706000"/>
                  <a:ext cx="328320" cy="772560"/>
                  <a:chOff x="6858000" y="5706000"/>
                  <a:chExt cx="328320" cy="772560"/>
                </a:xfrm>
              </p:grpSpPr>
              <p:sp>
                <p:nvSpPr>
                  <p:cNvPr id="1147" name=""/>
                  <p:cNvSpPr/>
                  <p:nvPr/>
                </p:nvSpPr>
                <p:spPr>
                  <a:xfrm>
                    <a:off x="6858000" y="5706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6858000" y="5867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6858000" y="6055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6858000" y="6232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mc:AlternateContent>
          <mc:Choice xmlns:a14="http://schemas.microsoft.com/office/drawing/2010/main" Requires="a14">
            <p:sp>
              <p:nvSpPr>
                <p:cNvPr id="1151" name=""/>
                <p:cNvSpPr txBox="1"/>
                <p:nvPr/>
              </p:nvSpPr>
              <p:spPr>
                <a:xfrm>
                  <a:off x="7128000" y="6494400"/>
                  <a:ext cx="3823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52" name=""/>
            <p:cNvGrpSpPr/>
            <p:nvPr/>
          </p:nvGrpSpPr>
          <p:grpSpPr>
            <a:xfrm>
              <a:off x="7108920" y="152280"/>
              <a:ext cx="388800" cy="1295640"/>
              <a:chOff x="7108920" y="152280"/>
              <a:chExt cx="388800" cy="1295640"/>
            </a:xfrm>
          </p:grpSpPr>
          <p:grpSp>
            <p:nvGrpSpPr>
              <p:cNvPr id="1153" name=""/>
              <p:cNvGrpSpPr/>
              <p:nvPr/>
            </p:nvGrpSpPr>
            <p:grpSpPr>
              <a:xfrm>
                <a:off x="7108920" y="152280"/>
                <a:ext cx="388800" cy="576360"/>
                <a:chOff x="7108920" y="152280"/>
                <a:chExt cx="388800" cy="57636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7108920" y="1522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7108920" y="326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7108920" y="533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116840" y="728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7108920" y="871560"/>
                <a:ext cx="388800" cy="576360"/>
                <a:chOff x="7108920" y="871560"/>
                <a:chExt cx="388800" cy="57636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7108920" y="8715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7108920" y="10461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7108920" y="12528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7116840" y="1447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3" name=""/>
            <p:cNvGrpSpPr/>
            <p:nvPr/>
          </p:nvGrpSpPr>
          <p:grpSpPr>
            <a:xfrm>
              <a:off x="7129440" y="1741320"/>
              <a:ext cx="388800" cy="1295640"/>
              <a:chOff x="7129440" y="1741320"/>
              <a:chExt cx="388800" cy="1295640"/>
            </a:xfrm>
          </p:grpSpPr>
          <p:grpSp>
            <p:nvGrpSpPr>
              <p:cNvPr id="1164" name=""/>
              <p:cNvGrpSpPr/>
              <p:nvPr/>
            </p:nvGrpSpPr>
            <p:grpSpPr>
              <a:xfrm>
                <a:off x="7129440" y="1741320"/>
                <a:ext cx="388800" cy="576360"/>
                <a:chOff x="7129440" y="1741320"/>
                <a:chExt cx="388800" cy="57636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7129440" y="17413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7129440" y="1915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7129440" y="21225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7137360" y="23176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7129440" y="2460600"/>
                <a:ext cx="388800" cy="576360"/>
                <a:chOff x="7129440" y="2460600"/>
                <a:chExt cx="388800" cy="57636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7129440" y="24606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7129440" y="2635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7129440" y="2841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7137360" y="30369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4" name=""/>
            <p:cNvGrpSpPr/>
            <p:nvPr/>
          </p:nvGrpSpPr>
          <p:grpSpPr>
            <a:xfrm>
              <a:off x="7140600" y="3386160"/>
              <a:ext cx="388800" cy="1294920"/>
              <a:chOff x="7140600" y="3386160"/>
              <a:chExt cx="388800" cy="1294920"/>
            </a:xfrm>
          </p:grpSpPr>
          <p:grpSp>
            <p:nvGrpSpPr>
              <p:cNvPr id="1175" name=""/>
              <p:cNvGrpSpPr/>
              <p:nvPr/>
            </p:nvGrpSpPr>
            <p:grpSpPr>
              <a:xfrm>
                <a:off x="7140600" y="3386160"/>
                <a:ext cx="388800" cy="576000"/>
                <a:chOff x="7140600" y="3386160"/>
                <a:chExt cx="388800" cy="57600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7140600" y="33861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7140600" y="35604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7140600" y="3767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7148520" y="39621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0" name=""/>
              <p:cNvGrpSpPr/>
              <p:nvPr/>
            </p:nvGrpSpPr>
            <p:grpSpPr>
              <a:xfrm>
                <a:off x="7140600" y="4105080"/>
                <a:ext cx="388800" cy="576000"/>
                <a:chOff x="7140600" y="4105080"/>
                <a:chExt cx="388800" cy="576000"/>
              </a:xfrm>
            </p:grpSpPr>
            <p:sp>
              <p:nvSpPr>
                <p:cNvPr id="1181" name=""/>
                <p:cNvSpPr/>
                <p:nvPr/>
              </p:nvSpPr>
              <p:spPr>
                <a:xfrm>
                  <a:off x="7140600" y="41050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7140600" y="42793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7140600" y="44859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7148520" y="46810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"/>
            <p:cNvGrpSpPr/>
            <p:nvPr/>
          </p:nvGrpSpPr>
          <p:grpSpPr>
            <a:xfrm>
              <a:off x="7121520" y="5073480"/>
              <a:ext cx="388800" cy="1295640"/>
              <a:chOff x="7121520" y="5073480"/>
              <a:chExt cx="388800" cy="1295640"/>
            </a:xfrm>
          </p:grpSpPr>
          <p:grpSp>
            <p:nvGrpSpPr>
              <p:cNvPr id="1186" name=""/>
              <p:cNvGrpSpPr/>
              <p:nvPr/>
            </p:nvGrpSpPr>
            <p:grpSpPr>
              <a:xfrm>
                <a:off x="7121520" y="5073480"/>
                <a:ext cx="388800" cy="576360"/>
                <a:chOff x="7121520" y="5073480"/>
                <a:chExt cx="388800" cy="576360"/>
              </a:xfrm>
            </p:grpSpPr>
            <p:sp>
              <p:nvSpPr>
                <p:cNvPr id="1187" name=""/>
                <p:cNvSpPr/>
                <p:nvPr/>
              </p:nvSpPr>
              <p:spPr>
                <a:xfrm>
                  <a:off x="7121520" y="5073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7121520" y="52480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7121520" y="54547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7129440" y="5649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121520" y="5792760"/>
                <a:ext cx="388800" cy="576360"/>
                <a:chOff x="7121520" y="5792760"/>
                <a:chExt cx="388800" cy="57636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7121520" y="5792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7121520" y="5967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7121520" y="6174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129440" y="6369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6" name=""/>
            <p:cNvGrpSpPr/>
            <p:nvPr/>
          </p:nvGrpSpPr>
          <p:grpSpPr>
            <a:xfrm>
              <a:off x="5638680" y="76320"/>
              <a:ext cx="328320" cy="6402240"/>
              <a:chOff x="5638680" y="76320"/>
              <a:chExt cx="328320" cy="640224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5638680" y="76320"/>
                <a:ext cx="328320" cy="1480680"/>
                <a:chOff x="5638680" y="76320"/>
                <a:chExt cx="328320" cy="1480680"/>
              </a:xfrm>
            </p:grpSpPr>
            <p:grpSp>
              <p:nvGrpSpPr>
                <p:cNvPr id="1198" name=""/>
                <p:cNvGrpSpPr/>
                <p:nvPr/>
              </p:nvGrpSpPr>
              <p:grpSpPr>
                <a:xfrm>
                  <a:off x="5638680" y="76320"/>
                  <a:ext cx="328320" cy="775800"/>
                  <a:chOff x="5638680" y="76320"/>
                  <a:chExt cx="328320" cy="775800"/>
                </a:xfrm>
              </p:grpSpPr>
              <p:sp>
                <p:nvSpPr>
                  <p:cNvPr id="1199" name=""/>
                  <p:cNvSpPr/>
                  <p:nvPr/>
                </p:nvSpPr>
                <p:spPr>
                  <a:xfrm>
                    <a:off x="5638680" y="76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5638680" y="237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5638680" y="4284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5638680" y="6058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3" name=""/>
                <p:cNvGrpSpPr/>
                <p:nvPr/>
              </p:nvGrpSpPr>
              <p:grpSpPr>
                <a:xfrm>
                  <a:off x="5638680" y="780120"/>
                  <a:ext cx="328320" cy="776880"/>
                  <a:chOff x="5638680" y="780120"/>
                  <a:chExt cx="328320" cy="776880"/>
                </a:xfrm>
              </p:grpSpPr>
              <p:sp>
                <p:nvSpPr>
                  <p:cNvPr id="1204" name=""/>
                  <p:cNvSpPr/>
                  <p:nvPr/>
                </p:nvSpPr>
                <p:spPr>
                  <a:xfrm>
                    <a:off x="5638680" y="7801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5638680" y="9435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5638680" y="113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5638680" y="131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8" name=""/>
              <p:cNvGrpSpPr/>
              <p:nvPr/>
            </p:nvGrpSpPr>
            <p:grpSpPr>
              <a:xfrm>
                <a:off x="5638680" y="1676520"/>
                <a:ext cx="328320" cy="1481040"/>
                <a:chOff x="5638680" y="1676520"/>
                <a:chExt cx="328320" cy="1481040"/>
              </a:xfrm>
            </p:grpSpPr>
            <p:grpSp>
              <p:nvGrpSpPr>
                <p:cNvPr id="1209" name=""/>
                <p:cNvGrpSpPr/>
                <p:nvPr/>
              </p:nvGrpSpPr>
              <p:grpSpPr>
                <a:xfrm>
                  <a:off x="5638680" y="1676520"/>
                  <a:ext cx="328320" cy="776160"/>
                  <a:chOff x="5638680" y="1676520"/>
                  <a:chExt cx="328320" cy="77616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5638680" y="1676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638680" y="1840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5638680" y="2028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638680" y="2206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4" name=""/>
                <p:cNvGrpSpPr/>
                <p:nvPr/>
              </p:nvGrpSpPr>
              <p:grpSpPr>
                <a:xfrm>
                  <a:off x="5638680" y="2385000"/>
                  <a:ext cx="328320" cy="772560"/>
                  <a:chOff x="5638680" y="2385000"/>
                  <a:chExt cx="328320" cy="772560"/>
                </a:xfrm>
              </p:grpSpPr>
              <p:sp>
                <p:nvSpPr>
                  <p:cNvPr id="1215" name=""/>
                  <p:cNvSpPr/>
                  <p:nvPr/>
                </p:nvSpPr>
                <p:spPr>
                  <a:xfrm>
                    <a:off x="5638680" y="2385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638680" y="2546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638680" y="2734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638680" y="291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9" name=""/>
              <p:cNvGrpSpPr/>
              <p:nvPr/>
            </p:nvGrpSpPr>
            <p:grpSpPr>
              <a:xfrm>
                <a:off x="5638680" y="3321360"/>
                <a:ext cx="328320" cy="1480680"/>
                <a:chOff x="5638680" y="3321360"/>
                <a:chExt cx="328320" cy="1480680"/>
              </a:xfrm>
            </p:grpSpPr>
            <p:grpSp>
              <p:nvGrpSpPr>
                <p:cNvPr id="1220" name=""/>
                <p:cNvGrpSpPr/>
                <p:nvPr/>
              </p:nvGrpSpPr>
              <p:grpSpPr>
                <a:xfrm>
                  <a:off x="5638680" y="3321360"/>
                  <a:ext cx="328320" cy="775800"/>
                  <a:chOff x="5638680" y="3321360"/>
                  <a:chExt cx="328320" cy="775800"/>
                </a:xfrm>
              </p:grpSpPr>
              <p:sp>
                <p:nvSpPr>
                  <p:cNvPr id="1221" name=""/>
                  <p:cNvSpPr/>
                  <p:nvPr/>
                </p:nvSpPr>
                <p:spPr>
                  <a:xfrm>
                    <a:off x="5638680" y="33213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5638680" y="34826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5638680" y="3673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5638680" y="3850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5" name=""/>
                <p:cNvGrpSpPr/>
                <p:nvPr/>
              </p:nvGrpSpPr>
              <p:grpSpPr>
                <a:xfrm>
                  <a:off x="5638680" y="4025160"/>
                  <a:ext cx="328320" cy="776880"/>
                  <a:chOff x="5638680" y="4025160"/>
                  <a:chExt cx="328320" cy="776880"/>
                </a:xfrm>
              </p:grpSpPr>
              <p:sp>
                <p:nvSpPr>
                  <p:cNvPr id="1226" name=""/>
                  <p:cNvSpPr/>
                  <p:nvPr/>
                </p:nvSpPr>
                <p:spPr>
                  <a:xfrm>
                    <a:off x="5638680" y="40251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5638680" y="418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5638680" y="437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5638680" y="455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0" name=""/>
              <p:cNvGrpSpPr/>
              <p:nvPr/>
            </p:nvGrpSpPr>
            <p:grpSpPr>
              <a:xfrm>
                <a:off x="5638680" y="4997520"/>
                <a:ext cx="328320" cy="1481040"/>
                <a:chOff x="5638680" y="4997520"/>
                <a:chExt cx="328320" cy="1481040"/>
              </a:xfrm>
            </p:grpSpPr>
            <p:grpSp>
              <p:nvGrpSpPr>
                <p:cNvPr id="1231" name=""/>
                <p:cNvGrpSpPr/>
                <p:nvPr/>
              </p:nvGrpSpPr>
              <p:grpSpPr>
                <a:xfrm>
                  <a:off x="5638680" y="4997520"/>
                  <a:ext cx="328320" cy="776160"/>
                  <a:chOff x="5638680" y="4997520"/>
                  <a:chExt cx="328320" cy="776160"/>
                </a:xfrm>
              </p:grpSpPr>
              <p:sp>
                <p:nvSpPr>
                  <p:cNvPr id="1232" name=""/>
                  <p:cNvSpPr/>
                  <p:nvPr/>
                </p:nvSpPr>
                <p:spPr>
                  <a:xfrm>
                    <a:off x="5638680" y="499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5638680" y="516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5638680" y="5349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5638680" y="5527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6" name=""/>
                <p:cNvGrpSpPr/>
                <p:nvPr/>
              </p:nvGrpSpPr>
              <p:grpSpPr>
                <a:xfrm>
                  <a:off x="5638680" y="5706000"/>
                  <a:ext cx="328320" cy="772560"/>
                  <a:chOff x="5638680" y="5706000"/>
                  <a:chExt cx="328320" cy="772560"/>
                </a:xfrm>
              </p:grpSpPr>
              <p:sp>
                <p:nvSpPr>
                  <p:cNvPr id="1237" name=""/>
                  <p:cNvSpPr/>
                  <p:nvPr/>
                </p:nvSpPr>
                <p:spPr>
                  <a:xfrm>
                    <a:off x="5638680" y="5706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5638680" y="5867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5638680" y="6055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5638680" y="6232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41" name=""/>
            <p:cNvGrpSpPr/>
            <p:nvPr/>
          </p:nvGrpSpPr>
          <p:grpSpPr>
            <a:xfrm>
              <a:off x="5005440" y="76320"/>
              <a:ext cx="328320" cy="6402240"/>
              <a:chOff x="5005440" y="76320"/>
              <a:chExt cx="328320" cy="6402240"/>
            </a:xfrm>
          </p:grpSpPr>
          <p:grpSp>
            <p:nvGrpSpPr>
              <p:cNvPr id="1242" name=""/>
              <p:cNvGrpSpPr/>
              <p:nvPr/>
            </p:nvGrpSpPr>
            <p:grpSpPr>
              <a:xfrm>
                <a:off x="5005440" y="76320"/>
                <a:ext cx="328320" cy="1480680"/>
                <a:chOff x="5005440" y="76320"/>
                <a:chExt cx="328320" cy="1480680"/>
              </a:xfrm>
            </p:grpSpPr>
            <p:grpSp>
              <p:nvGrpSpPr>
                <p:cNvPr id="1243" name=""/>
                <p:cNvGrpSpPr/>
                <p:nvPr/>
              </p:nvGrpSpPr>
              <p:grpSpPr>
                <a:xfrm>
                  <a:off x="5005440" y="76320"/>
                  <a:ext cx="328320" cy="775800"/>
                  <a:chOff x="5005440" y="76320"/>
                  <a:chExt cx="328320" cy="775800"/>
                </a:xfrm>
              </p:grpSpPr>
              <p:sp>
                <p:nvSpPr>
                  <p:cNvPr id="1244" name=""/>
                  <p:cNvSpPr/>
                  <p:nvPr/>
                </p:nvSpPr>
                <p:spPr>
                  <a:xfrm>
                    <a:off x="5005440" y="76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5005440" y="237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5005440" y="4284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5005440" y="6058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8" name=""/>
                <p:cNvGrpSpPr/>
                <p:nvPr/>
              </p:nvGrpSpPr>
              <p:grpSpPr>
                <a:xfrm>
                  <a:off x="5005440" y="780120"/>
                  <a:ext cx="328320" cy="776880"/>
                  <a:chOff x="5005440" y="780120"/>
                  <a:chExt cx="328320" cy="776880"/>
                </a:xfrm>
              </p:grpSpPr>
              <p:sp>
                <p:nvSpPr>
                  <p:cNvPr id="1249" name=""/>
                  <p:cNvSpPr/>
                  <p:nvPr/>
                </p:nvSpPr>
                <p:spPr>
                  <a:xfrm>
                    <a:off x="5005440" y="7801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5005440" y="9435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5005440" y="113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5005440" y="131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3" name=""/>
              <p:cNvGrpSpPr/>
              <p:nvPr/>
            </p:nvGrpSpPr>
            <p:grpSpPr>
              <a:xfrm>
                <a:off x="5005440" y="1676520"/>
                <a:ext cx="328320" cy="1482120"/>
                <a:chOff x="5005440" y="1676520"/>
                <a:chExt cx="328320" cy="1482120"/>
              </a:xfrm>
            </p:grpSpPr>
            <p:grpSp>
              <p:nvGrpSpPr>
                <p:cNvPr id="1254" name=""/>
                <p:cNvGrpSpPr/>
                <p:nvPr/>
              </p:nvGrpSpPr>
              <p:grpSpPr>
                <a:xfrm>
                  <a:off x="5005440" y="1676520"/>
                  <a:ext cx="328320" cy="776160"/>
                  <a:chOff x="5005440" y="1676520"/>
                  <a:chExt cx="328320" cy="776160"/>
                </a:xfrm>
              </p:grpSpPr>
              <p:sp>
                <p:nvSpPr>
                  <p:cNvPr id="1255" name=""/>
                  <p:cNvSpPr/>
                  <p:nvPr/>
                </p:nvSpPr>
                <p:spPr>
                  <a:xfrm>
                    <a:off x="5005440" y="1676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5005440" y="1840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5005440" y="2028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5005440" y="2206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9" name=""/>
                <p:cNvGrpSpPr/>
                <p:nvPr/>
              </p:nvGrpSpPr>
              <p:grpSpPr>
                <a:xfrm>
                  <a:off x="5005440" y="2385000"/>
                  <a:ext cx="328320" cy="773640"/>
                  <a:chOff x="5005440" y="2385000"/>
                  <a:chExt cx="328320" cy="773640"/>
                </a:xfrm>
              </p:grpSpPr>
              <p:sp>
                <p:nvSpPr>
                  <p:cNvPr id="1260" name=""/>
                  <p:cNvSpPr/>
                  <p:nvPr/>
                </p:nvSpPr>
                <p:spPr>
                  <a:xfrm>
                    <a:off x="5005440" y="2385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5005440" y="2546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5005440" y="2734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5005440" y="29124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4" name=""/>
              <p:cNvGrpSpPr/>
              <p:nvPr/>
            </p:nvGrpSpPr>
            <p:grpSpPr>
              <a:xfrm>
                <a:off x="5005440" y="3321360"/>
                <a:ext cx="328320" cy="1480680"/>
                <a:chOff x="5005440" y="3321360"/>
                <a:chExt cx="328320" cy="1480680"/>
              </a:xfrm>
            </p:grpSpPr>
            <p:grpSp>
              <p:nvGrpSpPr>
                <p:cNvPr id="1265" name=""/>
                <p:cNvGrpSpPr/>
                <p:nvPr/>
              </p:nvGrpSpPr>
              <p:grpSpPr>
                <a:xfrm>
                  <a:off x="5005440" y="3321360"/>
                  <a:ext cx="328320" cy="775800"/>
                  <a:chOff x="5005440" y="3321360"/>
                  <a:chExt cx="328320" cy="775800"/>
                </a:xfrm>
              </p:grpSpPr>
              <p:sp>
                <p:nvSpPr>
                  <p:cNvPr id="1266" name=""/>
                  <p:cNvSpPr/>
                  <p:nvPr/>
                </p:nvSpPr>
                <p:spPr>
                  <a:xfrm>
                    <a:off x="5005440" y="33213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5005440" y="34826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5005440" y="3673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5005440" y="3850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0" name=""/>
                <p:cNvGrpSpPr/>
                <p:nvPr/>
              </p:nvGrpSpPr>
              <p:grpSpPr>
                <a:xfrm>
                  <a:off x="5005440" y="4025160"/>
                  <a:ext cx="328320" cy="776880"/>
                  <a:chOff x="5005440" y="4025160"/>
                  <a:chExt cx="328320" cy="776880"/>
                </a:xfrm>
              </p:grpSpPr>
              <p:sp>
                <p:nvSpPr>
                  <p:cNvPr id="1271" name=""/>
                  <p:cNvSpPr/>
                  <p:nvPr/>
                </p:nvSpPr>
                <p:spPr>
                  <a:xfrm>
                    <a:off x="5005440" y="40251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5005440" y="418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5005440" y="43747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5005440" y="455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5" name=""/>
              <p:cNvGrpSpPr/>
              <p:nvPr/>
            </p:nvGrpSpPr>
            <p:grpSpPr>
              <a:xfrm>
                <a:off x="5005440" y="4997520"/>
                <a:ext cx="328320" cy="1481040"/>
                <a:chOff x="5005440" y="4997520"/>
                <a:chExt cx="328320" cy="1481040"/>
              </a:xfrm>
            </p:grpSpPr>
            <p:grpSp>
              <p:nvGrpSpPr>
                <p:cNvPr id="1276" name=""/>
                <p:cNvGrpSpPr/>
                <p:nvPr/>
              </p:nvGrpSpPr>
              <p:grpSpPr>
                <a:xfrm>
                  <a:off x="5005440" y="4997520"/>
                  <a:ext cx="328320" cy="776160"/>
                  <a:chOff x="5005440" y="4997520"/>
                  <a:chExt cx="328320" cy="77616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5005440" y="499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5005440" y="516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5005440" y="5349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5005440" y="5527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1" name=""/>
                <p:cNvGrpSpPr/>
                <p:nvPr/>
              </p:nvGrpSpPr>
              <p:grpSpPr>
                <a:xfrm>
                  <a:off x="5005440" y="5706000"/>
                  <a:ext cx="328320" cy="772560"/>
                  <a:chOff x="5005440" y="5706000"/>
                  <a:chExt cx="328320" cy="772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5005440" y="5706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5005440" y="5867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5005440" y="6055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5005440" y="6232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6" name=""/>
            <p:cNvGrpSpPr/>
            <p:nvPr/>
          </p:nvGrpSpPr>
          <p:grpSpPr>
            <a:xfrm>
              <a:off x="5170320" y="174600"/>
              <a:ext cx="533520" cy="533520"/>
              <a:chOff x="5170320" y="174600"/>
              <a:chExt cx="533520" cy="533520"/>
            </a:xfrm>
          </p:grpSpPr>
          <p:sp>
            <p:nvSpPr>
              <p:cNvPr id="1287" name=""/>
              <p:cNvSpPr/>
              <p:nvPr/>
            </p:nvSpPr>
            <p:spPr>
              <a:xfrm flipH="1">
                <a:off x="5170320" y="1746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 flipV="1">
                <a:off x="5170320" y="32688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5170320" y="32724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5170320" y="7081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5170320" y="871560"/>
              <a:ext cx="533520" cy="533520"/>
              <a:chOff x="5170320" y="871560"/>
              <a:chExt cx="533520" cy="533520"/>
            </a:xfrm>
          </p:grpSpPr>
          <p:sp>
            <p:nvSpPr>
              <p:cNvPr id="1292" name=""/>
              <p:cNvSpPr/>
              <p:nvPr/>
            </p:nvSpPr>
            <p:spPr>
              <a:xfrm flipH="1">
                <a:off x="5170320" y="8715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 flipV="1">
                <a:off x="5170320" y="102384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5170320" y="102420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5170320" y="14050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5170320" y="1784520"/>
              <a:ext cx="533520" cy="533160"/>
              <a:chOff x="5170320" y="1784520"/>
              <a:chExt cx="533520" cy="533160"/>
            </a:xfrm>
          </p:grpSpPr>
          <p:sp>
            <p:nvSpPr>
              <p:cNvPr id="1297" name=""/>
              <p:cNvSpPr/>
              <p:nvPr/>
            </p:nvSpPr>
            <p:spPr>
              <a:xfrm flipH="1">
                <a:off x="5170320" y="17845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 flipV="1">
                <a:off x="5170320" y="1936800"/>
                <a:ext cx="5335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5170320" y="1936800"/>
                <a:ext cx="5335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5170320" y="2317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5170320" y="2481120"/>
              <a:ext cx="533520" cy="533520"/>
              <a:chOff x="5170320" y="2481120"/>
              <a:chExt cx="533520" cy="533520"/>
            </a:xfrm>
          </p:grpSpPr>
          <p:sp>
            <p:nvSpPr>
              <p:cNvPr id="1302" name=""/>
              <p:cNvSpPr/>
              <p:nvPr/>
            </p:nvSpPr>
            <p:spPr>
              <a:xfrm flipH="1">
                <a:off x="5170320" y="24811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 flipV="1">
                <a:off x="5170320" y="263340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5170320" y="263376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5170320" y="301464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5181480" y="3429000"/>
              <a:ext cx="533520" cy="533520"/>
              <a:chOff x="5181480" y="3429000"/>
              <a:chExt cx="533520" cy="533520"/>
            </a:xfrm>
          </p:grpSpPr>
          <p:sp>
            <p:nvSpPr>
              <p:cNvPr id="1307" name=""/>
              <p:cNvSpPr/>
              <p:nvPr/>
            </p:nvSpPr>
            <p:spPr>
              <a:xfrm flipH="1">
                <a:off x="5181480" y="34290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 flipV="1">
                <a:off x="5181480" y="358128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5181480" y="358164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5181480" y="39625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5181480" y="4114800"/>
              <a:ext cx="533520" cy="533520"/>
              <a:chOff x="5181480" y="4114800"/>
              <a:chExt cx="533520" cy="533520"/>
            </a:xfrm>
          </p:grpSpPr>
          <p:sp>
            <p:nvSpPr>
              <p:cNvPr id="1312" name=""/>
              <p:cNvSpPr/>
              <p:nvPr/>
            </p:nvSpPr>
            <p:spPr>
              <a:xfrm flipH="1">
                <a:off x="5181480" y="41148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 flipV="1">
                <a:off x="5181480" y="426708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5181480" y="426744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5181480" y="46483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5181480" y="5105520"/>
              <a:ext cx="533520" cy="533160"/>
              <a:chOff x="5181480" y="5105520"/>
              <a:chExt cx="533520" cy="533160"/>
            </a:xfrm>
          </p:grpSpPr>
          <p:sp>
            <p:nvSpPr>
              <p:cNvPr id="1317" name=""/>
              <p:cNvSpPr/>
              <p:nvPr/>
            </p:nvSpPr>
            <p:spPr>
              <a:xfrm flipH="1">
                <a:off x="5181480" y="51055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 flipV="1">
                <a:off x="5181480" y="5257800"/>
                <a:ext cx="5335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5181480" y="5257800"/>
                <a:ext cx="5335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5181480" y="5638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5181480" y="5823000"/>
              <a:ext cx="533520" cy="533520"/>
              <a:chOff x="5181480" y="5823000"/>
              <a:chExt cx="533520" cy="533520"/>
            </a:xfrm>
          </p:grpSpPr>
          <p:sp>
            <p:nvSpPr>
              <p:cNvPr id="1322" name=""/>
              <p:cNvSpPr/>
              <p:nvPr/>
            </p:nvSpPr>
            <p:spPr>
              <a:xfrm flipH="1">
                <a:off x="5181480" y="58230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 flipV="1">
                <a:off x="5181480" y="597528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5181480" y="597564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5181480" y="63565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6" name=""/>
            <p:cNvSpPr/>
            <p:nvPr/>
          </p:nvSpPr>
          <p:spPr>
            <a:xfrm flipH="1">
              <a:off x="5867280" y="1522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5867280" y="38088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010280" y="647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2971800" y="6553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791320" y="65530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5867280" y="533520"/>
              <a:ext cx="106704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867280" y="190512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867280" y="2133720"/>
              <a:ext cx="10670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67280" y="2362320"/>
              <a:ext cx="1067040" cy="30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5867280" y="762120"/>
              <a:ext cx="106704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5867280" y="2362320"/>
              <a:ext cx="10670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867280" y="2819520"/>
              <a:ext cx="10670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867280" y="3048120"/>
              <a:ext cx="106704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5867280" y="914040"/>
              <a:ext cx="106704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5867280" y="2514240"/>
              <a:ext cx="10670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867280" y="3733920"/>
              <a:ext cx="1067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867280" y="3962520"/>
              <a:ext cx="106704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5867280" y="1066320"/>
              <a:ext cx="106704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5867280" y="2666520"/>
              <a:ext cx="10670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5867280" y="4343040"/>
              <a:ext cx="9907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943600" y="4648320"/>
              <a:ext cx="9907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867280" y="63244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5867280" y="4647960"/>
              <a:ext cx="10670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5867280" y="3048120"/>
              <a:ext cx="106704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5867280" y="1523880"/>
              <a:ext cx="1067040" cy="426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867280" y="1295280"/>
              <a:ext cx="106704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772400" y="3049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772400" y="152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7695720" y="380880"/>
              <a:ext cx="6858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7695720" y="533520"/>
              <a:ext cx="68580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7695720" y="762120"/>
              <a:ext cx="68580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7695720" y="106668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7695720" y="1295280"/>
              <a:ext cx="6858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7695720" y="1447920"/>
              <a:ext cx="68580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 flipV="1">
              <a:off x="7772040" y="914040"/>
              <a:ext cx="6858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 flipV="1">
              <a:off x="7695720" y="2514240"/>
              <a:ext cx="685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7772040" y="380988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7772040" y="3962520"/>
              <a:ext cx="6858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 flipV="1">
              <a:off x="7772040" y="1066320"/>
              <a:ext cx="68580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 flipV="1">
              <a:off x="7695720" y="266652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 flipV="1">
              <a:off x="7772040" y="434304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7772040" y="4648320"/>
              <a:ext cx="6094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 flipV="1">
              <a:off x="7772040" y="1295280"/>
              <a:ext cx="60948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 flipV="1">
              <a:off x="7772040" y="2895480"/>
              <a:ext cx="60948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772040" y="4495680"/>
              <a:ext cx="6094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7772040" y="5638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 flipV="1">
              <a:off x="7695720" y="1523520"/>
              <a:ext cx="76212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7695720" y="3047760"/>
              <a:ext cx="76212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 flipV="1">
              <a:off x="7695720" y="4724280"/>
              <a:ext cx="7621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7772040" y="6324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 flipV="1">
              <a:off x="5790960" y="380880"/>
              <a:ext cx="11430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 flipV="1">
              <a:off x="5867280" y="106668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5867280" y="2895480"/>
              <a:ext cx="106704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 flipV="1">
              <a:off x="5790960" y="533160"/>
              <a:ext cx="114300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 flipV="1">
              <a:off x="5867280" y="1295280"/>
              <a:ext cx="106704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5867280" y="449568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 flipV="1">
              <a:off x="5790960" y="761760"/>
              <a:ext cx="114300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791320" y="1447920"/>
              <a:ext cx="114300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 flipV="1">
              <a:off x="5867280" y="56386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5" name=""/>
            <p:cNvGrpSpPr/>
            <p:nvPr/>
          </p:nvGrpSpPr>
          <p:grpSpPr>
            <a:xfrm>
              <a:off x="3047760" y="152280"/>
              <a:ext cx="762120" cy="6248520"/>
              <a:chOff x="3047760" y="152280"/>
              <a:chExt cx="762120" cy="6248520"/>
            </a:xfrm>
          </p:grpSpPr>
          <p:sp>
            <p:nvSpPr>
              <p:cNvPr id="1386" name=""/>
              <p:cNvSpPr/>
              <p:nvPr/>
            </p:nvSpPr>
            <p:spPr>
              <a:xfrm flipH="1">
                <a:off x="3112920" y="326880"/>
                <a:ext cx="60984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H="1">
                <a:off x="3124080" y="1066680"/>
                <a:ext cx="60984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H="1">
                <a:off x="3124080" y="1905120"/>
                <a:ext cx="609840" cy="18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 flipV="1">
                <a:off x="3124080" y="2286000"/>
                <a:ext cx="6098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3135240" y="2514600"/>
                <a:ext cx="609840" cy="11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124080" y="2666880"/>
                <a:ext cx="60984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 flipV="1">
                <a:off x="3123720" y="2840040"/>
                <a:ext cx="685800" cy="249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 flipV="1">
                <a:off x="3124080" y="3047760"/>
                <a:ext cx="60984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3124080" y="533160"/>
                <a:ext cx="609840" cy="28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3124080" y="1295280"/>
                <a:ext cx="60984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3124080" y="2133720"/>
                <a:ext cx="60984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3124080" y="2895120"/>
                <a:ext cx="60984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3124080" y="3809880"/>
                <a:ext cx="609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124080" y="449568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124080" y="4724280"/>
                <a:ext cx="60984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3047760" y="1522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3047760" y="685800"/>
                <a:ext cx="685800" cy="441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flipV="1">
                <a:off x="3048120" y="380880"/>
                <a:ext cx="7617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048120" y="609480"/>
                <a:ext cx="76176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048120" y="762120"/>
                <a:ext cx="761760" cy="17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048120" y="914400"/>
                <a:ext cx="76176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048120" y="1143000"/>
                <a:ext cx="76176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048120" y="1295280"/>
                <a:ext cx="761760" cy="381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048120" y="1447920"/>
                <a:ext cx="761760" cy="441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3048120" y="1447920"/>
                <a:ext cx="76176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>
                <a:off x="3048120" y="2286000"/>
                <a:ext cx="76176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3048120" y="3048120"/>
                <a:ext cx="76176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3048120" y="3962520"/>
                <a:ext cx="76176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3048120" y="4724280"/>
                <a:ext cx="76176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3048120" y="5638680"/>
                <a:ext cx="7617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048120" y="640080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"/>
          <p:cNvGrpSpPr/>
          <p:nvPr/>
        </p:nvGrpSpPr>
        <p:grpSpPr>
          <a:xfrm>
            <a:off x="228600" y="76320"/>
            <a:ext cx="8457840" cy="6705360"/>
            <a:chOff x="228600" y="76320"/>
            <a:chExt cx="8457840" cy="6705360"/>
          </a:xfrm>
        </p:grpSpPr>
        <p:grpSp>
          <p:nvGrpSpPr>
            <p:cNvPr id="1418" name=""/>
            <p:cNvGrpSpPr/>
            <p:nvPr/>
          </p:nvGrpSpPr>
          <p:grpSpPr>
            <a:xfrm>
              <a:off x="8358120" y="76320"/>
              <a:ext cx="328320" cy="6402240"/>
              <a:chOff x="8358120" y="76320"/>
              <a:chExt cx="328320" cy="6402240"/>
            </a:xfrm>
          </p:grpSpPr>
          <p:grpSp>
            <p:nvGrpSpPr>
              <p:cNvPr id="1419" name=""/>
              <p:cNvGrpSpPr/>
              <p:nvPr/>
            </p:nvGrpSpPr>
            <p:grpSpPr>
              <a:xfrm>
                <a:off x="8358120" y="76320"/>
                <a:ext cx="328320" cy="1480680"/>
                <a:chOff x="8358120" y="76320"/>
                <a:chExt cx="328320" cy="1480680"/>
              </a:xfrm>
            </p:grpSpPr>
            <p:grpSp>
              <p:nvGrpSpPr>
                <p:cNvPr id="1420" name=""/>
                <p:cNvGrpSpPr/>
                <p:nvPr/>
              </p:nvGrpSpPr>
              <p:grpSpPr>
                <a:xfrm>
                  <a:off x="8358120" y="76320"/>
                  <a:ext cx="328320" cy="775800"/>
                  <a:chOff x="8358120" y="76320"/>
                  <a:chExt cx="328320" cy="775800"/>
                </a:xfrm>
              </p:grpSpPr>
              <p:sp>
                <p:nvSpPr>
                  <p:cNvPr id="1421" name=""/>
                  <p:cNvSpPr/>
                  <p:nvPr/>
                </p:nvSpPr>
                <p:spPr>
                  <a:xfrm>
                    <a:off x="8358120" y="76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8358120" y="237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8358120" y="4284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8358120" y="6058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5" name=""/>
                <p:cNvGrpSpPr/>
                <p:nvPr/>
              </p:nvGrpSpPr>
              <p:grpSpPr>
                <a:xfrm>
                  <a:off x="8358120" y="780120"/>
                  <a:ext cx="328320" cy="776880"/>
                  <a:chOff x="8358120" y="780120"/>
                  <a:chExt cx="328320" cy="776880"/>
                </a:xfrm>
              </p:grpSpPr>
              <p:sp>
                <p:nvSpPr>
                  <p:cNvPr id="1426" name=""/>
                  <p:cNvSpPr/>
                  <p:nvPr/>
                </p:nvSpPr>
                <p:spPr>
                  <a:xfrm>
                    <a:off x="8358120" y="7801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8358120" y="9435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8358120" y="113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8358120" y="131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0" name=""/>
              <p:cNvGrpSpPr/>
              <p:nvPr/>
            </p:nvGrpSpPr>
            <p:grpSpPr>
              <a:xfrm>
                <a:off x="8358120" y="1676520"/>
                <a:ext cx="328320" cy="1481040"/>
                <a:chOff x="8358120" y="1676520"/>
                <a:chExt cx="328320" cy="1481040"/>
              </a:xfrm>
            </p:grpSpPr>
            <p:grpSp>
              <p:nvGrpSpPr>
                <p:cNvPr id="1431" name=""/>
                <p:cNvGrpSpPr/>
                <p:nvPr/>
              </p:nvGrpSpPr>
              <p:grpSpPr>
                <a:xfrm>
                  <a:off x="8358120" y="1676520"/>
                  <a:ext cx="328320" cy="776160"/>
                  <a:chOff x="8358120" y="1676520"/>
                  <a:chExt cx="328320" cy="776160"/>
                </a:xfrm>
              </p:grpSpPr>
              <p:sp>
                <p:nvSpPr>
                  <p:cNvPr id="1432" name=""/>
                  <p:cNvSpPr/>
                  <p:nvPr/>
                </p:nvSpPr>
                <p:spPr>
                  <a:xfrm>
                    <a:off x="8358120" y="1676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8358120" y="1840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8358120" y="2028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8358120" y="2206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6" name=""/>
                <p:cNvGrpSpPr/>
                <p:nvPr/>
              </p:nvGrpSpPr>
              <p:grpSpPr>
                <a:xfrm>
                  <a:off x="8358120" y="2385000"/>
                  <a:ext cx="328320" cy="772560"/>
                  <a:chOff x="8358120" y="2385000"/>
                  <a:chExt cx="328320" cy="772560"/>
                </a:xfrm>
              </p:grpSpPr>
              <p:sp>
                <p:nvSpPr>
                  <p:cNvPr id="1437" name=""/>
                  <p:cNvSpPr/>
                  <p:nvPr/>
                </p:nvSpPr>
                <p:spPr>
                  <a:xfrm>
                    <a:off x="8358120" y="2385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8358120" y="2546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8358120" y="2734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8358120" y="291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1" name=""/>
              <p:cNvGrpSpPr/>
              <p:nvPr/>
            </p:nvGrpSpPr>
            <p:grpSpPr>
              <a:xfrm>
                <a:off x="8358120" y="3321360"/>
                <a:ext cx="328320" cy="1480680"/>
                <a:chOff x="8358120" y="3321360"/>
                <a:chExt cx="328320" cy="1480680"/>
              </a:xfrm>
            </p:grpSpPr>
            <p:grpSp>
              <p:nvGrpSpPr>
                <p:cNvPr id="1442" name=""/>
                <p:cNvGrpSpPr/>
                <p:nvPr/>
              </p:nvGrpSpPr>
              <p:grpSpPr>
                <a:xfrm>
                  <a:off x="8358120" y="3321360"/>
                  <a:ext cx="328320" cy="775800"/>
                  <a:chOff x="8358120" y="3321360"/>
                  <a:chExt cx="328320" cy="775800"/>
                </a:xfrm>
              </p:grpSpPr>
              <p:sp>
                <p:nvSpPr>
                  <p:cNvPr id="1443" name=""/>
                  <p:cNvSpPr/>
                  <p:nvPr/>
                </p:nvSpPr>
                <p:spPr>
                  <a:xfrm>
                    <a:off x="8358120" y="33213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8358120" y="34826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8358120" y="3673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8358120" y="3850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7" name=""/>
                <p:cNvGrpSpPr/>
                <p:nvPr/>
              </p:nvGrpSpPr>
              <p:grpSpPr>
                <a:xfrm>
                  <a:off x="8358120" y="4025160"/>
                  <a:ext cx="328320" cy="776880"/>
                  <a:chOff x="8358120" y="4025160"/>
                  <a:chExt cx="328320" cy="776880"/>
                </a:xfrm>
              </p:grpSpPr>
              <p:sp>
                <p:nvSpPr>
                  <p:cNvPr id="1448" name=""/>
                  <p:cNvSpPr/>
                  <p:nvPr/>
                </p:nvSpPr>
                <p:spPr>
                  <a:xfrm>
                    <a:off x="8358120" y="40251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8358120" y="418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8358120" y="437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8358120" y="455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2" name=""/>
              <p:cNvGrpSpPr/>
              <p:nvPr/>
            </p:nvGrpSpPr>
            <p:grpSpPr>
              <a:xfrm>
                <a:off x="8358120" y="4997520"/>
                <a:ext cx="328320" cy="1481040"/>
                <a:chOff x="8358120" y="4997520"/>
                <a:chExt cx="328320" cy="1481040"/>
              </a:xfrm>
            </p:grpSpPr>
            <p:grpSp>
              <p:nvGrpSpPr>
                <p:cNvPr id="1453" name=""/>
                <p:cNvGrpSpPr/>
                <p:nvPr/>
              </p:nvGrpSpPr>
              <p:grpSpPr>
                <a:xfrm>
                  <a:off x="8358120" y="4997520"/>
                  <a:ext cx="328320" cy="776160"/>
                  <a:chOff x="8358120" y="4997520"/>
                  <a:chExt cx="328320" cy="776160"/>
                </a:xfrm>
              </p:grpSpPr>
              <p:sp>
                <p:nvSpPr>
                  <p:cNvPr id="1454" name=""/>
                  <p:cNvSpPr/>
                  <p:nvPr/>
                </p:nvSpPr>
                <p:spPr>
                  <a:xfrm>
                    <a:off x="8358120" y="499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8358120" y="516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8358120" y="5349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8358120" y="5527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8" name=""/>
                <p:cNvGrpSpPr/>
                <p:nvPr/>
              </p:nvGrpSpPr>
              <p:grpSpPr>
                <a:xfrm>
                  <a:off x="8358120" y="5706000"/>
                  <a:ext cx="328320" cy="772560"/>
                  <a:chOff x="8358120" y="5706000"/>
                  <a:chExt cx="328320" cy="772560"/>
                </a:xfrm>
              </p:grpSpPr>
              <p:sp>
                <p:nvSpPr>
                  <p:cNvPr id="1459" name=""/>
                  <p:cNvSpPr/>
                  <p:nvPr/>
                </p:nvSpPr>
                <p:spPr>
                  <a:xfrm>
                    <a:off x="8358120" y="5706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8358120" y="5867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8358120" y="6055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8358120" y="6232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mc:AlternateContent>
          <mc:Choice xmlns:a14="http://schemas.microsoft.com/office/drawing/2010/main" Requires="a14">
            <p:sp>
              <p:nvSpPr>
                <p:cNvPr id="1463" name=""/>
                <p:cNvSpPr txBox="1"/>
                <p:nvPr/>
              </p:nvSpPr>
              <p:spPr>
                <a:xfrm>
                  <a:off x="7848720" y="6400800"/>
                  <a:ext cx="3110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64" name=""/>
            <p:cNvGrpSpPr/>
            <p:nvPr/>
          </p:nvGrpSpPr>
          <p:grpSpPr>
            <a:xfrm>
              <a:off x="533160" y="151920"/>
              <a:ext cx="1827720" cy="6248520"/>
              <a:chOff x="533160" y="151920"/>
              <a:chExt cx="1827720" cy="6248520"/>
            </a:xfrm>
          </p:grpSpPr>
          <p:grpSp>
            <p:nvGrpSpPr>
              <p:cNvPr id="1465" name=""/>
              <p:cNvGrpSpPr/>
              <p:nvPr/>
            </p:nvGrpSpPr>
            <p:grpSpPr>
              <a:xfrm>
                <a:off x="533160" y="151920"/>
                <a:ext cx="1827720" cy="1295280"/>
                <a:chOff x="533160" y="151920"/>
                <a:chExt cx="1827720" cy="1295280"/>
              </a:xfrm>
            </p:grpSpPr>
            <p:grpSp>
              <p:nvGrpSpPr>
                <p:cNvPr id="1466" name=""/>
                <p:cNvGrpSpPr/>
                <p:nvPr/>
              </p:nvGrpSpPr>
              <p:grpSpPr>
                <a:xfrm>
                  <a:off x="1143000" y="151920"/>
                  <a:ext cx="1217880" cy="1294920"/>
                  <a:chOff x="1143000" y="151920"/>
                  <a:chExt cx="1217880" cy="1294920"/>
                </a:xfrm>
              </p:grpSpPr>
              <p:grpSp>
                <p:nvGrpSpPr>
                  <p:cNvPr id="1467" name=""/>
                  <p:cNvGrpSpPr/>
                  <p:nvPr/>
                </p:nvGrpSpPr>
                <p:grpSpPr>
                  <a:xfrm>
                    <a:off x="1752120" y="151920"/>
                    <a:ext cx="608760" cy="1294200"/>
                    <a:chOff x="1752120" y="151920"/>
                    <a:chExt cx="608760" cy="1294200"/>
                  </a:xfrm>
                </p:grpSpPr>
                <p:grpSp>
                  <p:nvGrpSpPr>
                    <p:cNvPr id="1468" name=""/>
                    <p:cNvGrpSpPr/>
                    <p:nvPr/>
                  </p:nvGrpSpPr>
                  <p:grpSpPr>
                    <a:xfrm>
                      <a:off x="1752120" y="151920"/>
                      <a:ext cx="608760" cy="185040"/>
                      <a:chOff x="1752120" y="151920"/>
                      <a:chExt cx="608760" cy="185040"/>
                    </a:xfrm>
                  </p:grpSpPr>
                  <p:sp>
                    <p:nvSpPr>
                      <p:cNvPr id="1469" name=""/>
                      <p:cNvSpPr/>
                      <p:nvPr/>
                    </p:nvSpPr>
                    <p:spPr>
                      <a:xfrm>
                        <a:off x="1752120" y="15228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0" name=""/>
                      <p:cNvSpPr/>
                      <p:nvPr/>
                    </p:nvSpPr>
                    <p:spPr>
                      <a:xfrm>
                        <a:off x="1752120" y="33696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1" name=""/>
                      <p:cNvSpPr/>
                      <p:nvPr/>
                    </p:nvSpPr>
                    <p:spPr>
                      <a:xfrm>
                        <a:off x="1752120" y="15228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2" name=""/>
                      <p:cNvSpPr/>
                      <p:nvPr/>
                    </p:nvSpPr>
                    <p:spPr>
                      <a:xfrm flipV="1">
                        <a:off x="1752120" y="15192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73" name=""/>
                    <p:cNvGrpSpPr/>
                    <p:nvPr/>
                  </p:nvGrpSpPr>
                  <p:grpSpPr>
                    <a:xfrm>
                      <a:off x="1752120" y="522000"/>
                      <a:ext cx="608760" cy="184320"/>
                      <a:chOff x="1752120" y="522000"/>
                      <a:chExt cx="608760" cy="184320"/>
                    </a:xfrm>
                  </p:grpSpPr>
                  <p:sp>
                    <p:nvSpPr>
                      <p:cNvPr id="1474" name=""/>
                      <p:cNvSpPr/>
                      <p:nvPr/>
                    </p:nvSpPr>
                    <p:spPr>
                      <a:xfrm>
                        <a:off x="1752120" y="52200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5" name=""/>
                      <p:cNvSpPr/>
                      <p:nvPr/>
                    </p:nvSpPr>
                    <p:spPr>
                      <a:xfrm>
                        <a:off x="1752120" y="70632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6" name=""/>
                      <p:cNvSpPr/>
                      <p:nvPr/>
                    </p:nvSpPr>
                    <p:spPr>
                      <a:xfrm>
                        <a:off x="1752120" y="52200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"/>
                      <p:cNvSpPr/>
                      <p:nvPr/>
                    </p:nvSpPr>
                    <p:spPr>
                      <a:xfrm flipV="1">
                        <a:off x="1752120" y="52200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78" name=""/>
                    <p:cNvGrpSpPr/>
                    <p:nvPr/>
                  </p:nvGrpSpPr>
                  <p:grpSpPr>
                    <a:xfrm>
                      <a:off x="1752120" y="892080"/>
                      <a:ext cx="608760" cy="184320"/>
                      <a:chOff x="1752120" y="892080"/>
                      <a:chExt cx="608760" cy="184320"/>
                    </a:xfrm>
                  </p:grpSpPr>
                  <p:sp>
                    <p:nvSpPr>
                      <p:cNvPr id="1479" name=""/>
                      <p:cNvSpPr/>
                      <p:nvPr/>
                    </p:nvSpPr>
                    <p:spPr>
                      <a:xfrm>
                        <a:off x="1752120" y="89208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"/>
                      <p:cNvSpPr/>
                      <p:nvPr/>
                    </p:nvSpPr>
                    <p:spPr>
                      <a:xfrm>
                        <a:off x="1752120" y="107640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1" name=""/>
                      <p:cNvSpPr/>
                      <p:nvPr/>
                    </p:nvSpPr>
                    <p:spPr>
                      <a:xfrm>
                        <a:off x="1752120" y="89208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2" name=""/>
                      <p:cNvSpPr/>
                      <p:nvPr/>
                    </p:nvSpPr>
                    <p:spPr>
                      <a:xfrm flipV="1">
                        <a:off x="1752120" y="89208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83" name=""/>
                    <p:cNvGrpSpPr/>
                    <p:nvPr/>
                  </p:nvGrpSpPr>
                  <p:grpSpPr>
                    <a:xfrm>
                      <a:off x="1752120" y="1261080"/>
                      <a:ext cx="608760" cy="185040"/>
                      <a:chOff x="1752120" y="1261080"/>
                      <a:chExt cx="608760" cy="185040"/>
                    </a:xfrm>
                  </p:grpSpPr>
                  <p:sp>
                    <p:nvSpPr>
                      <p:cNvPr id="1484" name=""/>
                      <p:cNvSpPr/>
                      <p:nvPr/>
                    </p:nvSpPr>
                    <p:spPr>
                      <a:xfrm>
                        <a:off x="1752120" y="126144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5" name=""/>
                      <p:cNvSpPr/>
                      <p:nvPr/>
                    </p:nvSpPr>
                    <p:spPr>
                      <a:xfrm>
                        <a:off x="1752120" y="144612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6" name=""/>
                      <p:cNvSpPr/>
                      <p:nvPr/>
                    </p:nvSpPr>
                    <p:spPr>
                      <a:xfrm>
                        <a:off x="1752120" y="126144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7" name=""/>
                      <p:cNvSpPr/>
                      <p:nvPr/>
                    </p:nvSpPr>
                    <p:spPr>
                      <a:xfrm flipV="1">
                        <a:off x="1752120" y="126108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488" name=""/>
                  <p:cNvSpPr/>
                  <p:nvPr/>
                </p:nvSpPr>
                <p:spPr>
                  <a:xfrm flipH="1">
                    <a:off x="1143000" y="15228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 flipH="1">
                    <a:off x="1143000" y="33732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 flipH="1">
                    <a:off x="1143000" y="5220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 flipH="1">
                    <a:off x="1143000" y="70704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 flipH="1">
                    <a:off x="1143000" y="89208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 flipH="1">
                    <a:off x="1143000" y="107676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 flipH="1">
                    <a:off x="1143000" y="12618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 flipH="1">
                    <a:off x="1143000" y="144684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 flipH="1" flipV="1">
                    <a:off x="1143000" y="15192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 flipH="1" flipV="1">
                    <a:off x="1143000" y="33732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 flipH="1" flipV="1">
                    <a:off x="1143000" y="89208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 flipH="1" flipV="1">
                    <a:off x="1143000" y="107640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 flipV="1">
                    <a:off x="1143000" y="15192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 flipV="1">
                    <a:off x="1143000" y="33732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 flipV="1">
                    <a:off x="1143000" y="89208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 flipV="1">
                    <a:off x="1143000" y="107640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"/>
                <p:cNvSpPr/>
                <p:nvPr/>
              </p:nvSpPr>
              <p:spPr>
                <a:xfrm>
                  <a:off x="533520" y="1522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533520" y="3373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533520" y="52236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533520" y="7070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33520" y="8924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533520" y="10771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533520" y="126216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533520" y="14472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flipH="1">
                  <a:off x="533160" y="15228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flipH="1">
                  <a:off x="533160" y="33732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flipH="1">
                  <a:off x="533160" y="52236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flipH="1">
                  <a:off x="533160" y="70704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533520" y="15228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533520" y="33732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533520" y="52236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533520" y="70704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533160" y="3428640"/>
                <a:ext cx="1827720" cy="1295280"/>
                <a:chOff x="533160" y="3428640"/>
                <a:chExt cx="1827720" cy="1295280"/>
              </a:xfrm>
            </p:grpSpPr>
            <p:grpSp>
              <p:nvGrpSpPr>
                <p:cNvPr id="1521" name=""/>
                <p:cNvGrpSpPr/>
                <p:nvPr/>
              </p:nvGrpSpPr>
              <p:grpSpPr>
                <a:xfrm>
                  <a:off x="1143000" y="3428640"/>
                  <a:ext cx="1217880" cy="1294920"/>
                  <a:chOff x="1143000" y="3428640"/>
                  <a:chExt cx="1217880" cy="1294920"/>
                </a:xfrm>
              </p:grpSpPr>
              <p:grpSp>
                <p:nvGrpSpPr>
                  <p:cNvPr id="1522" name=""/>
                  <p:cNvGrpSpPr/>
                  <p:nvPr/>
                </p:nvGrpSpPr>
                <p:grpSpPr>
                  <a:xfrm>
                    <a:off x="1752120" y="3428640"/>
                    <a:ext cx="608760" cy="1294200"/>
                    <a:chOff x="1752120" y="3428640"/>
                    <a:chExt cx="608760" cy="1294200"/>
                  </a:xfrm>
                </p:grpSpPr>
                <p:grpSp>
                  <p:nvGrpSpPr>
                    <p:cNvPr id="1523" name=""/>
                    <p:cNvGrpSpPr/>
                    <p:nvPr/>
                  </p:nvGrpSpPr>
                  <p:grpSpPr>
                    <a:xfrm>
                      <a:off x="1752120" y="3428640"/>
                      <a:ext cx="608760" cy="185040"/>
                      <a:chOff x="1752120" y="3428640"/>
                      <a:chExt cx="608760" cy="185040"/>
                    </a:xfrm>
                  </p:grpSpPr>
                  <p:sp>
                    <p:nvSpPr>
                      <p:cNvPr id="1524" name=""/>
                      <p:cNvSpPr/>
                      <p:nvPr/>
                    </p:nvSpPr>
                    <p:spPr>
                      <a:xfrm>
                        <a:off x="1752120" y="342900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5" name=""/>
                      <p:cNvSpPr/>
                      <p:nvPr/>
                    </p:nvSpPr>
                    <p:spPr>
                      <a:xfrm>
                        <a:off x="1752120" y="361368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6" name=""/>
                      <p:cNvSpPr/>
                      <p:nvPr/>
                    </p:nvSpPr>
                    <p:spPr>
                      <a:xfrm>
                        <a:off x="1752120" y="342900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7" name=""/>
                      <p:cNvSpPr/>
                      <p:nvPr/>
                    </p:nvSpPr>
                    <p:spPr>
                      <a:xfrm flipV="1">
                        <a:off x="1752120" y="342864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28" name=""/>
                    <p:cNvGrpSpPr/>
                    <p:nvPr/>
                  </p:nvGrpSpPr>
                  <p:grpSpPr>
                    <a:xfrm>
                      <a:off x="1752120" y="3798720"/>
                      <a:ext cx="608760" cy="184320"/>
                      <a:chOff x="1752120" y="3798720"/>
                      <a:chExt cx="608760" cy="184320"/>
                    </a:xfrm>
                  </p:grpSpPr>
                  <p:sp>
                    <p:nvSpPr>
                      <p:cNvPr id="1529" name=""/>
                      <p:cNvSpPr/>
                      <p:nvPr/>
                    </p:nvSpPr>
                    <p:spPr>
                      <a:xfrm>
                        <a:off x="1752120" y="379872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0" name=""/>
                      <p:cNvSpPr/>
                      <p:nvPr/>
                    </p:nvSpPr>
                    <p:spPr>
                      <a:xfrm>
                        <a:off x="1752120" y="398304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1" name=""/>
                      <p:cNvSpPr/>
                      <p:nvPr/>
                    </p:nvSpPr>
                    <p:spPr>
                      <a:xfrm>
                        <a:off x="1752120" y="379872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2" name=""/>
                      <p:cNvSpPr/>
                      <p:nvPr/>
                    </p:nvSpPr>
                    <p:spPr>
                      <a:xfrm flipV="1">
                        <a:off x="1752120" y="379872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33" name=""/>
                    <p:cNvGrpSpPr/>
                    <p:nvPr/>
                  </p:nvGrpSpPr>
                  <p:grpSpPr>
                    <a:xfrm>
                      <a:off x="1752120" y="4168800"/>
                      <a:ext cx="608760" cy="184320"/>
                      <a:chOff x="1752120" y="4168800"/>
                      <a:chExt cx="608760" cy="184320"/>
                    </a:xfrm>
                  </p:grpSpPr>
                  <p:sp>
                    <p:nvSpPr>
                      <p:cNvPr id="1534" name=""/>
                      <p:cNvSpPr/>
                      <p:nvPr/>
                    </p:nvSpPr>
                    <p:spPr>
                      <a:xfrm>
                        <a:off x="1752120" y="416880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5" name=""/>
                      <p:cNvSpPr/>
                      <p:nvPr/>
                    </p:nvSpPr>
                    <p:spPr>
                      <a:xfrm>
                        <a:off x="1752120" y="435312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6" name=""/>
                      <p:cNvSpPr/>
                      <p:nvPr/>
                    </p:nvSpPr>
                    <p:spPr>
                      <a:xfrm>
                        <a:off x="1752120" y="416880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7" name=""/>
                      <p:cNvSpPr/>
                      <p:nvPr/>
                    </p:nvSpPr>
                    <p:spPr>
                      <a:xfrm flipV="1">
                        <a:off x="1752120" y="416880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38" name=""/>
                    <p:cNvGrpSpPr/>
                    <p:nvPr/>
                  </p:nvGrpSpPr>
                  <p:grpSpPr>
                    <a:xfrm>
                      <a:off x="1752120" y="4537800"/>
                      <a:ext cx="608760" cy="185040"/>
                      <a:chOff x="1752120" y="4537800"/>
                      <a:chExt cx="608760" cy="185040"/>
                    </a:xfrm>
                  </p:grpSpPr>
                  <p:sp>
                    <p:nvSpPr>
                      <p:cNvPr id="1539" name=""/>
                      <p:cNvSpPr/>
                      <p:nvPr/>
                    </p:nvSpPr>
                    <p:spPr>
                      <a:xfrm>
                        <a:off x="1752120" y="453816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0" name=""/>
                      <p:cNvSpPr/>
                      <p:nvPr/>
                    </p:nvSpPr>
                    <p:spPr>
                      <a:xfrm>
                        <a:off x="1752120" y="472284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1" name=""/>
                      <p:cNvSpPr/>
                      <p:nvPr/>
                    </p:nvSpPr>
                    <p:spPr>
                      <a:xfrm>
                        <a:off x="1752120" y="453816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2" name=""/>
                      <p:cNvSpPr/>
                      <p:nvPr/>
                    </p:nvSpPr>
                    <p:spPr>
                      <a:xfrm flipV="1">
                        <a:off x="1752120" y="453780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543" name=""/>
                  <p:cNvSpPr/>
                  <p:nvPr/>
                </p:nvSpPr>
                <p:spPr>
                  <a:xfrm flipH="1">
                    <a:off x="1143000" y="34290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 flipH="1">
                    <a:off x="1143000" y="361404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 flipH="1">
                    <a:off x="1143000" y="379872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 flipH="1">
                    <a:off x="1143000" y="398376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 flipH="1">
                    <a:off x="1143000" y="41688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 flipH="1">
                    <a:off x="1143000" y="435348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 flipH="1">
                    <a:off x="1143000" y="453852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 flipH="1">
                    <a:off x="1143000" y="472356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 flipH="1" flipV="1">
                    <a:off x="1143000" y="342864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 flipH="1" flipV="1">
                    <a:off x="1143000" y="361404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 flipH="1" flipV="1">
                    <a:off x="1143000" y="416880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 flipH="1" flipV="1">
                    <a:off x="1143000" y="435312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 flipV="1">
                    <a:off x="1143000" y="342864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 flipV="1">
                    <a:off x="1143000" y="361404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 flipV="1">
                    <a:off x="1143000" y="416880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 flipV="1">
                    <a:off x="1143000" y="435312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9" name=""/>
                <p:cNvSpPr/>
                <p:nvPr/>
              </p:nvSpPr>
              <p:spPr>
                <a:xfrm>
                  <a:off x="533520" y="34290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533520" y="36140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533520" y="37990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533520" y="398376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533520" y="416916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533520" y="43538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533520" y="45388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533520" y="47239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flipH="1">
                  <a:off x="533160" y="342900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H="1">
                  <a:off x="533160" y="361404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flipH="1">
                  <a:off x="533160" y="379908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flipH="1">
                  <a:off x="533160" y="398376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533520" y="342900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533520" y="361404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533520" y="379908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533520" y="398376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533160" y="1752120"/>
                <a:ext cx="1827720" cy="1295280"/>
                <a:chOff x="533160" y="1752120"/>
                <a:chExt cx="1827720" cy="1295280"/>
              </a:xfrm>
            </p:grpSpPr>
            <p:grpSp>
              <p:nvGrpSpPr>
                <p:cNvPr id="1576" name=""/>
                <p:cNvGrpSpPr/>
                <p:nvPr/>
              </p:nvGrpSpPr>
              <p:grpSpPr>
                <a:xfrm>
                  <a:off x="1143000" y="1752120"/>
                  <a:ext cx="1217880" cy="1294920"/>
                  <a:chOff x="1143000" y="1752120"/>
                  <a:chExt cx="1217880" cy="1294920"/>
                </a:xfrm>
              </p:grpSpPr>
              <p:grpSp>
                <p:nvGrpSpPr>
                  <p:cNvPr id="1577" name=""/>
                  <p:cNvGrpSpPr/>
                  <p:nvPr/>
                </p:nvGrpSpPr>
                <p:grpSpPr>
                  <a:xfrm>
                    <a:off x="1752120" y="1752120"/>
                    <a:ext cx="608760" cy="1294200"/>
                    <a:chOff x="1752120" y="1752120"/>
                    <a:chExt cx="608760" cy="1294200"/>
                  </a:xfrm>
                </p:grpSpPr>
                <p:grpSp>
                  <p:nvGrpSpPr>
                    <p:cNvPr id="1578" name=""/>
                    <p:cNvGrpSpPr/>
                    <p:nvPr/>
                  </p:nvGrpSpPr>
                  <p:grpSpPr>
                    <a:xfrm>
                      <a:off x="1752120" y="1752120"/>
                      <a:ext cx="608760" cy="185040"/>
                      <a:chOff x="1752120" y="1752120"/>
                      <a:chExt cx="608760" cy="185040"/>
                    </a:xfrm>
                  </p:grpSpPr>
                  <p:sp>
                    <p:nvSpPr>
                      <p:cNvPr id="1579" name=""/>
                      <p:cNvSpPr/>
                      <p:nvPr/>
                    </p:nvSpPr>
                    <p:spPr>
                      <a:xfrm>
                        <a:off x="1752120" y="175248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0" name=""/>
                      <p:cNvSpPr/>
                      <p:nvPr/>
                    </p:nvSpPr>
                    <p:spPr>
                      <a:xfrm>
                        <a:off x="1752120" y="193716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1" name=""/>
                      <p:cNvSpPr/>
                      <p:nvPr/>
                    </p:nvSpPr>
                    <p:spPr>
                      <a:xfrm>
                        <a:off x="1752120" y="175248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2" name=""/>
                      <p:cNvSpPr/>
                      <p:nvPr/>
                    </p:nvSpPr>
                    <p:spPr>
                      <a:xfrm flipV="1">
                        <a:off x="1752120" y="175212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83" name=""/>
                    <p:cNvGrpSpPr/>
                    <p:nvPr/>
                  </p:nvGrpSpPr>
                  <p:grpSpPr>
                    <a:xfrm>
                      <a:off x="1752120" y="2122200"/>
                      <a:ext cx="608760" cy="184320"/>
                      <a:chOff x="1752120" y="2122200"/>
                      <a:chExt cx="608760" cy="184320"/>
                    </a:xfrm>
                  </p:grpSpPr>
                  <p:sp>
                    <p:nvSpPr>
                      <p:cNvPr id="1584" name=""/>
                      <p:cNvSpPr/>
                      <p:nvPr/>
                    </p:nvSpPr>
                    <p:spPr>
                      <a:xfrm>
                        <a:off x="1752120" y="212220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"/>
                      <p:cNvSpPr/>
                      <p:nvPr/>
                    </p:nvSpPr>
                    <p:spPr>
                      <a:xfrm>
                        <a:off x="1752120" y="230652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"/>
                      <p:cNvSpPr/>
                      <p:nvPr/>
                    </p:nvSpPr>
                    <p:spPr>
                      <a:xfrm>
                        <a:off x="1752120" y="212220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"/>
                      <p:cNvSpPr/>
                      <p:nvPr/>
                    </p:nvSpPr>
                    <p:spPr>
                      <a:xfrm flipV="1">
                        <a:off x="1752120" y="212220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88" name=""/>
                    <p:cNvGrpSpPr/>
                    <p:nvPr/>
                  </p:nvGrpSpPr>
                  <p:grpSpPr>
                    <a:xfrm>
                      <a:off x="1752120" y="2492280"/>
                      <a:ext cx="608760" cy="184320"/>
                      <a:chOff x="1752120" y="2492280"/>
                      <a:chExt cx="608760" cy="184320"/>
                    </a:xfrm>
                  </p:grpSpPr>
                  <p:sp>
                    <p:nvSpPr>
                      <p:cNvPr id="1589" name=""/>
                      <p:cNvSpPr/>
                      <p:nvPr/>
                    </p:nvSpPr>
                    <p:spPr>
                      <a:xfrm>
                        <a:off x="1752120" y="249228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"/>
                      <p:cNvSpPr/>
                      <p:nvPr/>
                    </p:nvSpPr>
                    <p:spPr>
                      <a:xfrm>
                        <a:off x="1752120" y="267660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"/>
                      <p:cNvSpPr/>
                      <p:nvPr/>
                    </p:nvSpPr>
                    <p:spPr>
                      <a:xfrm>
                        <a:off x="1752120" y="249228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"/>
                      <p:cNvSpPr/>
                      <p:nvPr/>
                    </p:nvSpPr>
                    <p:spPr>
                      <a:xfrm flipV="1">
                        <a:off x="1752120" y="249228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3" name=""/>
                    <p:cNvGrpSpPr/>
                    <p:nvPr/>
                  </p:nvGrpSpPr>
                  <p:grpSpPr>
                    <a:xfrm>
                      <a:off x="1752120" y="2861280"/>
                      <a:ext cx="608760" cy="185040"/>
                      <a:chOff x="1752120" y="2861280"/>
                      <a:chExt cx="608760" cy="185040"/>
                    </a:xfrm>
                  </p:grpSpPr>
                  <p:sp>
                    <p:nvSpPr>
                      <p:cNvPr id="1594" name=""/>
                      <p:cNvSpPr/>
                      <p:nvPr/>
                    </p:nvSpPr>
                    <p:spPr>
                      <a:xfrm>
                        <a:off x="1752120" y="286164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"/>
                      <p:cNvSpPr/>
                      <p:nvPr/>
                    </p:nvSpPr>
                    <p:spPr>
                      <a:xfrm>
                        <a:off x="1752120" y="304632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"/>
                      <p:cNvSpPr/>
                      <p:nvPr/>
                    </p:nvSpPr>
                    <p:spPr>
                      <a:xfrm>
                        <a:off x="1752120" y="286164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"/>
                      <p:cNvSpPr/>
                      <p:nvPr/>
                    </p:nvSpPr>
                    <p:spPr>
                      <a:xfrm flipV="1">
                        <a:off x="1752120" y="286128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598" name=""/>
                  <p:cNvSpPr/>
                  <p:nvPr/>
                </p:nvSpPr>
                <p:spPr>
                  <a:xfrm flipH="1">
                    <a:off x="1143000" y="175248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 flipH="1">
                    <a:off x="1143000" y="193752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 flipH="1">
                    <a:off x="1143000" y="21222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 flipH="1">
                    <a:off x="1143000" y="230724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 flipH="1">
                    <a:off x="1143000" y="249228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 flipH="1">
                    <a:off x="1143000" y="267696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 flipH="1">
                    <a:off x="1143000" y="28620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 flipH="1">
                    <a:off x="1143000" y="304704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 flipH="1" flipV="1">
                    <a:off x="1143000" y="175212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H="1" flipV="1">
                    <a:off x="1143000" y="193752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 flipH="1" flipV="1">
                    <a:off x="1143000" y="249228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 flipH="1" flipV="1">
                    <a:off x="1143000" y="267660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flipV="1">
                    <a:off x="1143000" y="175212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 flipV="1">
                    <a:off x="1143000" y="193752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 flipV="1">
                    <a:off x="1143000" y="249228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 flipV="1">
                    <a:off x="1143000" y="2676600"/>
                    <a:ext cx="609120" cy="36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4" name=""/>
                <p:cNvSpPr/>
                <p:nvPr/>
              </p:nvSpPr>
              <p:spPr>
                <a:xfrm>
                  <a:off x="533520" y="17524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533520" y="19375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533520" y="212256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533520" y="23072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533520" y="24926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533520" y="26773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533520" y="286236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533520" y="30474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H="1">
                  <a:off x="533160" y="175248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>
                  <a:off x="533160" y="193752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>
                  <a:off x="533160" y="212256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>
                  <a:off x="533160" y="230724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533520" y="175248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533520" y="193752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533520" y="212256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533520" y="230724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0" name=""/>
              <p:cNvGrpSpPr/>
              <p:nvPr/>
            </p:nvGrpSpPr>
            <p:grpSpPr>
              <a:xfrm>
                <a:off x="533160" y="5104800"/>
                <a:ext cx="1827720" cy="1295640"/>
                <a:chOff x="533160" y="5104800"/>
                <a:chExt cx="1827720" cy="1295640"/>
              </a:xfrm>
            </p:grpSpPr>
            <p:grpSp>
              <p:nvGrpSpPr>
                <p:cNvPr id="1631" name=""/>
                <p:cNvGrpSpPr/>
                <p:nvPr/>
              </p:nvGrpSpPr>
              <p:grpSpPr>
                <a:xfrm>
                  <a:off x="1143000" y="5104800"/>
                  <a:ext cx="1217880" cy="1295280"/>
                  <a:chOff x="1143000" y="5104800"/>
                  <a:chExt cx="1217880" cy="1295280"/>
                </a:xfrm>
              </p:grpSpPr>
              <p:grpSp>
                <p:nvGrpSpPr>
                  <p:cNvPr id="1632" name=""/>
                  <p:cNvGrpSpPr/>
                  <p:nvPr/>
                </p:nvGrpSpPr>
                <p:grpSpPr>
                  <a:xfrm>
                    <a:off x="1752120" y="5104800"/>
                    <a:ext cx="608760" cy="1294560"/>
                    <a:chOff x="1752120" y="5104800"/>
                    <a:chExt cx="608760" cy="1294560"/>
                  </a:xfrm>
                </p:grpSpPr>
                <p:grpSp>
                  <p:nvGrpSpPr>
                    <p:cNvPr id="1633" name=""/>
                    <p:cNvGrpSpPr/>
                    <p:nvPr/>
                  </p:nvGrpSpPr>
                  <p:grpSpPr>
                    <a:xfrm>
                      <a:off x="1752120" y="5104800"/>
                      <a:ext cx="608760" cy="185040"/>
                      <a:chOff x="1752120" y="5104800"/>
                      <a:chExt cx="608760" cy="185040"/>
                    </a:xfrm>
                  </p:grpSpPr>
                  <p:sp>
                    <p:nvSpPr>
                      <p:cNvPr id="1634" name=""/>
                      <p:cNvSpPr/>
                      <p:nvPr/>
                    </p:nvSpPr>
                    <p:spPr>
                      <a:xfrm>
                        <a:off x="1752120" y="510516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5" name=""/>
                      <p:cNvSpPr/>
                      <p:nvPr/>
                    </p:nvSpPr>
                    <p:spPr>
                      <a:xfrm>
                        <a:off x="1752120" y="528984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6" name=""/>
                      <p:cNvSpPr/>
                      <p:nvPr/>
                    </p:nvSpPr>
                    <p:spPr>
                      <a:xfrm>
                        <a:off x="1752120" y="510516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7" name=""/>
                      <p:cNvSpPr/>
                      <p:nvPr/>
                    </p:nvSpPr>
                    <p:spPr>
                      <a:xfrm flipV="1">
                        <a:off x="1752120" y="510480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38" name=""/>
                    <p:cNvGrpSpPr/>
                    <p:nvPr/>
                  </p:nvGrpSpPr>
                  <p:grpSpPr>
                    <a:xfrm>
                      <a:off x="1752120" y="5474880"/>
                      <a:ext cx="608760" cy="184320"/>
                      <a:chOff x="1752120" y="5474880"/>
                      <a:chExt cx="608760" cy="184320"/>
                    </a:xfrm>
                  </p:grpSpPr>
                  <p:sp>
                    <p:nvSpPr>
                      <p:cNvPr id="1639" name=""/>
                      <p:cNvSpPr/>
                      <p:nvPr/>
                    </p:nvSpPr>
                    <p:spPr>
                      <a:xfrm>
                        <a:off x="1752120" y="547488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0" name=""/>
                      <p:cNvSpPr/>
                      <p:nvPr/>
                    </p:nvSpPr>
                    <p:spPr>
                      <a:xfrm>
                        <a:off x="1752120" y="565920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1" name=""/>
                      <p:cNvSpPr/>
                      <p:nvPr/>
                    </p:nvSpPr>
                    <p:spPr>
                      <a:xfrm>
                        <a:off x="1752120" y="547488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2" name=""/>
                      <p:cNvSpPr/>
                      <p:nvPr/>
                    </p:nvSpPr>
                    <p:spPr>
                      <a:xfrm flipV="1">
                        <a:off x="1752120" y="547488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43" name=""/>
                    <p:cNvGrpSpPr/>
                    <p:nvPr/>
                  </p:nvGrpSpPr>
                  <p:grpSpPr>
                    <a:xfrm>
                      <a:off x="1752120" y="5844960"/>
                      <a:ext cx="608760" cy="184320"/>
                      <a:chOff x="1752120" y="5844960"/>
                      <a:chExt cx="608760" cy="184320"/>
                    </a:xfrm>
                  </p:grpSpPr>
                  <p:sp>
                    <p:nvSpPr>
                      <p:cNvPr id="1644" name=""/>
                      <p:cNvSpPr/>
                      <p:nvPr/>
                    </p:nvSpPr>
                    <p:spPr>
                      <a:xfrm>
                        <a:off x="1752120" y="584496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5" name=""/>
                      <p:cNvSpPr/>
                      <p:nvPr/>
                    </p:nvSpPr>
                    <p:spPr>
                      <a:xfrm>
                        <a:off x="1752120" y="602928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"/>
                      <p:cNvSpPr/>
                      <p:nvPr/>
                    </p:nvSpPr>
                    <p:spPr>
                      <a:xfrm>
                        <a:off x="1752120" y="584496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"/>
                      <p:cNvSpPr/>
                      <p:nvPr/>
                    </p:nvSpPr>
                    <p:spPr>
                      <a:xfrm flipV="1">
                        <a:off x="1752120" y="5844960"/>
                        <a:ext cx="60876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48" name=""/>
                    <p:cNvGrpSpPr/>
                    <p:nvPr/>
                  </p:nvGrpSpPr>
                  <p:grpSpPr>
                    <a:xfrm>
                      <a:off x="1752120" y="6214320"/>
                      <a:ext cx="608760" cy="185040"/>
                      <a:chOff x="1752120" y="6214320"/>
                      <a:chExt cx="608760" cy="185040"/>
                    </a:xfrm>
                  </p:grpSpPr>
                  <p:sp>
                    <p:nvSpPr>
                      <p:cNvPr id="1649" name=""/>
                      <p:cNvSpPr/>
                      <p:nvPr/>
                    </p:nvSpPr>
                    <p:spPr>
                      <a:xfrm>
                        <a:off x="1752120" y="621468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0" name=""/>
                      <p:cNvSpPr/>
                      <p:nvPr/>
                    </p:nvSpPr>
                    <p:spPr>
                      <a:xfrm>
                        <a:off x="1752120" y="6399360"/>
                        <a:ext cx="608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1" name=""/>
                      <p:cNvSpPr/>
                      <p:nvPr/>
                    </p:nvSpPr>
                    <p:spPr>
                      <a:xfrm>
                        <a:off x="1752120" y="621468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2" name=""/>
                      <p:cNvSpPr/>
                      <p:nvPr/>
                    </p:nvSpPr>
                    <p:spPr>
                      <a:xfrm flipV="1">
                        <a:off x="1752120" y="6214320"/>
                        <a:ext cx="6087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653" name=""/>
                  <p:cNvSpPr/>
                  <p:nvPr/>
                </p:nvSpPr>
                <p:spPr>
                  <a:xfrm flipH="1">
                    <a:off x="1143000" y="510516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 flipH="1">
                    <a:off x="1143000" y="52902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 flipH="1">
                    <a:off x="1143000" y="547524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 flipH="1">
                    <a:off x="1143000" y="565992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 flipH="1">
                    <a:off x="1143000" y="584532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 flipH="1">
                    <a:off x="1143000" y="60300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 flipH="1">
                    <a:off x="1143000" y="621504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 flipH="1">
                    <a:off x="1143000" y="640008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 flipH="1" flipV="1">
                    <a:off x="1143000" y="5105160"/>
                    <a:ext cx="609120" cy="37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 flipH="1" flipV="1">
                    <a:off x="1143000" y="529020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flipH="1" flipV="1">
                    <a:off x="1143000" y="584532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 flipH="1" flipV="1">
                    <a:off x="1143000" y="6030000"/>
                    <a:ext cx="609120" cy="37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flipV="1">
                    <a:off x="1143000" y="5105160"/>
                    <a:ext cx="609120" cy="37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 flipV="1">
                    <a:off x="1143000" y="529020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V="1">
                    <a:off x="1143000" y="5845320"/>
                    <a:ext cx="609120" cy="36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 flipV="1">
                    <a:off x="1143000" y="6030000"/>
                    <a:ext cx="609120" cy="37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"/>
                <p:cNvSpPr/>
                <p:nvPr/>
              </p:nvSpPr>
              <p:spPr>
                <a:xfrm>
                  <a:off x="533520" y="510516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533520" y="52902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533520" y="54752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533520" y="56599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533520" y="58453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533520" y="603036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533520" y="62150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533520" y="64004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flipH="1">
                  <a:off x="533160" y="510516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flipH="1">
                  <a:off x="533160" y="529020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flipH="1">
                  <a:off x="533160" y="547524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flipH="1">
                  <a:off x="533160" y="565992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33520" y="510516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533520" y="529020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533520" y="5475240"/>
                  <a:ext cx="609480" cy="73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33520" y="5659920"/>
                  <a:ext cx="609480" cy="74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5" name=""/>
            <p:cNvGrpSpPr/>
            <p:nvPr/>
          </p:nvGrpSpPr>
          <p:grpSpPr>
            <a:xfrm>
              <a:off x="228600" y="76320"/>
              <a:ext cx="328320" cy="6402240"/>
              <a:chOff x="228600" y="76320"/>
              <a:chExt cx="328320" cy="6402240"/>
            </a:xfrm>
          </p:grpSpPr>
          <p:grpSp>
            <p:nvGrpSpPr>
              <p:cNvPr id="1686" name=""/>
              <p:cNvGrpSpPr/>
              <p:nvPr/>
            </p:nvGrpSpPr>
            <p:grpSpPr>
              <a:xfrm>
                <a:off x="228600" y="76320"/>
                <a:ext cx="328320" cy="1480680"/>
                <a:chOff x="228600" y="76320"/>
                <a:chExt cx="328320" cy="1480680"/>
              </a:xfrm>
            </p:grpSpPr>
            <p:grpSp>
              <p:nvGrpSpPr>
                <p:cNvPr id="1687" name=""/>
                <p:cNvGrpSpPr/>
                <p:nvPr/>
              </p:nvGrpSpPr>
              <p:grpSpPr>
                <a:xfrm>
                  <a:off x="228600" y="76320"/>
                  <a:ext cx="328320" cy="775800"/>
                  <a:chOff x="228600" y="76320"/>
                  <a:chExt cx="328320" cy="775800"/>
                </a:xfrm>
              </p:grpSpPr>
              <p:sp>
                <p:nvSpPr>
                  <p:cNvPr id="1688" name=""/>
                  <p:cNvSpPr/>
                  <p:nvPr/>
                </p:nvSpPr>
                <p:spPr>
                  <a:xfrm>
                    <a:off x="228600" y="76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228600" y="237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228600" y="4284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228600" y="6058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2" name=""/>
                <p:cNvGrpSpPr/>
                <p:nvPr/>
              </p:nvGrpSpPr>
              <p:grpSpPr>
                <a:xfrm>
                  <a:off x="228600" y="780120"/>
                  <a:ext cx="328320" cy="776880"/>
                  <a:chOff x="228600" y="780120"/>
                  <a:chExt cx="328320" cy="776880"/>
                </a:xfrm>
              </p:grpSpPr>
              <p:sp>
                <p:nvSpPr>
                  <p:cNvPr id="1693" name=""/>
                  <p:cNvSpPr/>
                  <p:nvPr/>
                </p:nvSpPr>
                <p:spPr>
                  <a:xfrm>
                    <a:off x="228600" y="7801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228600" y="9435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228600" y="113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228600" y="131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7" name=""/>
              <p:cNvGrpSpPr/>
              <p:nvPr/>
            </p:nvGrpSpPr>
            <p:grpSpPr>
              <a:xfrm>
                <a:off x="228600" y="1676520"/>
                <a:ext cx="328320" cy="1481040"/>
                <a:chOff x="228600" y="1676520"/>
                <a:chExt cx="328320" cy="1481040"/>
              </a:xfrm>
            </p:grpSpPr>
            <p:grpSp>
              <p:nvGrpSpPr>
                <p:cNvPr id="1698" name=""/>
                <p:cNvGrpSpPr/>
                <p:nvPr/>
              </p:nvGrpSpPr>
              <p:grpSpPr>
                <a:xfrm>
                  <a:off x="228600" y="1676520"/>
                  <a:ext cx="328320" cy="776160"/>
                  <a:chOff x="228600" y="1676520"/>
                  <a:chExt cx="328320" cy="776160"/>
                </a:xfrm>
              </p:grpSpPr>
              <p:sp>
                <p:nvSpPr>
                  <p:cNvPr id="1699" name=""/>
                  <p:cNvSpPr/>
                  <p:nvPr/>
                </p:nvSpPr>
                <p:spPr>
                  <a:xfrm>
                    <a:off x="228600" y="1676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228600" y="1840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228600" y="2028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228600" y="2206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3" name=""/>
                <p:cNvGrpSpPr/>
                <p:nvPr/>
              </p:nvGrpSpPr>
              <p:grpSpPr>
                <a:xfrm>
                  <a:off x="228600" y="2385000"/>
                  <a:ext cx="328320" cy="772560"/>
                  <a:chOff x="228600" y="2385000"/>
                  <a:chExt cx="328320" cy="772560"/>
                </a:xfrm>
              </p:grpSpPr>
              <p:sp>
                <p:nvSpPr>
                  <p:cNvPr id="1704" name=""/>
                  <p:cNvSpPr/>
                  <p:nvPr/>
                </p:nvSpPr>
                <p:spPr>
                  <a:xfrm>
                    <a:off x="228600" y="2385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228600" y="2546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228600" y="2734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228600" y="291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8" name=""/>
              <p:cNvGrpSpPr/>
              <p:nvPr/>
            </p:nvGrpSpPr>
            <p:grpSpPr>
              <a:xfrm>
                <a:off x="228600" y="3321360"/>
                <a:ext cx="328320" cy="1480680"/>
                <a:chOff x="228600" y="3321360"/>
                <a:chExt cx="328320" cy="1480680"/>
              </a:xfrm>
            </p:grpSpPr>
            <p:grpSp>
              <p:nvGrpSpPr>
                <p:cNvPr id="1709" name=""/>
                <p:cNvGrpSpPr/>
                <p:nvPr/>
              </p:nvGrpSpPr>
              <p:grpSpPr>
                <a:xfrm>
                  <a:off x="228600" y="3321360"/>
                  <a:ext cx="328320" cy="775800"/>
                  <a:chOff x="228600" y="3321360"/>
                  <a:chExt cx="328320" cy="775800"/>
                </a:xfrm>
              </p:grpSpPr>
              <p:sp>
                <p:nvSpPr>
                  <p:cNvPr id="1710" name=""/>
                  <p:cNvSpPr/>
                  <p:nvPr/>
                </p:nvSpPr>
                <p:spPr>
                  <a:xfrm>
                    <a:off x="228600" y="33213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228600" y="34826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228600" y="3673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228600" y="3850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4" name=""/>
                <p:cNvGrpSpPr/>
                <p:nvPr/>
              </p:nvGrpSpPr>
              <p:grpSpPr>
                <a:xfrm>
                  <a:off x="228600" y="4025160"/>
                  <a:ext cx="328320" cy="776880"/>
                  <a:chOff x="228600" y="4025160"/>
                  <a:chExt cx="328320" cy="776880"/>
                </a:xfrm>
              </p:grpSpPr>
              <p:sp>
                <p:nvSpPr>
                  <p:cNvPr id="1715" name=""/>
                  <p:cNvSpPr/>
                  <p:nvPr/>
                </p:nvSpPr>
                <p:spPr>
                  <a:xfrm>
                    <a:off x="228600" y="40251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228600" y="418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228600" y="437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228600" y="455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9" name=""/>
              <p:cNvGrpSpPr/>
              <p:nvPr/>
            </p:nvGrpSpPr>
            <p:grpSpPr>
              <a:xfrm>
                <a:off x="228600" y="4997520"/>
                <a:ext cx="328320" cy="1481040"/>
                <a:chOff x="228600" y="4997520"/>
                <a:chExt cx="328320" cy="1481040"/>
              </a:xfrm>
            </p:grpSpPr>
            <p:grpSp>
              <p:nvGrpSpPr>
                <p:cNvPr id="1720" name=""/>
                <p:cNvGrpSpPr/>
                <p:nvPr/>
              </p:nvGrpSpPr>
              <p:grpSpPr>
                <a:xfrm>
                  <a:off x="228600" y="4997520"/>
                  <a:ext cx="328320" cy="776160"/>
                  <a:chOff x="228600" y="4997520"/>
                  <a:chExt cx="328320" cy="776160"/>
                </a:xfrm>
              </p:grpSpPr>
              <p:sp>
                <p:nvSpPr>
                  <p:cNvPr id="1721" name=""/>
                  <p:cNvSpPr/>
                  <p:nvPr/>
                </p:nvSpPr>
                <p:spPr>
                  <a:xfrm>
                    <a:off x="228600" y="499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228600" y="516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228600" y="5349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228600" y="5527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5" name=""/>
                <p:cNvGrpSpPr/>
                <p:nvPr/>
              </p:nvGrpSpPr>
              <p:grpSpPr>
                <a:xfrm>
                  <a:off x="228600" y="5706000"/>
                  <a:ext cx="328320" cy="772560"/>
                  <a:chOff x="228600" y="5706000"/>
                  <a:chExt cx="328320" cy="772560"/>
                </a:xfrm>
              </p:grpSpPr>
              <p:sp>
                <p:nvSpPr>
                  <p:cNvPr id="1726" name=""/>
                  <p:cNvSpPr/>
                  <p:nvPr/>
                </p:nvSpPr>
                <p:spPr>
                  <a:xfrm>
                    <a:off x="228600" y="5706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228600" y="5867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228600" y="6055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228600" y="6232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mc:AlternateContent>
          <mc:Choice xmlns:a14="http://schemas.microsoft.com/office/drawing/2010/main" Requires="a14">
            <p:sp>
              <p:nvSpPr>
                <p:cNvPr id="1730" name=""/>
                <p:cNvSpPr txBox="1"/>
                <p:nvPr/>
              </p:nvSpPr>
              <p:spPr>
                <a:xfrm>
                  <a:off x="990720" y="6451560"/>
                  <a:ext cx="1676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⊗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731" name=""/>
            <p:cNvGrpSpPr/>
            <p:nvPr/>
          </p:nvGrpSpPr>
          <p:grpSpPr>
            <a:xfrm>
              <a:off x="3809880" y="140760"/>
              <a:ext cx="1217880" cy="6248520"/>
              <a:chOff x="3809880" y="140760"/>
              <a:chExt cx="1217880" cy="624852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3809880" y="140760"/>
                <a:ext cx="1217880" cy="1295640"/>
                <a:chOff x="3809880" y="140760"/>
                <a:chExt cx="1217880" cy="1295640"/>
              </a:xfrm>
            </p:grpSpPr>
            <p:grpSp>
              <p:nvGrpSpPr>
                <p:cNvPr id="1733" name=""/>
                <p:cNvGrpSpPr/>
                <p:nvPr/>
              </p:nvGrpSpPr>
              <p:grpSpPr>
                <a:xfrm>
                  <a:off x="4419000" y="140760"/>
                  <a:ext cx="608760" cy="1294920"/>
                  <a:chOff x="4419000" y="140760"/>
                  <a:chExt cx="608760" cy="1294920"/>
                </a:xfrm>
              </p:grpSpPr>
              <p:grpSp>
                <p:nvGrpSpPr>
                  <p:cNvPr id="1734" name=""/>
                  <p:cNvGrpSpPr/>
                  <p:nvPr/>
                </p:nvGrpSpPr>
                <p:grpSpPr>
                  <a:xfrm>
                    <a:off x="4419000" y="140760"/>
                    <a:ext cx="608760" cy="185040"/>
                    <a:chOff x="4419000" y="140760"/>
                    <a:chExt cx="608760" cy="185040"/>
                  </a:xfrm>
                </p:grpSpPr>
                <p:sp>
                  <p:nvSpPr>
                    <p:cNvPr id="1735" name=""/>
                    <p:cNvSpPr/>
                    <p:nvPr/>
                  </p:nvSpPr>
                  <p:spPr>
                    <a:xfrm>
                      <a:off x="4419000" y="14112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6" name=""/>
                    <p:cNvSpPr/>
                    <p:nvPr/>
                  </p:nvSpPr>
                  <p:spPr>
                    <a:xfrm>
                      <a:off x="4419000" y="3258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7" name=""/>
                    <p:cNvSpPr/>
                    <p:nvPr/>
                  </p:nvSpPr>
                  <p:spPr>
                    <a:xfrm>
                      <a:off x="4419000" y="14112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8" name=""/>
                    <p:cNvSpPr/>
                    <p:nvPr/>
                  </p:nvSpPr>
                  <p:spPr>
                    <a:xfrm flipV="1">
                      <a:off x="4419000" y="14076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39" name=""/>
                  <p:cNvGrpSpPr/>
                  <p:nvPr/>
                </p:nvGrpSpPr>
                <p:grpSpPr>
                  <a:xfrm>
                    <a:off x="4419000" y="511200"/>
                    <a:ext cx="608760" cy="184320"/>
                    <a:chOff x="4419000" y="511200"/>
                    <a:chExt cx="608760" cy="184320"/>
                  </a:xfrm>
                </p:grpSpPr>
                <p:sp>
                  <p:nvSpPr>
                    <p:cNvPr id="1740" name=""/>
                    <p:cNvSpPr/>
                    <p:nvPr/>
                  </p:nvSpPr>
                  <p:spPr>
                    <a:xfrm>
                      <a:off x="4419000" y="5112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1" name=""/>
                    <p:cNvSpPr/>
                    <p:nvPr/>
                  </p:nvSpPr>
                  <p:spPr>
                    <a:xfrm>
                      <a:off x="4419000" y="69552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2" name=""/>
                    <p:cNvSpPr/>
                    <p:nvPr/>
                  </p:nvSpPr>
                  <p:spPr>
                    <a:xfrm>
                      <a:off x="4419000" y="51120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3" name=""/>
                    <p:cNvSpPr/>
                    <p:nvPr/>
                  </p:nvSpPr>
                  <p:spPr>
                    <a:xfrm flipV="1">
                      <a:off x="4419000" y="51120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4" name=""/>
                  <p:cNvGrpSpPr/>
                  <p:nvPr/>
                </p:nvGrpSpPr>
                <p:grpSpPr>
                  <a:xfrm>
                    <a:off x="4419000" y="881280"/>
                    <a:ext cx="608760" cy="184320"/>
                    <a:chOff x="4419000" y="881280"/>
                    <a:chExt cx="608760" cy="184320"/>
                  </a:xfrm>
                </p:grpSpPr>
                <p:sp>
                  <p:nvSpPr>
                    <p:cNvPr id="1745" name=""/>
                    <p:cNvSpPr/>
                    <p:nvPr/>
                  </p:nvSpPr>
                  <p:spPr>
                    <a:xfrm>
                      <a:off x="4419000" y="88128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6" name=""/>
                    <p:cNvSpPr/>
                    <p:nvPr/>
                  </p:nvSpPr>
                  <p:spPr>
                    <a:xfrm>
                      <a:off x="4419000" y="10656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7" name=""/>
                    <p:cNvSpPr/>
                    <p:nvPr/>
                  </p:nvSpPr>
                  <p:spPr>
                    <a:xfrm>
                      <a:off x="4419000" y="88128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8" name=""/>
                    <p:cNvSpPr/>
                    <p:nvPr/>
                  </p:nvSpPr>
                  <p:spPr>
                    <a:xfrm flipV="1">
                      <a:off x="4419000" y="88128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9" name=""/>
                  <p:cNvGrpSpPr/>
                  <p:nvPr/>
                </p:nvGrpSpPr>
                <p:grpSpPr>
                  <a:xfrm>
                    <a:off x="4419000" y="1250640"/>
                    <a:ext cx="608760" cy="185040"/>
                    <a:chOff x="4419000" y="1250640"/>
                    <a:chExt cx="608760" cy="185040"/>
                  </a:xfrm>
                </p:grpSpPr>
                <p:sp>
                  <p:nvSpPr>
                    <p:cNvPr id="1750" name=""/>
                    <p:cNvSpPr/>
                    <p:nvPr/>
                  </p:nvSpPr>
                  <p:spPr>
                    <a:xfrm>
                      <a:off x="4419000" y="12510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1" name=""/>
                    <p:cNvSpPr/>
                    <p:nvPr/>
                  </p:nvSpPr>
                  <p:spPr>
                    <a:xfrm>
                      <a:off x="4419000" y="143568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2" name=""/>
                    <p:cNvSpPr/>
                    <p:nvPr/>
                  </p:nvSpPr>
                  <p:spPr>
                    <a:xfrm>
                      <a:off x="4419000" y="125100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3" name=""/>
                    <p:cNvSpPr/>
                    <p:nvPr/>
                  </p:nvSpPr>
                  <p:spPr>
                    <a:xfrm flipV="1">
                      <a:off x="4419000" y="125064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54" name=""/>
                <p:cNvSpPr/>
                <p:nvPr/>
              </p:nvSpPr>
              <p:spPr>
                <a:xfrm flipH="1">
                  <a:off x="3809880" y="14112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 flipH="1">
                  <a:off x="3809880" y="32616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 flipH="1">
                  <a:off x="3809880" y="5112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H="1">
                  <a:off x="3809880" y="69588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H="1">
                  <a:off x="3809880" y="88128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H="1">
                  <a:off x="3809880" y="106632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 flipH="1">
                  <a:off x="3809880" y="12510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flipH="1">
                  <a:off x="3809880" y="14364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 flipH="1" flipV="1">
                  <a:off x="3809880" y="14112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 flipH="1" flipV="1">
                  <a:off x="3809880" y="325800"/>
                  <a:ext cx="60912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flipH="1" flipV="1">
                  <a:off x="3809880" y="880920"/>
                  <a:ext cx="60912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H="1" flipV="1">
                  <a:off x="3809880" y="106632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 flipV="1">
                  <a:off x="3809880" y="14112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 flipV="1">
                  <a:off x="3809880" y="325800"/>
                  <a:ext cx="60912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V="1">
                  <a:off x="3809880" y="880920"/>
                  <a:ext cx="60912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 flipV="1">
                  <a:off x="3809880" y="106632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0" name=""/>
              <p:cNvGrpSpPr/>
              <p:nvPr/>
            </p:nvGrpSpPr>
            <p:grpSpPr>
              <a:xfrm>
                <a:off x="3809880" y="1740960"/>
                <a:ext cx="1217880" cy="1295640"/>
                <a:chOff x="3809880" y="1740960"/>
                <a:chExt cx="1217880" cy="1295640"/>
              </a:xfrm>
            </p:grpSpPr>
            <p:grpSp>
              <p:nvGrpSpPr>
                <p:cNvPr id="1771" name=""/>
                <p:cNvGrpSpPr/>
                <p:nvPr/>
              </p:nvGrpSpPr>
              <p:grpSpPr>
                <a:xfrm>
                  <a:off x="4419000" y="1740960"/>
                  <a:ext cx="608760" cy="1294920"/>
                  <a:chOff x="4419000" y="1740960"/>
                  <a:chExt cx="608760" cy="1294920"/>
                </a:xfrm>
              </p:grpSpPr>
              <p:grpSp>
                <p:nvGrpSpPr>
                  <p:cNvPr id="1772" name=""/>
                  <p:cNvGrpSpPr/>
                  <p:nvPr/>
                </p:nvGrpSpPr>
                <p:grpSpPr>
                  <a:xfrm>
                    <a:off x="4419000" y="1740960"/>
                    <a:ext cx="608760" cy="185040"/>
                    <a:chOff x="4419000" y="1740960"/>
                    <a:chExt cx="608760" cy="185040"/>
                  </a:xfrm>
                </p:grpSpPr>
                <p:sp>
                  <p:nvSpPr>
                    <p:cNvPr id="1773" name=""/>
                    <p:cNvSpPr/>
                    <p:nvPr/>
                  </p:nvSpPr>
                  <p:spPr>
                    <a:xfrm>
                      <a:off x="4419000" y="174132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4" name=""/>
                    <p:cNvSpPr/>
                    <p:nvPr/>
                  </p:nvSpPr>
                  <p:spPr>
                    <a:xfrm>
                      <a:off x="4419000" y="19260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5" name=""/>
                    <p:cNvSpPr/>
                    <p:nvPr/>
                  </p:nvSpPr>
                  <p:spPr>
                    <a:xfrm>
                      <a:off x="4419000" y="174132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6" name=""/>
                    <p:cNvSpPr/>
                    <p:nvPr/>
                  </p:nvSpPr>
                  <p:spPr>
                    <a:xfrm flipV="1">
                      <a:off x="4419000" y="174096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7" name=""/>
                  <p:cNvGrpSpPr/>
                  <p:nvPr/>
                </p:nvGrpSpPr>
                <p:grpSpPr>
                  <a:xfrm>
                    <a:off x="4419000" y="2111400"/>
                    <a:ext cx="608760" cy="184320"/>
                    <a:chOff x="4419000" y="2111400"/>
                    <a:chExt cx="608760" cy="184320"/>
                  </a:xfrm>
                </p:grpSpPr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4419000" y="21114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9" name=""/>
                    <p:cNvSpPr/>
                    <p:nvPr/>
                  </p:nvSpPr>
                  <p:spPr>
                    <a:xfrm>
                      <a:off x="4419000" y="229572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0" name=""/>
                    <p:cNvSpPr/>
                    <p:nvPr/>
                  </p:nvSpPr>
                  <p:spPr>
                    <a:xfrm>
                      <a:off x="4419000" y="211140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1" name=""/>
                    <p:cNvSpPr/>
                    <p:nvPr/>
                  </p:nvSpPr>
                  <p:spPr>
                    <a:xfrm flipV="1">
                      <a:off x="4419000" y="211140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2" name=""/>
                  <p:cNvGrpSpPr/>
                  <p:nvPr/>
                </p:nvGrpSpPr>
                <p:grpSpPr>
                  <a:xfrm>
                    <a:off x="4419000" y="2481480"/>
                    <a:ext cx="608760" cy="184320"/>
                    <a:chOff x="4419000" y="2481480"/>
                    <a:chExt cx="608760" cy="184320"/>
                  </a:xfrm>
                </p:grpSpPr>
                <p:sp>
                  <p:nvSpPr>
                    <p:cNvPr id="1783" name=""/>
                    <p:cNvSpPr/>
                    <p:nvPr/>
                  </p:nvSpPr>
                  <p:spPr>
                    <a:xfrm>
                      <a:off x="4419000" y="248148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4" name=""/>
                    <p:cNvSpPr/>
                    <p:nvPr/>
                  </p:nvSpPr>
                  <p:spPr>
                    <a:xfrm>
                      <a:off x="4419000" y="26658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5" name=""/>
                    <p:cNvSpPr/>
                    <p:nvPr/>
                  </p:nvSpPr>
                  <p:spPr>
                    <a:xfrm>
                      <a:off x="4419000" y="248148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6" name=""/>
                    <p:cNvSpPr/>
                    <p:nvPr/>
                  </p:nvSpPr>
                  <p:spPr>
                    <a:xfrm flipV="1">
                      <a:off x="4419000" y="248148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7" name=""/>
                  <p:cNvGrpSpPr/>
                  <p:nvPr/>
                </p:nvGrpSpPr>
                <p:grpSpPr>
                  <a:xfrm>
                    <a:off x="4419000" y="2850840"/>
                    <a:ext cx="608760" cy="185040"/>
                    <a:chOff x="4419000" y="2850840"/>
                    <a:chExt cx="608760" cy="185040"/>
                  </a:xfrm>
                </p:grpSpPr>
                <p:sp>
                  <p:nvSpPr>
                    <p:cNvPr id="1788" name=""/>
                    <p:cNvSpPr/>
                    <p:nvPr/>
                  </p:nvSpPr>
                  <p:spPr>
                    <a:xfrm>
                      <a:off x="4419000" y="28512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9" name=""/>
                    <p:cNvSpPr/>
                    <p:nvPr/>
                  </p:nvSpPr>
                  <p:spPr>
                    <a:xfrm>
                      <a:off x="4419000" y="303588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0" name=""/>
                    <p:cNvSpPr/>
                    <p:nvPr/>
                  </p:nvSpPr>
                  <p:spPr>
                    <a:xfrm>
                      <a:off x="4419000" y="285120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1" name=""/>
                    <p:cNvSpPr/>
                    <p:nvPr/>
                  </p:nvSpPr>
                  <p:spPr>
                    <a:xfrm flipV="1">
                      <a:off x="4419000" y="285084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92" name=""/>
                <p:cNvSpPr/>
                <p:nvPr/>
              </p:nvSpPr>
              <p:spPr>
                <a:xfrm flipH="1">
                  <a:off x="3809880" y="174132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flipH="1">
                  <a:off x="3809880" y="192636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H="1">
                  <a:off x="3809880" y="21114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flipH="1">
                  <a:off x="3809880" y="229608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 flipH="1">
                  <a:off x="3809880" y="248148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H="1">
                  <a:off x="3809880" y="266652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flipH="1">
                  <a:off x="3809880" y="28512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flipH="1">
                  <a:off x="3809880" y="30366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 flipV="1">
                  <a:off x="3809880" y="174132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H="1" flipV="1">
                  <a:off x="3809880" y="1926000"/>
                  <a:ext cx="60912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flipH="1" flipV="1">
                  <a:off x="3809880" y="2481120"/>
                  <a:ext cx="60912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H="1" flipV="1">
                  <a:off x="3809880" y="266652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V="1">
                  <a:off x="3809880" y="174132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V="1">
                  <a:off x="3809880" y="1926000"/>
                  <a:ext cx="60912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 flipV="1">
                  <a:off x="3809880" y="2481120"/>
                  <a:ext cx="60912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 flipV="1">
                  <a:off x="3809880" y="266652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8" name=""/>
              <p:cNvGrpSpPr/>
              <p:nvPr/>
            </p:nvGrpSpPr>
            <p:grpSpPr>
              <a:xfrm>
                <a:off x="3809880" y="3417480"/>
                <a:ext cx="1217880" cy="1295280"/>
                <a:chOff x="3809880" y="3417480"/>
                <a:chExt cx="1217880" cy="1295280"/>
              </a:xfrm>
            </p:grpSpPr>
            <p:grpSp>
              <p:nvGrpSpPr>
                <p:cNvPr id="1809" name=""/>
                <p:cNvGrpSpPr/>
                <p:nvPr/>
              </p:nvGrpSpPr>
              <p:grpSpPr>
                <a:xfrm>
                  <a:off x="4419000" y="3417480"/>
                  <a:ext cx="608760" cy="1294560"/>
                  <a:chOff x="4419000" y="3417480"/>
                  <a:chExt cx="608760" cy="1294560"/>
                </a:xfrm>
              </p:grpSpPr>
              <p:grpSp>
                <p:nvGrpSpPr>
                  <p:cNvPr id="1810" name=""/>
                  <p:cNvGrpSpPr/>
                  <p:nvPr/>
                </p:nvGrpSpPr>
                <p:grpSpPr>
                  <a:xfrm>
                    <a:off x="4419000" y="3417480"/>
                    <a:ext cx="608760" cy="185040"/>
                    <a:chOff x="4419000" y="3417480"/>
                    <a:chExt cx="608760" cy="185040"/>
                  </a:xfrm>
                </p:grpSpPr>
                <p:sp>
                  <p:nvSpPr>
                    <p:cNvPr id="1811" name=""/>
                    <p:cNvSpPr/>
                    <p:nvPr/>
                  </p:nvSpPr>
                  <p:spPr>
                    <a:xfrm>
                      <a:off x="4419000" y="341784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2" name=""/>
                    <p:cNvSpPr/>
                    <p:nvPr/>
                  </p:nvSpPr>
                  <p:spPr>
                    <a:xfrm>
                      <a:off x="4419000" y="360252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3" name=""/>
                    <p:cNvSpPr/>
                    <p:nvPr/>
                  </p:nvSpPr>
                  <p:spPr>
                    <a:xfrm>
                      <a:off x="4419000" y="341784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4" name=""/>
                    <p:cNvSpPr/>
                    <p:nvPr/>
                  </p:nvSpPr>
                  <p:spPr>
                    <a:xfrm flipV="1">
                      <a:off x="4419000" y="341748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5" name=""/>
                  <p:cNvGrpSpPr/>
                  <p:nvPr/>
                </p:nvGrpSpPr>
                <p:grpSpPr>
                  <a:xfrm>
                    <a:off x="4419000" y="3787560"/>
                    <a:ext cx="608760" cy="184320"/>
                    <a:chOff x="4419000" y="3787560"/>
                    <a:chExt cx="608760" cy="184320"/>
                  </a:xfrm>
                </p:grpSpPr>
                <p:sp>
                  <p:nvSpPr>
                    <p:cNvPr id="1816" name=""/>
                    <p:cNvSpPr/>
                    <p:nvPr/>
                  </p:nvSpPr>
                  <p:spPr>
                    <a:xfrm>
                      <a:off x="4419000" y="378756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7" name=""/>
                    <p:cNvSpPr/>
                    <p:nvPr/>
                  </p:nvSpPr>
                  <p:spPr>
                    <a:xfrm>
                      <a:off x="4419000" y="397188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8" name=""/>
                    <p:cNvSpPr/>
                    <p:nvPr/>
                  </p:nvSpPr>
                  <p:spPr>
                    <a:xfrm>
                      <a:off x="4419000" y="378756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9" name=""/>
                    <p:cNvSpPr/>
                    <p:nvPr/>
                  </p:nvSpPr>
                  <p:spPr>
                    <a:xfrm flipV="1">
                      <a:off x="4419000" y="378756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20" name=""/>
                  <p:cNvGrpSpPr/>
                  <p:nvPr/>
                </p:nvGrpSpPr>
                <p:grpSpPr>
                  <a:xfrm>
                    <a:off x="4419000" y="4157640"/>
                    <a:ext cx="608760" cy="184320"/>
                    <a:chOff x="4419000" y="4157640"/>
                    <a:chExt cx="608760" cy="184320"/>
                  </a:xfrm>
                </p:grpSpPr>
                <p:sp>
                  <p:nvSpPr>
                    <p:cNvPr id="1821" name=""/>
                    <p:cNvSpPr/>
                    <p:nvPr/>
                  </p:nvSpPr>
                  <p:spPr>
                    <a:xfrm>
                      <a:off x="4419000" y="415764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2" name=""/>
                    <p:cNvSpPr/>
                    <p:nvPr/>
                  </p:nvSpPr>
                  <p:spPr>
                    <a:xfrm>
                      <a:off x="4419000" y="434196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3" name=""/>
                    <p:cNvSpPr/>
                    <p:nvPr/>
                  </p:nvSpPr>
                  <p:spPr>
                    <a:xfrm>
                      <a:off x="4419000" y="415764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4" name=""/>
                    <p:cNvSpPr/>
                    <p:nvPr/>
                  </p:nvSpPr>
                  <p:spPr>
                    <a:xfrm flipV="1">
                      <a:off x="4419000" y="415764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25" name=""/>
                  <p:cNvGrpSpPr/>
                  <p:nvPr/>
                </p:nvGrpSpPr>
                <p:grpSpPr>
                  <a:xfrm>
                    <a:off x="4419000" y="4527000"/>
                    <a:ext cx="608760" cy="185040"/>
                    <a:chOff x="4419000" y="4527000"/>
                    <a:chExt cx="608760" cy="185040"/>
                  </a:xfrm>
                </p:grpSpPr>
                <p:sp>
                  <p:nvSpPr>
                    <p:cNvPr id="1826" name=""/>
                    <p:cNvSpPr/>
                    <p:nvPr/>
                  </p:nvSpPr>
                  <p:spPr>
                    <a:xfrm>
                      <a:off x="4419000" y="452736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7" name=""/>
                    <p:cNvSpPr/>
                    <p:nvPr/>
                  </p:nvSpPr>
                  <p:spPr>
                    <a:xfrm>
                      <a:off x="4419000" y="471204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8" name=""/>
                    <p:cNvSpPr/>
                    <p:nvPr/>
                  </p:nvSpPr>
                  <p:spPr>
                    <a:xfrm>
                      <a:off x="4419000" y="452736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9" name=""/>
                    <p:cNvSpPr/>
                    <p:nvPr/>
                  </p:nvSpPr>
                  <p:spPr>
                    <a:xfrm flipV="1">
                      <a:off x="4419000" y="452700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30" name=""/>
                <p:cNvSpPr/>
                <p:nvPr/>
              </p:nvSpPr>
              <p:spPr>
                <a:xfrm flipH="1">
                  <a:off x="3809880" y="341784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 flipH="1">
                  <a:off x="3809880" y="360288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 flipH="1">
                  <a:off x="3809880" y="378792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 flipH="1">
                  <a:off x="3809880" y="39726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 flipH="1">
                  <a:off x="3809880" y="41580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 flipH="1">
                  <a:off x="3809880" y="434268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 flipH="1">
                  <a:off x="3809880" y="452772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flipH="1">
                  <a:off x="3809880" y="471276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flipH="1" flipV="1">
                  <a:off x="3809880" y="341784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 flipV="1">
                  <a:off x="3809880" y="3602880"/>
                  <a:ext cx="60912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 flipH="1" flipV="1">
                  <a:off x="3809880" y="4158000"/>
                  <a:ext cx="60912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flipH="1" flipV="1">
                  <a:off x="3809880" y="434268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flipV="1">
                  <a:off x="3809880" y="341784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flipV="1">
                  <a:off x="3809880" y="3602880"/>
                  <a:ext cx="60912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flipV="1">
                  <a:off x="3809880" y="4158000"/>
                  <a:ext cx="60912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flipV="1">
                  <a:off x="3809880" y="434268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6" name=""/>
              <p:cNvGrpSpPr/>
              <p:nvPr/>
            </p:nvGrpSpPr>
            <p:grpSpPr>
              <a:xfrm>
                <a:off x="3809880" y="5094000"/>
                <a:ext cx="1217880" cy="1295280"/>
                <a:chOff x="3809880" y="5094000"/>
                <a:chExt cx="1217880" cy="1295280"/>
              </a:xfrm>
            </p:grpSpPr>
            <p:grpSp>
              <p:nvGrpSpPr>
                <p:cNvPr id="1847" name=""/>
                <p:cNvGrpSpPr/>
                <p:nvPr/>
              </p:nvGrpSpPr>
              <p:grpSpPr>
                <a:xfrm>
                  <a:off x="4419000" y="5094000"/>
                  <a:ext cx="608760" cy="1294560"/>
                  <a:chOff x="4419000" y="5094000"/>
                  <a:chExt cx="608760" cy="1294560"/>
                </a:xfrm>
              </p:grpSpPr>
              <p:grpSp>
                <p:nvGrpSpPr>
                  <p:cNvPr id="1848" name=""/>
                  <p:cNvGrpSpPr/>
                  <p:nvPr/>
                </p:nvGrpSpPr>
                <p:grpSpPr>
                  <a:xfrm>
                    <a:off x="4419000" y="5094000"/>
                    <a:ext cx="608760" cy="185040"/>
                    <a:chOff x="4419000" y="5094000"/>
                    <a:chExt cx="608760" cy="185040"/>
                  </a:xfrm>
                </p:grpSpPr>
                <p:sp>
                  <p:nvSpPr>
                    <p:cNvPr id="1849" name=""/>
                    <p:cNvSpPr/>
                    <p:nvPr/>
                  </p:nvSpPr>
                  <p:spPr>
                    <a:xfrm>
                      <a:off x="4419000" y="509436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0" name=""/>
                    <p:cNvSpPr/>
                    <p:nvPr/>
                  </p:nvSpPr>
                  <p:spPr>
                    <a:xfrm>
                      <a:off x="4419000" y="527904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1" name=""/>
                    <p:cNvSpPr/>
                    <p:nvPr/>
                  </p:nvSpPr>
                  <p:spPr>
                    <a:xfrm>
                      <a:off x="4419000" y="509436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 flipV="1">
                      <a:off x="4419000" y="509400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3" name=""/>
                  <p:cNvGrpSpPr/>
                  <p:nvPr/>
                </p:nvGrpSpPr>
                <p:grpSpPr>
                  <a:xfrm>
                    <a:off x="4419000" y="5464080"/>
                    <a:ext cx="608760" cy="184320"/>
                    <a:chOff x="4419000" y="5464080"/>
                    <a:chExt cx="608760" cy="184320"/>
                  </a:xfrm>
                </p:grpSpPr>
                <p:sp>
                  <p:nvSpPr>
                    <p:cNvPr id="1854" name=""/>
                    <p:cNvSpPr/>
                    <p:nvPr/>
                  </p:nvSpPr>
                  <p:spPr>
                    <a:xfrm>
                      <a:off x="4419000" y="546408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5" name=""/>
                    <p:cNvSpPr/>
                    <p:nvPr/>
                  </p:nvSpPr>
                  <p:spPr>
                    <a:xfrm>
                      <a:off x="4419000" y="564840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6" name=""/>
                    <p:cNvSpPr/>
                    <p:nvPr/>
                  </p:nvSpPr>
                  <p:spPr>
                    <a:xfrm>
                      <a:off x="4419000" y="546408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7" name=""/>
                    <p:cNvSpPr/>
                    <p:nvPr/>
                  </p:nvSpPr>
                  <p:spPr>
                    <a:xfrm flipV="1">
                      <a:off x="4419000" y="546408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8" name=""/>
                  <p:cNvGrpSpPr/>
                  <p:nvPr/>
                </p:nvGrpSpPr>
                <p:grpSpPr>
                  <a:xfrm>
                    <a:off x="4419000" y="5834160"/>
                    <a:ext cx="608760" cy="184320"/>
                    <a:chOff x="4419000" y="5834160"/>
                    <a:chExt cx="608760" cy="184320"/>
                  </a:xfrm>
                </p:grpSpPr>
                <p:sp>
                  <p:nvSpPr>
                    <p:cNvPr id="1859" name=""/>
                    <p:cNvSpPr/>
                    <p:nvPr/>
                  </p:nvSpPr>
                  <p:spPr>
                    <a:xfrm>
                      <a:off x="4419000" y="583416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0" name=""/>
                    <p:cNvSpPr/>
                    <p:nvPr/>
                  </p:nvSpPr>
                  <p:spPr>
                    <a:xfrm>
                      <a:off x="4419000" y="601848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"/>
                    <p:cNvSpPr/>
                    <p:nvPr/>
                  </p:nvSpPr>
                  <p:spPr>
                    <a:xfrm>
                      <a:off x="4419000" y="583416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2" name=""/>
                    <p:cNvSpPr/>
                    <p:nvPr/>
                  </p:nvSpPr>
                  <p:spPr>
                    <a:xfrm flipV="1">
                      <a:off x="4419000" y="5834160"/>
                      <a:ext cx="60876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3" name=""/>
                  <p:cNvGrpSpPr/>
                  <p:nvPr/>
                </p:nvGrpSpPr>
                <p:grpSpPr>
                  <a:xfrm>
                    <a:off x="4419000" y="6203520"/>
                    <a:ext cx="608760" cy="185040"/>
                    <a:chOff x="4419000" y="6203520"/>
                    <a:chExt cx="608760" cy="185040"/>
                  </a:xfrm>
                </p:grpSpPr>
                <p:sp>
                  <p:nvSpPr>
                    <p:cNvPr id="1864" name=""/>
                    <p:cNvSpPr/>
                    <p:nvPr/>
                  </p:nvSpPr>
                  <p:spPr>
                    <a:xfrm>
                      <a:off x="4419000" y="620388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5" name=""/>
                    <p:cNvSpPr/>
                    <p:nvPr/>
                  </p:nvSpPr>
                  <p:spPr>
                    <a:xfrm>
                      <a:off x="4419000" y="6388560"/>
                      <a:ext cx="60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6" name=""/>
                    <p:cNvSpPr/>
                    <p:nvPr/>
                  </p:nvSpPr>
                  <p:spPr>
                    <a:xfrm>
                      <a:off x="4419000" y="620388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7" name=""/>
                    <p:cNvSpPr/>
                    <p:nvPr/>
                  </p:nvSpPr>
                  <p:spPr>
                    <a:xfrm flipV="1">
                      <a:off x="4419000" y="6203520"/>
                      <a:ext cx="608760" cy="18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68" name=""/>
                <p:cNvSpPr/>
                <p:nvPr/>
              </p:nvSpPr>
              <p:spPr>
                <a:xfrm flipH="1">
                  <a:off x="3809880" y="509436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H="1">
                  <a:off x="3809880" y="52794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 flipH="1">
                  <a:off x="3809880" y="546444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 flipH="1">
                  <a:off x="3809880" y="564912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 flipH="1">
                  <a:off x="3809880" y="583452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flipH="1">
                  <a:off x="3809880" y="601920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H="1">
                  <a:off x="3809880" y="620424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 flipH="1">
                  <a:off x="3809880" y="6389280"/>
                  <a:ext cx="60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 flipH="1" flipV="1">
                  <a:off x="3809880" y="509436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 flipH="1" flipV="1">
                  <a:off x="3809880" y="5279400"/>
                  <a:ext cx="60912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 flipH="1" flipV="1">
                  <a:off x="3809880" y="5834520"/>
                  <a:ext cx="60912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 flipH="1" flipV="1">
                  <a:off x="3809880" y="601920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 flipV="1">
                  <a:off x="3809880" y="509436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 flipV="1">
                  <a:off x="3809880" y="5279400"/>
                  <a:ext cx="60912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 flipV="1">
                  <a:off x="3809880" y="5834520"/>
                  <a:ext cx="60912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flipV="1">
                  <a:off x="3809880" y="6019200"/>
                  <a:ext cx="609120" cy="37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884" name=""/>
                <p:cNvSpPr txBox="1"/>
                <p:nvPr/>
              </p:nvSpPr>
              <p:spPr>
                <a:xfrm>
                  <a:off x="4191120" y="6400800"/>
                  <a:ext cx="17524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85" name=""/>
            <p:cNvSpPr/>
            <p:nvPr/>
          </p:nvSpPr>
          <p:spPr>
            <a:xfrm>
              <a:off x="2971800" y="647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33520" y="647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514600" y="6629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>
              <a:off x="533520" y="6629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9" name=""/>
            <p:cNvGrpSpPr/>
            <p:nvPr/>
          </p:nvGrpSpPr>
          <p:grpSpPr>
            <a:xfrm>
              <a:off x="2871720" y="76320"/>
              <a:ext cx="328320" cy="6403320"/>
              <a:chOff x="2871720" y="76320"/>
              <a:chExt cx="328320" cy="640332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2871720" y="76320"/>
                <a:ext cx="328320" cy="1480680"/>
                <a:chOff x="2871720" y="76320"/>
                <a:chExt cx="328320" cy="1480680"/>
              </a:xfrm>
            </p:grpSpPr>
            <p:grpSp>
              <p:nvGrpSpPr>
                <p:cNvPr id="1891" name=""/>
                <p:cNvGrpSpPr/>
                <p:nvPr/>
              </p:nvGrpSpPr>
              <p:grpSpPr>
                <a:xfrm>
                  <a:off x="2871720" y="76320"/>
                  <a:ext cx="328320" cy="775800"/>
                  <a:chOff x="2871720" y="76320"/>
                  <a:chExt cx="328320" cy="775800"/>
                </a:xfrm>
              </p:grpSpPr>
              <p:sp>
                <p:nvSpPr>
                  <p:cNvPr id="1892" name=""/>
                  <p:cNvSpPr/>
                  <p:nvPr/>
                </p:nvSpPr>
                <p:spPr>
                  <a:xfrm>
                    <a:off x="2871720" y="76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>
                    <a:off x="2871720" y="237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>
                    <a:off x="2871720" y="4284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"/>
                  <p:cNvSpPr/>
                  <p:nvPr/>
                </p:nvSpPr>
                <p:spPr>
                  <a:xfrm>
                    <a:off x="2871720" y="6058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6" name=""/>
                <p:cNvGrpSpPr/>
                <p:nvPr/>
              </p:nvGrpSpPr>
              <p:grpSpPr>
                <a:xfrm>
                  <a:off x="2871720" y="780120"/>
                  <a:ext cx="328320" cy="776880"/>
                  <a:chOff x="2871720" y="780120"/>
                  <a:chExt cx="328320" cy="776880"/>
                </a:xfrm>
              </p:grpSpPr>
              <p:sp>
                <p:nvSpPr>
                  <p:cNvPr id="1897" name=""/>
                  <p:cNvSpPr/>
                  <p:nvPr/>
                </p:nvSpPr>
                <p:spPr>
                  <a:xfrm>
                    <a:off x="2871720" y="7801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"/>
                  <p:cNvSpPr/>
                  <p:nvPr/>
                </p:nvSpPr>
                <p:spPr>
                  <a:xfrm>
                    <a:off x="2871720" y="9435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"/>
                  <p:cNvSpPr/>
                  <p:nvPr/>
                </p:nvSpPr>
                <p:spPr>
                  <a:xfrm>
                    <a:off x="2871720" y="113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"/>
                  <p:cNvSpPr/>
                  <p:nvPr/>
                </p:nvSpPr>
                <p:spPr>
                  <a:xfrm>
                    <a:off x="2871720" y="131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01" name=""/>
              <p:cNvGrpSpPr/>
              <p:nvPr/>
            </p:nvGrpSpPr>
            <p:grpSpPr>
              <a:xfrm>
                <a:off x="2871720" y="1676520"/>
                <a:ext cx="328320" cy="1481040"/>
                <a:chOff x="2871720" y="1676520"/>
                <a:chExt cx="328320" cy="1481040"/>
              </a:xfrm>
            </p:grpSpPr>
            <p:grpSp>
              <p:nvGrpSpPr>
                <p:cNvPr id="1902" name=""/>
                <p:cNvGrpSpPr/>
                <p:nvPr/>
              </p:nvGrpSpPr>
              <p:grpSpPr>
                <a:xfrm>
                  <a:off x="2871720" y="1676520"/>
                  <a:ext cx="328320" cy="776160"/>
                  <a:chOff x="2871720" y="1676520"/>
                  <a:chExt cx="328320" cy="776160"/>
                </a:xfrm>
              </p:grpSpPr>
              <p:sp>
                <p:nvSpPr>
                  <p:cNvPr id="1903" name=""/>
                  <p:cNvSpPr/>
                  <p:nvPr/>
                </p:nvSpPr>
                <p:spPr>
                  <a:xfrm>
                    <a:off x="2871720" y="1676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2871720" y="1840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2871720" y="2028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2871720" y="2206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7" name=""/>
                <p:cNvGrpSpPr/>
                <p:nvPr/>
              </p:nvGrpSpPr>
              <p:grpSpPr>
                <a:xfrm>
                  <a:off x="2871720" y="2385000"/>
                  <a:ext cx="328320" cy="772560"/>
                  <a:chOff x="2871720" y="2385000"/>
                  <a:chExt cx="328320" cy="772560"/>
                </a:xfrm>
              </p:grpSpPr>
              <p:sp>
                <p:nvSpPr>
                  <p:cNvPr id="1908" name=""/>
                  <p:cNvSpPr/>
                  <p:nvPr/>
                </p:nvSpPr>
                <p:spPr>
                  <a:xfrm>
                    <a:off x="2871720" y="2385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>
                    <a:off x="2871720" y="2546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2871720" y="2734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2871720" y="291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2" name=""/>
              <p:cNvGrpSpPr/>
              <p:nvPr/>
            </p:nvGrpSpPr>
            <p:grpSpPr>
              <a:xfrm>
                <a:off x="2871720" y="3321360"/>
                <a:ext cx="328320" cy="1482120"/>
                <a:chOff x="2871720" y="3321360"/>
                <a:chExt cx="328320" cy="1482120"/>
              </a:xfrm>
            </p:grpSpPr>
            <p:grpSp>
              <p:nvGrpSpPr>
                <p:cNvPr id="1913" name=""/>
                <p:cNvGrpSpPr/>
                <p:nvPr/>
              </p:nvGrpSpPr>
              <p:grpSpPr>
                <a:xfrm>
                  <a:off x="2871720" y="3321360"/>
                  <a:ext cx="328320" cy="775800"/>
                  <a:chOff x="2871720" y="3321360"/>
                  <a:chExt cx="328320" cy="775800"/>
                </a:xfrm>
              </p:grpSpPr>
              <p:sp>
                <p:nvSpPr>
                  <p:cNvPr id="1914" name=""/>
                  <p:cNvSpPr/>
                  <p:nvPr/>
                </p:nvSpPr>
                <p:spPr>
                  <a:xfrm>
                    <a:off x="2871720" y="33213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>
                    <a:off x="2871720" y="34826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2871720" y="3673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>
                    <a:off x="2871720" y="3850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8" name=""/>
                <p:cNvGrpSpPr/>
                <p:nvPr/>
              </p:nvGrpSpPr>
              <p:grpSpPr>
                <a:xfrm>
                  <a:off x="2871720" y="4025160"/>
                  <a:ext cx="328320" cy="778320"/>
                  <a:chOff x="2871720" y="4025160"/>
                  <a:chExt cx="328320" cy="778320"/>
                </a:xfrm>
              </p:grpSpPr>
              <p:sp>
                <p:nvSpPr>
                  <p:cNvPr id="1919" name=""/>
                  <p:cNvSpPr/>
                  <p:nvPr/>
                </p:nvSpPr>
                <p:spPr>
                  <a:xfrm>
                    <a:off x="2871720" y="40251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2871720" y="418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2871720" y="43747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2871720" y="45572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3" name=""/>
              <p:cNvGrpSpPr/>
              <p:nvPr/>
            </p:nvGrpSpPr>
            <p:grpSpPr>
              <a:xfrm>
                <a:off x="2871720" y="4997520"/>
                <a:ext cx="328320" cy="1482120"/>
                <a:chOff x="2871720" y="4997520"/>
                <a:chExt cx="328320" cy="1482120"/>
              </a:xfrm>
            </p:grpSpPr>
            <p:grpSp>
              <p:nvGrpSpPr>
                <p:cNvPr id="1924" name=""/>
                <p:cNvGrpSpPr/>
                <p:nvPr/>
              </p:nvGrpSpPr>
              <p:grpSpPr>
                <a:xfrm>
                  <a:off x="2871720" y="4997520"/>
                  <a:ext cx="328320" cy="776160"/>
                  <a:chOff x="2871720" y="4997520"/>
                  <a:chExt cx="328320" cy="776160"/>
                </a:xfrm>
              </p:grpSpPr>
              <p:sp>
                <p:nvSpPr>
                  <p:cNvPr id="1925" name=""/>
                  <p:cNvSpPr/>
                  <p:nvPr/>
                </p:nvSpPr>
                <p:spPr>
                  <a:xfrm>
                    <a:off x="2871720" y="499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2871720" y="516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>
                    <a:off x="2871720" y="5349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>
                    <a:off x="2871720" y="5527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9" name=""/>
                <p:cNvGrpSpPr/>
                <p:nvPr/>
              </p:nvGrpSpPr>
              <p:grpSpPr>
                <a:xfrm>
                  <a:off x="2871720" y="5706000"/>
                  <a:ext cx="328320" cy="773640"/>
                  <a:chOff x="2871720" y="5706000"/>
                  <a:chExt cx="328320" cy="773640"/>
                </a:xfrm>
              </p:grpSpPr>
              <p:sp>
                <p:nvSpPr>
                  <p:cNvPr id="1930" name=""/>
                  <p:cNvSpPr/>
                  <p:nvPr/>
                </p:nvSpPr>
                <p:spPr>
                  <a:xfrm>
                    <a:off x="2871720" y="5706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>
                    <a:off x="2871720" y="5867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>
                    <a:off x="2871720" y="6055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>
                    <a:off x="2871720" y="62334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4" name=""/>
            <p:cNvGrpSpPr/>
            <p:nvPr/>
          </p:nvGrpSpPr>
          <p:grpSpPr>
            <a:xfrm>
              <a:off x="2340000" y="152280"/>
              <a:ext cx="555480" cy="1273320"/>
              <a:chOff x="2340000" y="152280"/>
              <a:chExt cx="555480" cy="1273320"/>
            </a:xfrm>
          </p:grpSpPr>
          <p:sp>
            <p:nvSpPr>
              <p:cNvPr id="1935" name=""/>
              <p:cNvSpPr/>
              <p:nvPr/>
            </p:nvSpPr>
            <p:spPr>
              <a:xfrm flipH="1">
                <a:off x="2361960" y="1522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flipH="1" flipV="1">
                <a:off x="2361960" y="347400"/>
                <a:ext cx="5331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H="1">
                <a:off x="2340000" y="35892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flipH="1">
                <a:off x="2361960" y="5335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 flipV="1">
                <a:off x="2361960" y="707760"/>
                <a:ext cx="5331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V="1">
                <a:off x="2362320" y="73980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>
                <a:off x="2361960" y="10666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H="1">
                <a:off x="2361960" y="14256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"/>
            <p:cNvGrpSpPr/>
            <p:nvPr/>
          </p:nvGrpSpPr>
          <p:grpSpPr>
            <a:xfrm>
              <a:off x="2351160" y="1752480"/>
              <a:ext cx="555480" cy="1273320"/>
              <a:chOff x="2351160" y="1752480"/>
              <a:chExt cx="555480" cy="1273320"/>
            </a:xfrm>
          </p:grpSpPr>
          <p:sp>
            <p:nvSpPr>
              <p:cNvPr id="1944" name=""/>
              <p:cNvSpPr/>
              <p:nvPr/>
            </p:nvSpPr>
            <p:spPr>
              <a:xfrm flipH="1">
                <a:off x="2373120" y="17524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 flipV="1">
                <a:off x="2373120" y="1947600"/>
                <a:ext cx="5331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2351160" y="195912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>
                <a:off x="2373120" y="21337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 flipV="1">
                <a:off x="2373120" y="2307960"/>
                <a:ext cx="5331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V="1">
                <a:off x="2373480" y="234000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H="1">
                <a:off x="2373120" y="26668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H="1">
                <a:off x="2373120" y="30258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2340000" y="3429000"/>
              <a:ext cx="555480" cy="1273320"/>
              <a:chOff x="2340000" y="3429000"/>
              <a:chExt cx="555480" cy="1273320"/>
            </a:xfrm>
          </p:grpSpPr>
          <p:sp>
            <p:nvSpPr>
              <p:cNvPr id="1953" name=""/>
              <p:cNvSpPr/>
              <p:nvPr/>
            </p:nvSpPr>
            <p:spPr>
              <a:xfrm flipH="1">
                <a:off x="2361960" y="34290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 flipV="1">
                <a:off x="2361960" y="3624120"/>
                <a:ext cx="5331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2340000" y="363564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2361960" y="381024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H="1" flipV="1">
                <a:off x="2361960" y="3984480"/>
                <a:ext cx="5331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V="1">
                <a:off x="2362320" y="401652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H="1">
                <a:off x="2361960" y="43434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H="1">
                <a:off x="2361960" y="47023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1" name=""/>
            <p:cNvGrpSpPr/>
            <p:nvPr/>
          </p:nvGrpSpPr>
          <p:grpSpPr>
            <a:xfrm>
              <a:off x="2340000" y="5105520"/>
              <a:ext cx="555480" cy="1272960"/>
              <a:chOff x="2340000" y="5105520"/>
              <a:chExt cx="555480" cy="1272960"/>
            </a:xfrm>
          </p:grpSpPr>
          <p:sp>
            <p:nvSpPr>
              <p:cNvPr id="1962" name=""/>
              <p:cNvSpPr/>
              <p:nvPr/>
            </p:nvSpPr>
            <p:spPr>
              <a:xfrm flipH="1">
                <a:off x="2361960" y="51055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H="1" flipV="1">
                <a:off x="2361960" y="5300640"/>
                <a:ext cx="53316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H="1">
                <a:off x="2340000" y="5311800"/>
                <a:ext cx="53352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flipH="1">
                <a:off x="2361960" y="54864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H="1" flipV="1">
                <a:off x="2361960" y="5661000"/>
                <a:ext cx="53316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flipV="1">
                <a:off x="2362320" y="5692320"/>
                <a:ext cx="5331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H="1">
                <a:off x="2361960" y="60195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flipH="1">
                <a:off x="2361960" y="63784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70" name=""/>
                <p:cNvSpPr txBox="1"/>
                <p:nvPr/>
              </p:nvSpPr>
              <p:spPr>
                <a:xfrm>
                  <a:off x="6629400" y="6400800"/>
                  <a:ext cx="3826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971" name=""/>
            <p:cNvGrpSpPr/>
            <p:nvPr/>
          </p:nvGrpSpPr>
          <p:grpSpPr>
            <a:xfrm>
              <a:off x="5638680" y="76320"/>
              <a:ext cx="328320" cy="6402240"/>
              <a:chOff x="5638680" y="76320"/>
              <a:chExt cx="328320" cy="6402240"/>
            </a:xfrm>
          </p:grpSpPr>
          <p:grpSp>
            <p:nvGrpSpPr>
              <p:cNvPr id="1972" name=""/>
              <p:cNvGrpSpPr/>
              <p:nvPr/>
            </p:nvGrpSpPr>
            <p:grpSpPr>
              <a:xfrm>
                <a:off x="5638680" y="76320"/>
                <a:ext cx="328320" cy="1480680"/>
                <a:chOff x="5638680" y="76320"/>
                <a:chExt cx="328320" cy="1480680"/>
              </a:xfrm>
            </p:grpSpPr>
            <p:grpSp>
              <p:nvGrpSpPr>
                <p:cNvPr id="1973" name=""/>
                <p:cNvGrpSpPr/>
                <p:nvPr/>
              </p:nvGrpSpPr>
              <p:grpSpPr>
                <a:xfrm>
                  <a:off x="5638680" y="76320"/>
                  <a:ext cx="328320" cy="775800"/>
                  <a:chOff x="5638680" y="76320"/>
                  <a:chExt cx="328320" cy="775800"/>
                </a:xfrm>
              </p:grpSpPr>
              <p:sp>
                <p:nvSpPr>
                  <p:cNvPr id="1974" name=""/>
                  <p:cNvSpPr/>
                  <p:nvPr/>
                </p:nvSpPr>
                <p:spPr>
                  <a:xfrm>
                    <a:off x="5638680" y="76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5638680" y="237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5638680" y="4284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5638680" y="6058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8" name=""/>
                <p:cNvGrpSpPr/>
                <p:nvPr/>
              </p:nvGrpSpPr>
              <p:grpSpPr>
                <a:xfrm>
                  <a:off x="5638680" y="780120"/>
                  <a:ext cx="328320" cy="776880"/>
                  <a:chOff x="5638680" y="780120"/>
                  <a:chExt cx="328320" cy="776880"/>
                </a:xfrm>
              </p:grpSpPr>
              <p:sp>
                <p:nvSpPr>
                  <p:cNvPr id="1979" name=""/>
                  <p:cNvSpPr/>
                  <p:nvPr/>
                </p:nvSpPr>
                <p:spPr>
                  <a:xfrm>
                    <a:off x="5638680" y="7801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5638680" y="9435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5638680" y="113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5638680" y="131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3" name=""/>
              <p:cNvGrpSpPr/>
              <p:nvPr/>
            </p:nvGrpSpPr>
            <p:grpSpPr>
              <a:xfrm>
                <a:off x="5638680" y="1676520"/>
                <a:ext cx="328320" cy="1481040"/>
                <a:chOff x="5638680" y="1676520"/>
                <a:chExt cx="328320" cy="1481040"/>
              </a:xfrm>
            </p:grpSpPr>
            <p:grpSp>
              <p:nvGrpSpPr>
                <p:cNvPr id="1984" name=""/>
                <p:cNvGrpSpPr/>
                <p:nvPr/>
              </p:nvGrpSpPr>
              <p:grpSpPr>
                <a:xfrm>
                  <a:off x="5638680" y="1676520"/>
                  <a:ext cx="328320" cy="776160"/>
                  <a:chOff x="5638680" y="1676520"/>
                  <a:chExt cx="328320" cy="776160"/>
                </a:xfrm>
              </p:grpSpPr>
              <p:sp>
                <p:nvSpPr>
                  <p:cNvPr id="1985" name=""/>
                  <p:cNvSpPr/>
                  <p:nvPr/>
                </p:nvSpPr>
                <p:spPr>
                  <a:xfrm>
                    <a:off x="5638680" y="1676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5638680" y="1840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5638680" y="2028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5638680" y="2206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9" name=""/>
                <p:cNvGrpSpPr/>
                <p:nvPr/>
              </p:nvGrpSpPr>
              <p:grpSpPr>
                <a:xfrm>
                  <a:off x="5638680" y="2385000"/>
                  <a:ext cx="328320" cy="772560"/>
                  <a:chOff x="5638680" y="2385000"/>
                  <a:chExt cx="328320" cy="772560"/>
                </a:xfrm>
              </p:grpSpPr>
              <p:sp>
                <p:nvSpPr>
                  <p:cNvPr id="1990" name=""/>
                  <p:cNvSpPr/>
                  <p:nvPr/>
                </p:nvSpPr>
                <p:spPr>
                  <a:xfrm>
                    <a:off x="5638680" y="2385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5638680" y="2546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5638680" y="2734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5638680" y="291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4" name=""/>
              <p:cNvGrpSpPr/>
              <p:nvPr/>
            </p:nvGrpSpPr>
            <p:grpSpPr>
              <a:xfrm>
                <a:off x="5638680" y="3321360"/>
                <a:ext cx="328320" cy="1480680"/>
                <a:chOff x="5638680" y="3321360"/>
                <a:chExt cx="328320" cy="1480680"/>
              </a:xfrm>
            </p:grpSpPr>
            <p:grpSp>
              <p:nvGrpSpPr>
                <p:cNvPr id="1995" name=""/>
                <p:cNvGrpSpPr/>
                <p:nvPr/>
              </p:nvGrpSpPr>
              <p:grpSpPr>
                <a:xfrm>
                  <a:off x="5638680" y="3321360"/>
                  <a:ext cx="328320" cy="775800"/>
                  <a:chOff x="5638680" y="3321360"/>
                  <a:chExt cx="328320" cy="775800"/>
                </a:xfrm>
              </p:grpSpPr>
              <p:sp>
                <p:nvSpPr>
                  <p:cNvPr id="1996" name=""/>
                  <p:cNvSpPr/>
                  <p:nvPr/>
                </p:nvSpPr>
                <p:spPr>
                  <a:xfrm>
                    <a:off x="5638680" y="33213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5638680" y="34826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5638680" y="3673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5638680" y="3850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0" name=""/>
                <p:cNvGrpSpPr/>
                <p:nvPr/>
              </p:nvGrpSpPr>
              <p:grpSpPr>
                <a:xfrm>
                  <a:off x="5638680" y="4025160"/>
                  <a:ext cx="328320" cy="776880"/>
                  <a:chOff x="5638680" y="4025160"/>
                  <a:chExt cx="328320" cy="776880"/>
                </a:xfrm>
              </p:grpSpPr>
              <p:sp>
                <p:nvSpPr>
                  <p:cNvPr id="2001" name=""/>
                  <p:cNvSpPr/>
                  <p:nvPr/>
                </p:nvSpPr>
                <p:spPr>
                  <a:xfrm>
                    <a:off x="5638680" y="40251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5638680" y="418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5638680" y="437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5638680" y="455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5" name=""/>
              <p:cNvGrpSpPr/>
              <p:nvPr/>
            </p:nvGrpSpPr>
            <p:grpSpPr>
              <a:xfrm>
                <a:off x="5638680" y="4997520"/>
                <a:ext cx="328320" cy="1481040"/>
                <a:chOff x="5638680" y="4997520"/>
                <a:chExt cx="328320" cy="1481040"/>
              </a:xfrm>
            </p:grpSpPr>
            <p:grpSp>
              <p:nvGrpSpPr>
                <p:cNvPr id="2006" name=""/>
                <p:cNvGrpSpPr/>
                <p:nvPr/>
              </p:nvGrpSpPr>
              <p:grpSpPr>
                <a:xfrm>
                  <a:off x="5638680" y="4997520"/>
                  <a:ext cx="328320" cy="776160"/>
                  <a:chOff x="5638680" y="4997520"/>
                  <a:chExt cx="328320" cy="776160"/>
                </a:xfrm>
              </p:grpSpPr>
              <p:sp>
                <p:nvSpPr>
                  <p:cNvPr id="2007" name=""/>
                  <p:cNvSpPr/>
                  <p:nvPr/>
                </p:nvSpPr>
                <p:spPr>
                  <a:xfrm>
                    <a:off x="5638680" y="499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5638680" y="516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5638680" y="5349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5638680" y="5527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1" name=""/>
                <p:cNvGrpSpPr/>
                <p:nvPr/>
              </p:nvGrpSpPr>
              <p:grpSpPr>
                <a:xfrm>
                  <a:off x="5638680" y="5706000"/>
                  <a:ext cx="328320" cy="772560"/>
                  <a:chOff x="5638680" y="5706000"/>
                  <a:chExt cx="328320" cy="772560"/>
                </a:xfrm>
              </p:grpSpPr>
              <p:sp>
                <p:nvSpPr>
                  <p:cNvPr id="2012" name=""/>
                  <p:cNvSpPr/>
                  <p:nvPr/>
                </p:nvSpPr>
                <p:spPr>
                  <a:xfrm>
                    <a:off x="5638680" y="5706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5638680" y="5867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5638680" y="6055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5638680" y="6232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16" name=""/>
            <p:cNvGrpSpPr/>
            <p:nvPr/>
          </p:nvGrpSpPr>
          <p:grpSpPr>
            <a:xfrm>
              <a:off x="5005440" y="76320"/>
              <a:ext cx="328320" cy="6402240"/>
              <a:chOff x="5005440" y="76320"/>
              <a:chExt cx="328320" cy="6402240"/>
            </a:xfrm>
          </p:grpSpPr>
          <p:grpSp>
            <p:nvGrpSpPr>
              <p:cNvPr id="2017" name=""/>
              <p:cNvGrpSpPr/>
              <p:nvPr/>
            </p:nvGrpSpPr>
            <p:grpSpPr>
              <a:xfrm>
                <a:off x="5005440" y="76320"/>
                <a:ext cx="328320" cy="1480680"/>
                <a:chOff x="5005440" y="76320"/>
                <a:chExt cx="328320" cy="1480680"/>
              </a:xfrm>
            </p:grpSpPr>
            <p:grpSp>
              <p:nvGrpSpPr>
                <p:cNvPr id="2018" name=""/>
                <p:cNvGrpSpPr/>
                <p:nvPr/>
              </p:nvGrpSpPr>
              <p:grpSpPr>
                <a:xfrm>
                  <a:off x="5005440" y="76320"/>
                  <a:ext cx="328320" cy="775800"/>
                  <a:chOff x="5005440" y="76320"/>
                  <a:chExt cx="328320" cy="775800"/>
                </a:xfrm>
              </p:grpSpPr>
              <p:sp>
                <p:nvSpPr>
                  <p:cNvPr id="2019" name=""/>
                  <p:cNvSpPr/>
                  <p:nvPr/>
                </p:nvSpPr>
                <p:spPr>
                  <a:xfrm>
                    <a:off x="5005440" y="76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>
                    <a:off x="5005440" y="237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5005440" y="4284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5005440" y="6058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3" name=""/>
                <p:cNvGrpSpPr/>
                <p:nvPr/>
              </p:nvGrpSpPr>
              <p:grpSpPr>
                <a:xfrm>
                  <a:off x="5005440" y="780120"/>
                  <a:ext cx="328320" cy="776880"/>
                  <a:chOff x="5005440" y="780120"/>
                  <a:chExt cx="328320" cy="776880"/>
                </a:xfrm>
              </p:grpSpPr>
              <p:sp>
                <p:nvSpPr>
                  <p:cNvPr id="2024" name=""/>
                  <p:cNvSpPr/>
                  <p:nvPr/>
                </p:nvSpPr>
                <p:spPr>
                  <a:xfrm>
                    <a:off x="5005440" y="7801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>
                    <a:off x="5005440" y="9435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5005440" y="113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5005440" y="13107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8" name=""/>
              <p:cNvGrpSpPr/>
              <p:nvPr/>
            </p:nvGrpSpPr>
            <p:grpSpPr>
              <a:xfrm>
                <a:off x="5005440" y="1676520"/>
                <a:ext cx="328320" cy="1482120"/>
                <a:chOff x="5005440" y="1676520"/>
                <a:chExt cx="328320" cy="1482120"/>
              </a:xfrm>
            </p:grpSpPr>
            <p:grpSp>
              <p:nvGrpSpPr>
                <p:cNvPr id="2029" name=""/>
                <p:cNvGrpSpPr/>
                <p:nvPr/>
              </p:nvGrpSpPr>
              <p:grpSpPr>
                <a:xfrm>
                  <a:off x="5005440" y="1676520"/>
                  <a:ext cx="328320" cy="776160"/>
                  <a:chOff x="5005440" y="1676520"/>
                  <a:chExt cx="328320" cy="776160"/>
                </a:xfrm>
              </p:grpSpPr>
              <p:sp>
                <p:nvSpPr>
                  <p:cNvPr id="2030" name=""/>
                  <p:cNvSpPr/>
                  <p:nvPr/>
                </p:nvSpPr>
                <p:spPr>
                  <a:xfrm>
                    <a:off x="5005440" y="1676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5005440" y="1840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5005440" y="2028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5005440" y="2206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4" name=""/>
                <p:cNvGrpSpPr/>
                <p:nvPr/>
              </p:nvGrpSpPr>
              <p:grpSpPr>
                <a:xfrm>
                  <a:off x="5005440" y="2385000"/>
                  <a:ext cx="328320" cy="773640"/>
                  <a:chOff x="5005440" y="2385000"/>
                  <a:chExt cx="328320" cy="773640"/>
                </a:xfrm>
              </p:grpSpPr>
              <p:sp>
                <p:nvSpPr>
                  <p:cNvPr id="2035" name=""/>
                  <p:cNvSpPr/>
                  <p:nvPr/>
                </p:nvSpPr>
                <p:spPr>
                  <a:xfrm>
                    <a:off x="5005440" y="2385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5005440" y="2546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5005440" y="2734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5005440" y="29124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9" name=""/>
              <p:cNvGrpSpPr/>
              <p:nvPr/>
            </p:nvGrpSpPr>
            <p:grpSpPr>
              <a:xfrm>
                <a:off x="5005440" y="3321360"/>
                <a:ext cx="328320" cy="1480680"/>
                <a:chOff x="5005440" y="3321360"/>
                <a:chExt cx="328320" cy="1480680"/>
              </a:xfrm>
            </p:grpSpPr>
            <p:grpSp>
              <p:nvGrpSpPr>
                <p:cNvPr id="2040" name=""/>
                <p:cNvGrpSpPr/>
                <p:nvPr/>
              </p:nvGrpSpPr>
              <p:grpSpPr>
                <a:xfrm>
                  <a:off x="5005440" y="3321360"/>
                  <a:ext cx="328320" cy="775800"/>
                  <a:chOff x="5005440" y="3321360"/>
                  <a:chExt cx="328320" cy="775800"/>
                </a:xfrm>
              </p:grpSpPr>
              <p:sp>
                <p:nvSpPr>
                  <p:cNvPr id="2041" name=""/>
                  <p:cNvSpPr/>
                  <p:nvPr/>
                </p:nvSpPr>
                <p:spPr>
                  <a:xfrm>
                    <a:off x="5005440" y="33213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5005440" y="34826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5005440" y="3673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5005440" y="3850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5" name=""/>
                <p:cNvGrpSpPr/>
                <p:nvPr/>
              </p:nvGrpSpPr>
              <p:grpSpPr>
                <a:xfrm>
                  <a:off x="5005440" y="4025160"/>
                  <a:ext cx="328320" cy="776880"/>
                  <a:chOff x="5005440" y="4025160"/>
                  <a:chExt cx="328320" cy="776880"/>
                </a:xfrm>
              </p:grpSpPr>
              <p:sp>
                <p:nvSpPr>
                  <p:cNvPr id="2046" name=""/>
                  <p:cNvSpPr/>
                  <p:nvPr/>
                </p:nvSpPr>
                <p:spPr>
                  <a:xfrm>
                    <a:off x="5005440" y="402516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5005440" y="418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5005440" y="43747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5005440" y="45558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0" name=""/>
              <p:cNvGrpSpPr/>
              <p:nvPr/>
            </p:nvGrpSpPr>
            <p:grpSpPr>
              <a:xfrm>
                <a:off x="5005440" y="4997520"/>
                <a:ext cx="328320" cy="1481040"/>
                <a:chOff x="5005440" y="4997520"/>
                <a:chExt cx="328320" cy="1481040"/>
              </a:xfrm>
            </p:grpSpPr>
            <p:grpSp>
              <p:nvGrpSpPr>
                <p:cNvPr id="2051" name=""/>
                <p:cNvGrpSpPr/>
                <p:nvPr/>
              </p:nvGrpSpPr>
              <p:grpSpPr>
                <a:xfrm>
                  <a:off x="5005440" y="4997520"/>
                  <a:ext cx="328320" cy="776160"/>
                  <a:chOff x="5005440" y="4997520"/>
                  <a:chExt cx="328320" cy="776160"/>
                </a:xfrm>
              </p:grpSpPr>
              <p:sp>
                <p:nvSpPr>
                  <p:cNvPr id="2052" name=""/>
                  <p:cNvSpPr/>
                  <p:nvPr/>
                </p:nvSpPr>
                <p:spPr>
                  <a:xfrm>
                    <a:off x="5005440" y="49975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5005440" y="5161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5005440" y="53496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5005440" y="552744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6" name=""/>
                <p:cNvGrpSpPr/>
                <p:nvPr/>
              </p:nvGrpSpPr>
              <p:grpSpPr>
                <a:xfrm>
                  <a:off x="5005440" y="5706000"/>
                  <a:ext cx="328320" cy="772560"/>
                  <a:chOff x="5005440" y="5706000"/>
                  <a:chExt cx="328320" cy="772560"/>
                </a:xfrm>
              </p:grpSpPr>
              <p:sp>
                <p:nvSpPr>
                  <p:cNvPr id="2057" name=""/>
                  <p:cNvSpPr/>
                  <p:nvPr/>
                </p:nvSpPr>
                <p:spPr>
                  <a:xfrm>
                    <a:off x="5005440" y="570600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5005440" y="586728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5005440" y="60559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5005440" y="6232320"/>
                    <a:ext cx="328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61" name=""/>
            <p:cNvGrpSpPr/>
            <p:nvPr/>
          </p:nvGrpSpPr>
          <p:grpSpPr>
            <a:xfrm>
              <a:off x="5170320" y="174600"/>
              <a:ext cx="533520" cy="533520"/>
              <a:chOff x="5170320" y="174600"/>
              <a:chExt cx="533520" cy="533520"/>
            </a:xfrm>
          </p:grpSpPr>
          <p:sp>
            <p:nvSpPr>
              <p:cNvPr id="2062" name=""/>
              <p:cNvSpPr/>
              <p:nvPr/>
            </p:nvSpPr>
            <p:spPr>
              <a:xfrm flipH="1">
                <a:off x="5170320" y="1746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H="1" flipV="1">
                <a:off x="5170320" y="32688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H="1">
                <a:off x="5170320" y="32724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H="1">
                <a:off x="5170320" y="7081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5170320" y="871560"/>
              <a:ext cx="533520" cy="533520"/>
              <a:chOff x="5170320" y="871560"/>
              <a:chExt cx="533520" cy="533520"/>
            </a:xfrm>
          </p:grpSpPr>
          <p:sp>
            <p:nvSpPr>
              <p:cNvPr id="2067" name=""/>
              <p:cNvSpPr/>
              <p:nvPr/>
            </p:nvSpPr>
            <p:spPr>
              <a:xfrm flipH="1">
                <a:off x="5170320" y="8715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flipV="1">
                <a:off x="5170320" y="102384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H="1">
                <a:off x="5170320" y="102420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H="1">
                <a:off x="5170320" y="14050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1" name=""/>
            <p:cNvGrpSpPr/>
            <p:nvPr/>
          </p:nvGrpSpPr>
          <p:grpSpPr>
            <a:xfrm>
              <a:off x="5170320" y="1784520"/>
              <a:ext cx="533520" cy="533160"/>
              <a:chOff x="5170320" y="1784520"/>
              <a:chExt cx="533520" cy="533160"/>
            </a:xfrm>
          </p:grpSpPr>
          <p:sp>
            <p:nvSpPr>
              <p:cNvPr id="2072" name=""/>
              <p:cNvSpPr/>
              <p:nvPr/>
            </p:nvSpPr>
            <p:spPr>
              <a:xfrm flipH="1">
                <a:off x="5170320" y="17845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 flipV="1">
                <a:off x="5170320" y="1936800"/>
                <a:ext cx="5335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H="1">
                <a:off x="5170320" y="1936800"/>
                <a:ext cx="5335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H="1">
                <a:off x="5170320" y="2317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5170320" y="2481120"/>
              <a:ext cx="533520" cy="533520"/>
              <a:chOff x="5170320" y="2481120"/>
              <a:chExt cx="533520" cy="533520"/>
            </a:xfrm>
          </p:grpSpPr>
          <p:sp>
            <p:nvSpPr>
              <p:cNvPr id="2077" name=""/>
              <p:cNvSpPr/>
              <p:nvPr/>
            </p:nvSpPr>
            <p:spPr>
              <a:xfrm flipH="1">
                <a:off x="5170320" y="24811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 flipV="1">
                <a:off x="5170320" y="263340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H="1">
                <a:off x="5170320" y="263376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>
                <a:off x="5170320" y="301464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5181480" y="3429000"/>
              <a:ext cx="533520" cy="533520"/>
              <a:chOff x="5181480" y="3429000"/>
              <a:chExt cx="533520" cy="533520"/>
            </a:xfrm>
          </p:grpSpPr>
          <p:sp>
            <p:nvSpPr>
              <p:cNvPr id="2082" name=""/>
              <p:cNvSpPr/>
              <p:nvPr/>
            </p:nvSpPr>
            <p:spPr>
              <a:xfrm flipH="1">
                <a:off x="5181480" y="34290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H="1" flipV="1">
                <a:off x="5181480" y="358128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H="1">
                <a:off x="5181480" y="358164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H="1">
                <a:off x="5181480" y="39625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6" name=""/>
            <p:cNvGrpSpPr/>
            <p:nvPr/>
          </p:nvGrpSpPr>
          <p:grpSpPr>
            <a:xfrm>
              <a:off x="5181480" y="4114800"/>
              <a:ext cx="533520" cy="533520"/>
              <a:chOff x="5181480" y="4114800"/>
              <a:chExt cx="533520" cy="533520"/>
            </a:xfrm>
          </p:grpSpPr>
          <p:sp>
            <p:nvSpPr>
              <p:cNvPr id="2087" name=""/>
              <p:cNvSpPr/>
              <p:nvPr/>
            </p:nvSpPr>
            <p:spPr>
              <a:xfrm flipH="1">
                <a:off x="5181480" y="41148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 flipV="1">
                <a:off x="5181480" y="426708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>
                <a:off x="5181480" y="426744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H="1">
                <a:off x="5181480" y="46483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1" name=""/>
            <p:cNvGrpSpPr/>
            <p:nvPr/>
          </p:nvGrpSpPr>
          <p:grpSpPr>
            <a:xfrm>
              <a:off x="5181480" y="5105520"/>
              <a:ext cx="533520" cy="533160"/>
              <a:chOff x="5181480" y="5105520"/>
              <a:chExt cx="533520" cy="533160"/>
            </a:xfrm>
          </p:grpSpPr>
          <p:sp>
            <p:nvSpPr>
              <p:cNvPr id="2092" name=""/>
              <p:cNvSpPr/>
              <p:nvPr/>
            </p:nvSpPr>
            <p:spPr>
              <a:xfrm flipH="1">
                <a:off x="5181480" y="51055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 flipV="1">
                <a:off x="5181480" y="5257800"/>
                <a:ext cx="5335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H="1">
                <a:off x="5181480" y="5257800"/>
                <a:ext cx="5335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>
                <a:off x="5181480" y="5638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6" name=""/>
            <p:cNvGrpSpPr/>
            <p:nvPr/>
          </p:nvGrpSpPr>
          <p:grpSpPr>
            <a:xfrm>
              <a:off x="5181480" y="5823000"/>
              <a:ext cx="533520" cy="533520"/>
              <a:chOff x="5181480" y="5823000"/>
              <a:chExt cx="533520" cy="533520"/>
            </a:xfrm>
          </p:grpSpPr>
          <p:sp>
            <p:nvSpPr>
              <p:cNvPr id="2097" name=""/>
              <p:cNvSpPr/>
              <p:nvPr/>
            </p:nvSpPr>
            <p:spPr>
              <a:xfrm flipH="1">
                <a:off x="5181480" y="58230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H="1" flipV="1">
                <a:off x="5181480" y="597528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H="1">
                <a:off x="5181480" y="597564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>
                <a:off x="5181480" y="63565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1" name=""/>
            <p:cNvSpPr/>
            <p:nvPr/>
          </p:nvSpPr>
          <p:spPr>
            <a:xfrm flipH="1">
              <a:off x="2971800" y="6553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5813280" y="174600"/>
              <a:ext cx="2611440" cy="1228680"/>
              <a:chOff x="5813280" y="174600"/>
              <a:chExt cx="2611440" cy="1228680"/>
            </a:xfrm>
          </p:grpSpPr>
          <p:grpSp>
            <p:nvGrpSpPr>
              <p:cNvPr id="2103" name=""/>
              <p:cNvGrpSpPr/>
              <p:nvPr/>
            </p:nvGrpSpPr>
            <p:grpSpPr>
              <a:xfrm>
                <a:off x="5813280" y="174600"/>
                <a:ext cx="2590920" cy="533520"/>
                <a:chOff x="5813280" y="174600"/>
                <a:chExt cx="2590920" cy="533520"/>
              </a:xfrm>
            </p:grpSpPr>
            <p:sp>
              <p:nvSpPr>
                <p:cNvPr id="2104" name=""/>
                <p:cNvSpPr/>
                <p:nvPr/>
              </p:nvSpPr>
              <p:spPr>
                <a:xfrm>
                  <a:off x="5813280" y="17460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5813280" y="33804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5813280" y="54468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5813280" y="70812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8" name=""/>
              <p:cNvGrpSpPr/>
              <p:nvPr/>
            </p:nvGrpSpPr>
            <p:grpSpPr>
              <a:xfrm>
                <a:off x="5834160" y="870120"/>
                <a:ext cx="2590560" cy="533160"/>
                <a:chOff x="5834160" y="870120"/>
                <a:chExt cx="2590560" cy="533160"/>
              </a:xfrm>
            </p:grpSpPr>
            <p:sp>
              <p:nvSpPr>
                <p:cNvPr id="2109" name=""/>
                <p:cNvSpPr/>
                <p:nvPr/>
              </p:nvSpPr>
              <p:spPr>
                <a:xfrm>
                  <a:off x="5834160" y="87012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834160" y="103320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5834160" y="123984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5834160" y="140328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3" name=""/>
            <p:cNvGrpSpPr/>
            <p:nvPr/>
          </p:nvGrpSpPr>
          <p:grpSpPr>
            <a:xfrm>
              <a:off x="5867280" y="1774800"/>
              <a:ext cx="2611440" cy="1228680"/>
              <a:chOff x="5867280" y="1774800"/>
              <a:chExt cx="2611440" cy="1228680"/>
            </a:xfrm>
          </p:grpSpPr>
          <p:grpSp>
            <p:nvGrpSpPr>
              <p:cNvPr id="2114" name=""/>
              <p:cNvGrpSpPr/>
              <p:nvPr/>
            </p:nvGrpSpPr>
            <p:grpSpPr>
              <a:xfrm>
                <a:off x="5867280" y="1774800"/>
                <a:ext cx="2590920" cy="533520"/>
                <a:chOff x="5867280" y="1774800"/>
                <a:chExt cx="2590920" cy="533520"/>
              </a:xfrm>
            </p:grpSpPr>
            <p:sp>
              <p:nvSpPr>
                <p:cNvPr id="2115" name=""/>
                <p:cNvSpPr/>
                <p:nvPr/>
              </p:nvSpPr>
              <p:spPr>
                <a:xfrm>
                  <a:off x="5867280" y="177480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5867280" y="193824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5867280" y="214488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5867280" y="230832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9" name=""/>
              <p:cNvGrpSpPr/>
              <p:nvPr/>
            </p:nvGrpSpPr>
            <p:grpSpPr>
              <a:xfrm>
                <a:off x="5888160" y="2470320"/>
                <a:ext cx="2590560" cy="533160"/>
                <a:chOff x="5888160" y="2470320"/>
                <a:chExt cx="2590560" cy="533160"/>
              </a:xfrm>
            </p:grpSpPr>
            <p:sp>
              <p:nvSpPr>
                <p:cNvPr id="2120" name=""/>
                <p:cNvSpPr/>
                <p:nvPr/>
              </p:nvSpPr>
              <p:spPr>
                <a:xfrm>
                  <a:off x="5888160" y="247032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888160" y="263340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5888160" y="284004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5888160" y="300348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4" name=""/>
            <p:cNvGrpSpPr/>
            <p:nvPr/>
          </p:nvGrpSpPr>
          <p:grpSpPr>
            <a:xfrm>
              <a:off x="5867280" y="3429000"/>
              <a:ext cx="2611440" cy="1228680"/>
              <a:chOff x="5867280" y="3429000"/>
              <a:chExt cx="2611440" cy="1228680"/>
            </a:xfrm>
          </p:grpSpPr>
          <p:grpSp>
            <p:nvGrpSpPr>
              <p:cNvPr id="2125" name=""/>
              <p:cNvGrpSpPr/>
              <p:nvPr/>
            </p:nvGrpSpPr>
            <p:grpSpPr>
              <a:xfrm>
                <a:off x="5867280" y="3429000"/>
                <a:ext cx="2590920" cy="533520"/>
                <a:chOff x="5867280" y="3429000"/>
                <a:chExt cx="2590920" cy="533520"/>
              </a:xfrm>
            </p:grpSpPr>
            <p:sp>
              <p:nvSpPr>
                <p:cNvPr id="2126" name=""/>
                <p:cNvSpPr/>
                <p:nvPr/>
              </p:nvSpPr>
              <p:spPr>
                <a:xfrm>
                  <a:off x="5867280" y="342900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5867280" y="359244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5867280" y="379908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5867280" y="396252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0" name=""/>
              <p:cNvGrpSpPr/>
              <p:nvPr/>
            </p:nvGrpSpPr>
            <p:grpSpPr>
              <a:xfrm>
                <a:off x="5888160" y="4124520"/>
                <a:ext cx="2590560" cy="533160"/>
                <a:chOff x="5888160" y="4124520"/>
                <a:chExt cx="2590560" cy="533160"/>
              </a:xfrm>
            </p:grpSpPr>
            <p:sp>
              <p:nvSpPr>
                <p:cNvPr id="2131" name=""/>
                <p:cNvSpPr/>
                <p:nvPr/>
              </p:nvSpPr>
              <p:spPr>
                <a:xfrm>
                  <a:off x="5888160" y="412452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5888160" y="428760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5888160" y="449424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5888160" y="465768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5" name=""/>
            <p:cNvGrpSpPr/>
            <p:nvPr/>
          </p:nvGrpSpPr>
          <p:grpSpPr>
            <a:xfrm>
              <a:off x="5846760" y="5105520"/>
              <a:ext cx="2611440" cy="1228680"/>
              <a:chOff x="5846760" y="5105520"/>
              <a:chExt cx="2611440" cy="1228680"/>
            </a:xfrm>
          </p:grpSpPr>
          <p:grpSp>
            <p:nvGrpSpPr>
              <p:cNvPr id="2136" name=""/>
              <p:cNvGrpSpPr/>
              <p:nvPr/>
            </p:nvGrpSpPr>
            <p:grpSpPr>
              <a:xfrm>
                <a:off x="5846760" y="5105520"/>
                <a:ext cx="2590920" cy="533520"/>
                <a:chOff x="5846760" y="5105520"/>
                <a:chExt cx="2590920" cy="533520"/>
              </a:xfrm>
            </p:grpSpPr>
            <p:sp>
              <p:nvSpPr>
                <p:cNvPr id="2137" name=""/>
                <p:cNvSpPr/>
                <p:nvPr/>
              </p:nvSpPr>
              <p:spPr>
                <a:xfrm>
                  <a:off x="5846760" y="510552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5846760" y="526896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5846760" y="547560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5846760" y="563904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1" name=""/>
              <p:cNvGrpSpPr/>
              <p:nvPr/>
            </p:nvGrpSpPr>
            <p:grpSpPr>
              <a:xfrm>
                <a:off x="5867640" y="5801040"/>
                <a:ext cx="2590560" cy="533160"/>
                <a:chOff x="5867640" y="5801040"/>
                <a:chExt cx="2590560" cy="533160"/>
              </a:xfrm>
            </p:grpSpPr>
            <p:sp>
              <p:nvSpPr>
                <p:cNvPr id="2142" name=""/>
                <p:cNvSpPr/>
                <p:nvPr/>
              </p:nvSpPr>
              <p:spPr>
                <a:xfrm>
                  <a:off x="5867640" y="580104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5867640" y="596412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5867640" y="617076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5867640" y="633420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6" name=""/>
            <p:cNvSpPr/>
            <p:nvPr/>
          </p:nvSpPr>
          <p:spPr>
            <a:xfrm>
              <a:off x="8534520" y="6400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8153280" y="6477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8" name=""/>
            <p:cNvGrpSpPr/>
            <p:nvPr/>
          </p:nvGrpSpPr>
          <p:grpSpPr>
            <a:xfrm>
              <a:off x="3047760" y="152280"/>
              <a:ext cx="762120" cy="6248520"/>
              <a:chOff x="3047760" y="152280"/>
              <a:chExt cx="762120" cy="6248520"/>
            </a:xfrm>
          </p:grpSpPr>
          <p:sp>
            <p:nvSpPr>
              <p:cNvPr id="2149" name=""/>
              <p:cNvSpPr/>
              <p:nvPr/>
            </p:nvSpPr>
            <p:spPr>
              <a:xfrm flipH="1">
                <a:off x="3112920" y="326880"/>
                <a:ext cx="60984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H="1">
                <a:off x="3124080" y="1066680"/>
                <a:ext cx="60984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H="1">
                <a:off x="3124080" y="1905120"/>
                <a:ext cx="609840" cy="18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H="1" flipV="1">
                <a:off x="3124080" y="2286000"/>
                <a:ext cx="6098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135240" y="2514600"/>
                <a:ext cx="609840" cy="11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124080" y="2666880"/>
                <a:ext cx="60984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H="1" flipV="1">
                <a:off x="3123720" y="2840040"/>
                <a:ext cx="685800" cy="249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H="1" flipV="1">
                <a:off x="3124080" y="3047760"/>
                <a:ext cx="60984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V="1">
                <a:off x="3124080" y="533160"/>
                <a:ext cx="609840" cy="28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3124080" y="1295280"/>
                <a:ext cx="60984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3124080" y="2133720"/>
                <a:ext cx="60984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3124080" y="2895120"/>
                <a:ext cx="60984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3124080" y="3809880"/>
                <a:ext cx="609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124080" y="449568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124080" y="4724280"/>
                <a:ext cx="60984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H="1">
                <a:off x="3047760" y="1522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>
                <a:off x="3047760" y="685800"/>
                <a:ext cx="685800" cy="441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H="1" flipV="1">
                <a:off x="3048120" y="380880"/>
                <a:ext cx="7617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048120" y="609480"/>
                <a:ext cx="76176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048120" y="762120"/>
                <a:ext cx="761760" cy="17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048120" y="914400"/>
                <a:ext cx="76176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048120" y="1143000"/>
                <a:ext cx="76176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048120" y="1295280"/>
                <a:ext cx="761760" cy="381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048120" y="1447920"/>
                <a:ext cx="761760" cy="441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H="1">
                <a:off x="3048120" y="1447920"/>
                <a:ext cx="76176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H="1">
                <a:off x="3048120" y="2286000"/>
                <a:ext cx="76176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H="1">
                <a:off x="3048120" y="3048120"/>
                <a:ext cx="76176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H="1">
                <a:off x="3048120" y="3962520"/>
                <a:ext cx="76176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H="1">
                <a:off x="3048120" y="4724280"/>
                <a:ext cx="76176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>
                <a:off x="3048120" y="5638680"/>
                <a:ext cx="7617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H="1">
                <a:off x="3048120" y="640080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=1:p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=1:p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=1:p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876320" y="2297160"/>
                <a:ext cx="2057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←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1724040" y="2906640"/>
                <a:ext cx="4610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←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1876320" y="374508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←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σ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1419120" y="4049640"/>
                <a:ext cx="230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←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4772160" y="2373480"/>
                <a:ext cx="16192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llredu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6553080" y="2982960"/>
                <a:ext cx="1409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PI</m:t>
                    </m:r>
                    <m:r>
                      <m:rPr>
                        <m:lit/>
                        <m:nor/>
                      </m:rPr>
                      <m:t xml:space="preserve">_Re</m:t>
                    </m:r>
                    <m:r>
                      <m:rPr>
                        <m:lit/>
                        <m:nor/>
                      </m:rPr>
                      <m:t xml:space="preserve">duc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1133640" y="4506840"/>
                <a:ext cx="3105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  <m:r>
                      <m:t xml:space="preserve">←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695840" y="4506840"/>
                <a:ext cx="1200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local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F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6219720" y="3821040"/>
                <a:ext cx="13636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←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114560" y="5649840"/>
                <a:ext cx="4267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μm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←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μm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610240" y="5649840"/>
                <a:ext cx="1200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local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F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2333520" y="6031080"/>
                <a:ext cx="2057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ith</m:t>
                        </m:r>
                        <m:r>
                          <m:t xml:space="preserve">: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m</m:t>
                        </m:r>
                        <m:r>
                          <m:t xml:space="preserve">: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333520" y="4888080"/>
                <a:ext cx="203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ith</m:t>
                        </m:r>
                        <m:r>
                          <m:t xml:space="preserve">:</m:t>
                        </m:r>
                        <m:r>
                          <m:t xml:space="preserve">m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m</m:t>
                        </m:r>
                        <m:r>
                          <m:t xml:space="preserve">: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4425840" y="3745080"/>
                <a:ext cx="196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ith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m</m:t>
                        </m:r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760840" y="1935000"/>
                <a:ext cx="559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ith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m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Comm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llredu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6" name=""/>
          <p:cNvSpPr/>
          <p:nvPr/>
        </p:nvSpPr>
        <p:spPr>
          <a:xfrm>
            <a:off x="2556000" y="263700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Arith: (p-1)*m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; Comm: (p-1)m*MPI_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Approach   </a:t>
            </a: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(alg.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99" name=""/>
          <p:cNvGraphicFramePr/>
          <p:nvPr/>
        </p:nvGraphicFramePr>
        <p:xfrm>
          <a:off x="539640" y="2852640"/>
          <a:ext cx="7561080" cy="2566800"/>
        </p:xfrm>
        <a:graphic>
          <a:graphicData uri="http://schemas.openxmlformats.org/drawingml/2006/table">
            <a:tbl>
              <a:tblPr/>
              <a:tblGrid>
                <a:gridCol w="1260360"/>
                <a:gridCol w="1260360"/>
                <a:gridCol w="1260720"/>
                <a:gridCol w="1258920"/>
                <a:gridCol w="1260360"/>
                <a:gridCol w="126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p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p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p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p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p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.7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=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5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0" name=""/>
          <p:cNvSpPr/>
          <p:nvPr/>
        </p:nvSpPr>
        <p:spPr>
          <a:xfrm>
            <a:off x="755640" y="58770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e need reduce the time on step 2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Concept of DF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rete Fourier Transform(DF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rix-Vector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v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entries of a N*N matrix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ctor multiply matrix, get output v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343400" y="2960640"/>
                <a:ext cx="16002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i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76520" y="2703600"/>
                <a:ext cx="22096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057400" y="6019920"/>
                <a:ext cx="27018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003560" y="4378320"/>
                <a:ext cx="2514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946160" y="4883040"/>
                <a:ext cx="762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553080" y="4800600"/>
                <a:ext cx="533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Step 2 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 Multipole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w this multiplication as a mapping of m charges on a circle to values of the potential due to these char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: char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: poten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olation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6411960" y="4135320"/>
            <a:ext cx="1817280" cy="1807920"/>
            <a:chOff x="6411960" y="4135320"/>
            <a:chExt cx="1817280" cy="1807920"/>
          </a:xfrm>
        </p:grpSpPr>
        <p:sp>
          <p:nvSpPr>
            <p:cNvPr id="2204" name=""/>
            <p:cNvSpPr/>
            <p:nvPr/>
          </p:nvSpPr>
          <p:spPr>
            <a:xfrm>
              <a:off x="6443640" y="4157280"/>
              <a:ext cx="1752120" cy="175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411960" y="4995720"/>
              <a:ext cx="75960" cy="75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153280" y="4995720"/>
              <a:ext cx="75960" cy="75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281720" y="4135320"/>
              <a:ext cx="75960" cy="75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281720" y="5867280"/>
              <a:ext cx="75960" cy="75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891200" y="4385880"/>
              <a:ext cx="75960" cy="76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91200" y="5605200"/>
              <a:ext cx="75960" cy="76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672240" y="5605200"/>
              <a:ext cx="75600" cy="76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672240" y="4385880"/>
              <a:ext cx="75600" cy="76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433920" y="476712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541920" y="545292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095960" y="58449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772400" y="5724360"/>
              <a:ext cx="7560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8142120" y="52020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8022960" y="452736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476840" y="414612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792840" y="4277880"/>
              <a:ext cx="7560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1" name="" descr=""/>
          <p:cNvPicPr/>
          <p:nvPr/>
        </p:nvPicPr>
        <p:blipFill>
          <a:blip r:embed="rId1"/>
          <a:stretch/>
        </p:blipFill>
        <p:spPr>
          <a:xfrm>
            <a:off x="1257480" y="1995480"/>
            <a:ext cx="7200720" cy="4329000"/>
          </a:xfrm>
          <a:prstGeom prst="rect">
            <a:avLst/>
          </a:prstGeom>
          <a:ln w="0">
            <a:noFill/>
          </a:ln>
        </p:spPr>
      </p:pic>
      <p:sp>
        <p:nvSpPr>
          <p:cNvPr id="2222" name=""/>
          <p:cNvSpPr/>
          <p:nvPr/>
        </p:nvSpPr>
        <p:spPr>
          <a:xfrm>
            <a:off x="981360" y="99072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3" name=""/>
          <p:cNvGrpSpPr/>
          <p:nvPr/>
        </p:nvGrpSpPr>
        <p:grpSpPr>
          <a:xfrm>
            <a:off x="3429000" y="2286000"/>
            <a:ext cx="2971800" cy="3048120"/>
            <a:chOff x="3429000" y="2286000"/>
            <a:chExt cx="2971800" cy="3048120"/>
          </a:xfrm>
        </p:grpSpPr>
        <p:grpSp>
          <p:nvGrpSpPr>
            <p:cNvPr id="2224" name=""/>
            <p:cNvGrpSpPr/>
            <p:nvPr/>
          </p:nvGrpSpPr>
          <p:grpSpPr>
            <a:xfrm>
              <a:off x="3429000" y="2286000"/>
              <a:ext cx="2971800" cy="3048120"/>
              <a:chOff x="3429000" y="2286000"/>
              <a:chExt cx="2971800" cy="3048120"/>
            </a:xfrm>
          </p:grpSpPr>
          <p:grpSp>
            <p:nvGrpSpPr>
              <p:cNvPr id="2225" name=""/>
              <p:cNvGrpSpPr/>
              <p:nvPr/>
            </p:nvGrpSpPr>
            <p:grpSpPr>
              <a:xfrm>
                <a:off x="3429000" y="2286000"/>
                <a:ext cx="2971800" cy="3048120"/>
                <a:chOff x="3429000" y="2286000"/>
                <a:chExt cx="2971800" cy="3048120"/>
              </a:xfrm>
            </p:grpSpPr>
            <p:grpSp>
              <p:nvGrpSpPr>
                <p:cNvPr id="2226" name=""/>
                <p:cNvGrpSpPr/>
                <p:nvPr/>
              </p:nvGrpSpPr>
              <p:grpSpPr>
                <a:xfrm>
                  <a:off x="3429000" y="2286000"/>
                  <a:ext cx="2971800" cy="3048120"/>
                  <a:chOff x="3429000" y="2286000"/>
                  <a:chExt cx="2971800" cy="3048120"/>
                </a:xfrm>
              </p:grpSpPr>
              <p:sp>
                <p:nvSpPr>
                  <p:cNvPr id="2227" name=""/>
                  <p:cNvSpPr/>
                  <p:nvPr/>
                </p:nvSpPr>
                <p:spPr>
                  <a:xfrm>
                    <a:off x="3429000" y="2286000"/>
                    <a:ext cx="2971800" cy="3048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3810240" y="2666880"/>
                    <a:ext cx="2209680" cy="2286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 flipH="1">
                    <a:off x="5410080" y="27432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>
                    <a:off x="4191120" y="30481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1" name=""/>
                <p:cNvSpPr/>
                <p:nvPr/>
              </p:nvSpPr>
              <p:spPr>
                <a:xfrm flipH="1" flipV="1">
                  <a:off x="3886200" y="274320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flipH="1">
                  <a:off x="380988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541044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5257800" y="3809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flipH="1">
                  <a:off x="3504960" y="380988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4876920" y="2286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4876920" y="419112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8" name=""/>
              <p:cNvSpPr/>
              <p:nvPr/>
            </p:nvSpPr>
            <p:spPr>
              <a:xfrm>
                <a:off x="4572000" y="342900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9" name=""/>
            <p:cNvSpPr/>
            <p:nvPr/>
          </p:nvSpPr>
          <p:spPr>
            <a:xfrm flipH="1" flipV="1">
              <a:off x="3580920" y="32000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H="1">
              <a:off x="358092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4267080" y="4876920"/>
              <a:ext cx="152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334120" y="48769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94360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5943600" y="32000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5334120" y="24379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343400" y="24382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7" name=""/>
          <p:cNvSpPr/>
          <p:nvPr/>
        </p:nvSpPr>
        <p:spPr>
          <a:xfrm>
            <a:off x="5334120" y="25146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H="1" rot="18294600">
            <a:off x="3429360" y="2421000"/>
            <a:ext cx="2895480" cy="273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76" y="4299"/>
                </a:moveTo>
                <a:arcTo wR="10800" hR="10800" stAng="-8579312" swAng="17270933"/>
                <a:lnTo>
                  <a:pt x="10800" y="10800"/>
                </a:lnTo>
                <a:close/>
              </a:path>
              <a:path fill="none" w="21600" h="21600">
                <a:moveTo>
                  <a:pt x="2176" y="4299"/>
                </a:moveTo>
                <a:arcTo wR="10800" hR="10800" stAng="-8579312" swAng="17270933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981360" y="99072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0" name=""/>
          <p:cNvGrpSpPr/>
          <p:nvPr/>
        </p:nvGrpSpPr>
        <p:grpSpPr>
          <a:xfrm>
            <a:off x="3219840" y="2023560"/>
            <a:ext cx="3358080" cy="3471120"/>
            <a:chOff x="3219840" y="2023560"/>
            <a:chExt cx="3358080" cy="3471120"/>
          </a:xfrm>
        </p:grpSpPr>
        <p:grpSp>
          <p:nvGrpSpPr>
            <p:cNvPr id="2251" name=""/>
            <p:cNvGrpSpPr/>
            <p:nvPr/>
          </p:nvGrpSpPr>
          <p:grpSpPr>
            <a:xfrm>
              <a:off x="3429000" y="2286000"/>
              <a:ext cx="2971800" cy="3048120"/>
              <a:chOff x="3429000" y="2286000"/>
              <a:chExt cx="2971800" cy="3048120"/>
            </a:xfrm>
          </p:grpSpPr>
          <p:grpSp>
            <p:nvGrpSpPr>
              <p:cNvPr id="2252" name=""/>
              <p:cNvGrpSpPr/>
              <p:nvPr/>
            </p:nvGrpSpPr>
            <p:grpSpPr>
              <a:xfrm>
                <a:off x="3429000" y="2286000"/>
                <a:ext cx="2971800" cy="3048120"/>
                <a:chOff x="3429000" y="2286000"/>
                <a:chExt cx="2971800" cy="3048120"/>
              </a:xfrm>
            </p:grpSpPr>
            <p:grpSp>
              <p:nvGrpSpPr>
                <p:cNvPr id="2253" name=""/>
                <p:cNvGrpSpPr/>
                <p:nvPr/>
              </p:nvGrpSpPr>
              <p:grpSpPr>
                <a:xfrm>
                  <a:off x="3429000" y="2286000"/>
                  <a:ext cx="2971800" cy="3048120"/>
                  <a:chOff x="3429000" y="2286000"/>
                  <a:chExt cx="2971800" cy="3048120"/>
                </a:xfrm>
              </p:grpSpPr>
              <p:grpSp>
                <p:nvGrpSpPr>
                  <p:cNvPr id="2254" name=""/>
                  <p:cNvGrpSpPr/>
                  <p:nvPr/>
                </p:nvGrpSpPr>
                <p:grpSpPr>
                  <a:xfrm>
                    <a:off x="3429000" y="2286000"/>
                    <a:ext cx="2971800" cy="3048120"/>
                    <a:chOff x="3429000" y="2286000"/>
                    <a:chExt cx="2971800" cy="3048120"/>
                  </a:xfrm>
                </p:grpSpPr>
                <p:sp>
                  <p:nvSpPr>
                    <p:cNvPr id="2255" name=""/>
                    <p:cNvSpPr/>
                    <p:nvPr/>
                  </p:nvSpPr>
                  <p:spPr>
                    <a:xfrm>
                      <a:off x="3429000" y="2286000"/>
                      <a:ext cx="2971800" cy="30481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6" name=""/>
                    <p:cNvSpPr/>
                    <p:nvPr/>
                  </p:nvSpPr>
                  <p:spPr>
                    <a:xfrm>
                      <a:off x="3810240" y="2666880"/>
                      <a:ext cx="2209680" cy="22860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7" name=""/>
                    <p:cNvSpPr/>
                    <p:nvPr/>
                  </p:nvSpPr>
                  <p:spPr>
                    <a:xfrm flipH="1">
                      <a:off x="5410080" y="2743200"/>
                      <a:ext cx="533160" cy="533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8" name=""/>
                    <p:cNvSpPr/>
                    <p:nvPr/>
                  </p:nvSpPr>
                  <p:spPr>
                    <a:xfrm>
                      <a:off x="4191120" y="3048120"/>
                      <a:ext cx="1447920" cy="15238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59" name=""/>
                  <p:cNvSpPr/>
                  <p:nvPr/>
                </p:nvSpPr>
                <p:spPr>
                  <a:xfrm flipH="1" flipV="1">
                    <a:off x="3886200" y="2743200"/>
                    <a:ext cx="53352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 flipH="1">
                    <a:off x="3809880" y="43434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>
                    <a:off x="5410440" y="43434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>
                    <a:off x="5257800" y="3809880"/>
                    <a:ext cx="1143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 flipH="1">
                    <a:off x="3504960" y="3809880"/>
                    <a:ext cx="1066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4876920" y="2286000"/>
                    <a:ext cx="0" cy="114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>
                    <a:off x="4876920" y="4191120"/>
                    <a:ext cx="0" cy="114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6" name=""/>
                <p:cNvSpPr/>
                <p:nvPr/>
              </p:nvSpPr>
              <p:spPr>
                <a:xfrm>
                  <a:off x="4572000" y="3429000"/>
                  <a:ext cx="685800" cy="762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7" name=""/>
              <p:cNvSpPr/>
              <p:nvPr/>
            </p:nvSpPr>
            <p:spPr>
              <a:xfrm flipH="1" flipV="1">
                <a:off x="3580920" y="320004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H="1">
                <a:off x="3580920" y="4267080"/>
                <a:ext cx="3049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>
                <a:off x="4267080" y="4876920"/>
                <a:ext cx="15264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334120" y="48769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943600" y="4267080"/>
                <a:ext cx="3049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5943600" y="320004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V="1">
                <a:off x="5334120" y="2437920"/>
                <a:ext cx="1522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343400" y="2438280"/>
                <a:ext cx="1522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5" name=""/>
            <p:cNvSpPr/>
            <p:nvPr/>
          </p:nvSpPr>
          <p:spPr>
            <a:xfrm>
              <a:off x="4876920" y="23623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H="1" rot="17037000">
              <a:off x="3450600" y="2388960"/>
              <a:ext cx="2895840" cy="274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33" y="3972"/>
                  </a:moveTo>
                  <a:arcTo wR="10800" hR="10800" stAng="-8447015" swAng="17236181"/>
                  <a:lnTo>
                    <a:pt x="10800" y="10800"/>
                  </a:lnTo>
                  <a:close/>
                </a:path>
                <a:path fill="none" w="21600" h="21600">
                  <a:moveTo>
                    <a:pt x="2433" y="3972"/>
                  </a:moveTo>
                  <a:arcTo wR="10800" hR="10800" stAng="-8447015" swAng="17236181"/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7" name=""/>
          <p:cNvSpPr/>
          <p:nvPr/>
        </p:nvSpPr>
        <p:spPr>
          <a:xfrm>
            <a:off x="981360" y="99072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8" name=""/>
          <p:cNvGrpSpPr/>
          <p:nvPr/>
        </p:nvGrpSpPr>
        <p:grpSpPr>
          <a:xfrm>
            <a:off x="3429000" y="2286000"/>
            <a:ext cx="2971800" cy="3048120"/>
            <a:chOff x="3429000" y="2286000"/>
            <a:chExt cx="2971800" cy="3048120"/>
          </a:xfrm>
        </p:grpSpPr>
        <p:grpSp>
          <p:nvGrpSpPr>
            <p:cNvPr id="2279" name=""/>
            <p:cNvGrpSpPr/>
            <p:nvPr/>
          </p:nvGrpSpPr>
          <p:grpSpPr>
            <a:xfrm>
              <a:off x="3429000" y="2286000"/>
              <a:ext cx="2971800" cy="3048120"/>
              <a:chOff x="3429000" y="2286000"/>
              <a:chExt cx="2971800" cy="3048120"/>
            </a:xfrm>
          </p:grpSpPr>
          <p:grpSp>
            <p:nvGrpSpPr>
              <p:cNvPr id="2280" name=""/>
              <p:cNvGrpSpPr/>
              <p:nvPr/>
            </p:nvGrpSpPr>
            <p:grpSpPr>
              <a:xfrm>
                <a:off x="3429000" y="2286000"/>
                <a:ext cx="2971800" cy="3048120"/>
                <a:chOff x="3429000" y="2286000"/>
                <a:chExt cx="2971800" cy="3048120"/>
              </a:xfrm>
            </p:grpSpPr>
            <p:grpSp>
              <p:nvGrpSpPr>
                <p:cNvPr id="2281" name=""/>
                <p:cNvGrpSpPr/>
                <p:nvPr/>
              </p:nvGrpSpPr>
              <p:grpSpPr>
                <a:xfrm>
                  <a:off x="3429000" y="2286000"/>
                  <a:ext cx="2971800" cy="3048120"/>
                  <a:chOff x="3429000" y="2286000"/>
                  <a:chExt cx="2971800" cy="3048120"/>
                </a:xfrm>
              </p:grpSpPr>
              <p:sp>
                <p:nvSpPr>
                  <p:cNvPr id="2282" name=""/>
                  <p:cNvSpPr/>
                  <p:nvPr/>
                </p:nvSpPr>
                <p:spPr>
                  <a:xfrm>
                    <a:off x="3429000" y="2286000"/>
                    <a:ext cx="2971800" cy="3048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>
                    <a:off x="3810240" y="2666880"/>
                    <a:ext cx="2209680" cy="2286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 flipH="1">
                    <a:off x="5410080" y="27432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4191120" y="30481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86" name=""/>
                <p:cNvSpPr/>
                <p:nvPr/>
              </p:nvSpPr>
              <p:spPr>
                <a:xfrm flipH="1" flipV="1">
                  <a:off x="3886200" y="274320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 flipH="1">
                  <a:off x="380988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41044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257800" y="3809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 flipH="1">
                  <a:off x="3504960" y="380988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4876920" y="2286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4876920" y="419112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3" name=""/>
              <p:cNvSpPr/>
              <p:nvPr/>
            </p:nvSpPr>
            <p:spPr>
              <a:xfrm>
                <a:off x="4572000" y="342900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4" name=""/>
            <p:cNvSpPr/>
            <p:nvPr/>
          </p:nvSpPr>
          <p:spPr>
            <a:xfrm flipH="1" flipV="1">
              <a:off x="3580920" y="32000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358092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H="1">
              <a:off x="4267080" y="4876920"/>
              <a:ext cx="152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334120" y="48769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94360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5943600" y="32000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5334120" y="24379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343400" y="24382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2" name=""/>
          <p:cNvSpPr/>
          <p:nvPr/>
        </p:nvSpPr>
        <p:spPr>
          <a:xfrm>
            <a:off x="4952880" y="27432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 flipH="1" rot="16273800">
            <a:off x="3512160" y="2440440"/>
            <a:ext cx="2894400" cy="273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11" y="2567"/>
                </a:moveTo>
                <a:arcTo wR="10800" hR="10800" stAng="-7819675" swAng="13153399"/>
                <a:lnTo>
                  <a:pt x="10800" y="10800"/>
                </a:lnTo>
                <a:close/>
              </a:path>
              <a:path fill="none" w="21600" h="21600">
                <a:moveTo>
                  <a:pt x="3811" y="2567"/>
                </a:moveTo>
                <a:arcTo wR="10800" hR="10800" stAng="-7819675" swAng="13153399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981360" y="99072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5" name=""/>
          <p:cNvGrpSpPr/>
          <p:nvPr/>
        </p:nvGrpSpPr>
        <p:grpSpPr>
          <a:xfrm>
            <a:off x="3059640" y="2055960"/>
            <a:ext cx="3687120" cy="3597120"/>
            <a:chOff x="3059640" y="2055960"/>
            <a:chExt cx="3687120" cy="3597120"/>
          </a:xfrm>
        </p:grpSpPr>
        <p:grpSp>
          <p:nvGrpSpPr>
            <p:cNvPr id="2306" name=""/>
            <p:cNvGrpSpPr/>
            <p:nvPr/>
          </p:nvGrpSpPr>
          <p:grpSpPr>
            <a:xfrm>
              <a:off x="3429000" y="2286000"/>
              <a:ext cx="2971800" cy="3048120"/>
              <a:chOff x="3429000" y="2286000"/>
              <a:chExt cx="2971800" cy="3048120"/>
            </a:xfrm>
          </p:grpSpPr>
          <p:grpSp>
            <p:nvGrpSpPr>
              <p:cNvPr id="2307" name=""/>
              <p:cNvGrpSpPr/>
              <p:nvPr/>
            </p:nvGrpSpPr>
            <p:grpSpPr>
              <a:xfrm>
                <a:off x="3429000" y="2286000"/>
                <a:ext cx="2971800" cy="3048120"/>
                <a:chOff x="3429000" y="2286000"/>
                <a:chExt cx="2971800" cy="3048120"/>
              </a:xfrm>
            </p:grpSpPr>
            <p:grpSp>
              <p:nvGrpSpPr>
                <p:cNvPr id="2308" name=""/>
                <p:cNvGrpSpPr/>
                <p:nvPr/>
              </p:nvGrpSpPr>
              <p:grpSpPr>
                <a:xfrm>
                  <a:off x="3429000" y="2286000"/>
                  <a:ext cx="2971800" cy="3048120"/>
                  <a:chOff x="3429000" y="2286000"/>
                  <a:chExt cx="2971800" cy="3048120"/>
                </a:xfrm>
              </p:grpSpPr>
              <p:grpSp>
                <p:nvGrpSpPr>
                  <p:cNvPr id="2309" name=""/>
                  <p:cNvGrpSpPr/>
                  <p:nvPr/>
                </p:nvGrpSpPr>
                <p:grpSpPr>
                  <a:xfrm>
                    <a:off x="3429000" y="2286000"/>
                    <a:ext cx="2971800" cy="3048120"/>
                    <a:chOff x="3429000" y="2286000"/>
                    <a:chExt cx="2971800" cy="3048120"/>
                  </a:xfrm>
                </p:grpSpPr>
                <p:sp>
                  <p:nvSpPr>
                    <p:cNvPr id="2310" name=""/>
                    <p:cNvSpPr/>
                    <p:nvPr/>
                  </p:nvSpPr>
                  <p:spPr>
                    <a:xfrm>
                      <a:off x="3429000" y="2286000"/>
                      <a:ext cx="2971800" cy="30481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1" name=""/>
                    <p:cNvSpPr/>
                    <p:nvPr/>
                  </p:nvSpPr>
                  <p:spPr>
                    <a:xfrm>
                      <a:off x="3810240" y="2666880"/>
                      <a:ext cx="2209680" cy="22860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2" name=""/>
                    <p:cNvSpPr/>
                    <p:nvPr/>
                  </p:nvSpPr>
                  <p:spPr>
                    <a:xfrm flipH="1">
                      <a:off x="5410080" y="2743200"/>
                      <a:ext cx="533160" cy="533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3" name=""/>
                    <p:cNvSpPr/>
                    <p:nvPr/>
                  </p:nvSpPr>
                  <p:spPr>
                    <a:xfrm>
                      <a:off x="4191120" y="3048120"/>
                      <a:ext cx="1447920" cy="15238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4" name=""/>
                  <p:cNvSpPr/>
                  <p:nvPr/>
                </p:nvSpPr>
                <p:spPr>
                  <a:xfrm flipH="1" flipV="1">
                    <a:off x="3886200" y="2743200"/>
                    <a:ext cx="53352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 flipH="1">
                    <a:off x="3809880" y="43434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>
                    <a:off x="5410440" y="43434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>
                    <a:off x="5257800" y="3809880"/>
                    <a:ext cx="1143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 flipH="1">
                    <a:off x="3504960" y="3809880"/>
                    <a:ext cx="1066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>
                    <a:off x="4876920" y="2286000"/>
                    <a:ext cx="0" cy="114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4876920" y="4191120"/>
                    <a:ext cx="0" cy="114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1" name=""/>
                <p:cNvSpPr/>
                <p:nvPr/>
              </p:nvSpPr>
              <p:spPr>
                <a:xfrm>
                  <a:off x="4572000" y="3429000"/>
                  <a:ext cx="685800" cy="762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2" name=""/>
              <p:cNvSpPr/>
              <p:nvPr/>
            </p:nvSpPr>
            <p:spPr>
              <a:xfrm flipH="1" flipV="1">
                <a:off x="3580920" y="320004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>
                <a:off x="3580920" y="4267080"/>
                <a:ext cx="3049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H="1">
                <a:off x="4267080" y="4876920"/>
                <a:ext cx="15264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334120" y="48769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943600" y="4267080"/>
                <a:ext cx="3049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flipV="1">
                <a:off x="5943600" y="320004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V="1">
                <a:off x="5334120" y="2437920"/>
                <a:ext cx="1522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343400" y="2438280"/>
                <a:ext cx="1522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0" name=""/>
            <p:cNvSpPr/>
            <p:nvPr/>
          </p:nvSpPr>
          <p:spPr>
            <a:xfrm>
              <a:off x="5486400" y="32767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H="1" rot="20337000">
              <a:off x="3454560" y="2484720"/>
              <a:ext cx="2896560" cy="273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60" y="497"/>
                  </a:moveTo>
                  <a:arcTo wR="10800" hR="10800" stAng="-6447313" swAng="13227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7560" y="497"/>
                  </a:moveTo>
                  <a:arcTo wR="10800" hR="10800" stAng="-6447313" swAng="13227272"/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2" name=""/>
          <p:cNvSpPr/>
          <p:nvPr/>
        </p:nvSpPr>
        <p:spPr>
          <a:xfrm>
            <a:off x="981360" y="99072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3" name=""/>
          <p:cNvGrpSpPr/>
          <p:nvPr/>
        </p:nvGrpSpPr>
        <p:grpSpPr>
          <a:xfrm>
            <a:off x="2904840" y="1845720"/>
            <a:ext cx="3985200" cy="3983400"/>
            <a:chOff x="2904840" y="1845720"/>
            <a:chExt cx="3985200" cy="3983400"/>
          </a:xfrm>
        </p:grpSpPr>
        <p:grpSp>
          <p:nvGrpSpPr>
            <p:cNvPr id="2334" name=""/>
            <p:cNvGrpSpPr/>
            <p:nvPr/>
          </p:nvGrpSpPr>
          <p:grpSpPr>
            <a:xfrm>
              <a:off x="3429000" y="2286000"/>
              <a:ext cx="2971800" cy="3048120"/>
              <a:chOff x="3429000" y="2286000"/>
              <a:chExt cx="2971800" cy="3048120"/>
            </a:xfrm>
          </p:grpSpPr>
          <p:grpSp>
            <p:nvGrpSpPr>
              <p:cNvPr id="2335" name=""/>
              <p:cNvGrpSpPr/>
              <p:nvPr/>
            </p:nvGrpSpPr>
            <p:grpSpPr>
              <a:xfrm>
                <a:off x="3429000" y="2286000"/>
                <a:ext cx="2971800" cy="3048120"/>
                <a:chOff x="3429000" y="2286000"/>
                <a:chExt cx="2971800" cy="3048120"/>
              </a:xfrm>
            </p:grpSpPr>
            <p:grpSp>
              <p:nvGrpSpPr>
                <p:cNvPr id="2336" name=""/>
                <p:cNvGrpSpPr/>
                <p:nvPr/>
              </p:nvGrpSpPr>
              <p:grpSpPr>
                <a:xfrm>
                  <a:off x="3429000" y="2286000"/>
                  <a:ext cx="2971800" cy="3048120"/>
                  <a:chOff x="3429000" y="2286000"/>
                  <a:chExt cx="2971800" cy="3048120"/>
                </a:xfrm>
              </p:grpSpPr>
              <p:grpSp>
                <p:nvGrpSpPr>
                  <p:cNvPr id="2337" name=""/>
                  <p:cNvGrpSpPr/>
                  <p:nvPr/>
                </p:nvGrpSpPr>
                <p:grpSpPr>
                  <a:xfrm>
                    <a:off x="3429000" y="2286000"/>
                    <a:ext cx="2971800" cy="3048120"/>
                    <a:chOff x="3429000" y="2286000"/>
                    <a:chExt cx="2971800" cy="3048120"/>
                  </a:xfrm>
                </p:grpSpPr>
                <p:sp>
                  <p:nvSpPr>
                    <p:cNvPr id="2338" name=""/>
                    <p:cNvSpPr/>
                    <p:nvPr/>
                  </p:nvSpPr>
                  <p:spPr>
                    <a:xfrm>
                      <a:off x="3429000" y="2286000"/>
                      <a:ext cx="2971800" cy="30481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9" name=""/>
                    <p:cNvSpPr/>
                    <p:nvPr/>
                  </p:nvSpPr>
                  <p:spPr>
                    <a:xfrm>
                      <a:off x="3810240" y="2666880"/>
                      <a:ext cx="2209680" cy="22860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0" name=""/>
                    <p:cNvSpPr/>
                    <p:nvPr/>
                  </p:nvSpPr>
                  <p:spPr>
                    <a:xfrm flipH="1">
                      <a:off x="5410080" y="2743200"/>
                      <a:ext cx="533160" cy="533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1" name=""/>
                    <p:cNvSpPr/>
                    <p:nvPr/>
                  </p:nvSpPr>
                  <p:spPr>
                    <a:xfrm>
                      <a:off x="4191120" y="3048120"/>
                      <a:ext cx="1447920" cy="15238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42" name=""/>
                  <p:cNvSpPr/>
                  <p:nvPr/>
                </p:nvSpPr>
                <p:spPr>
                  <a:xfrm flipH="1" flipV="1">
                    <a:off x="3886200" y="2743200"/>
                    <a:ext cx="53352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 flipH="1">
                    <a:off x="3809880" y="43434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5410440" y="43434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>
                    <a:off x="5257800" y="3809880"/>
                    <a:ext cx="1143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 flipH="1">
                    <a:off x="3504960" y="3809880"/>
                    <a:ext cx="1066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4876920" y="2286000"/>
                    <a:ext cx="0" cy="114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4876920" y="4191120"/>
                    <a:ext cx="0" cy="114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9" name=""/>
                <p:cNvSpPr/>
                <p:nvPr/>
              </p:nvSpPr>
              <p:spPr>
                <a:xfrm>
                  <a:off x="4572000" y="3429000"/>
                  <a:ext cx="685800" cy="762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0" name=""/>
              <p:cNvSpPr/>
              <p:nvPr/>
            </p:nvSpPr>
            <p:spPr>
              <a:xfrm flipH="1" flipV="1">
                <a:off x="3580920" y="320004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H="1">
                <a:off x="3580920" y="4267080"/>
                <a:ext cx="3049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>
                <a:off x="4267080" y="4876920"/>
                <a:ext cx="15264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334120" y="48769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943600" y="4267080"/>
                <a:ext cx="3049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V="1">
                <a:off x="5943600" y="320004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V="1">
                <a:off x="5334120" y="2437920"/>
                <a:ext cx="1522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4343400" y="2438280"/>
                <a:ext cx="1522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8" name=""/>
            <p:cNvSpPr/>
            <p:nvPr/>
          </p:nvSpPr>
          <p:spPr>
            <a:xfrm>
              <a:off x="4800600" y="32004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(A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 rot="18927000">
              <a:off x="3449880" y="2467440"/>
              <a:ext cx="2895120" cy="273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3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33724"/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0" name=""/>
          <p:cNvSpPr/>
          <p:nvPr/>
        </p:nvSpPr>
        <p:spPr>
          <a:xfrm>
            <a:off x="981360" y="99072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1" name=""/>
          <p:cNvGrpSpPr/>
          <p:nvPr/>
        </p:nvGrpSpPr>
        <p:grpSpPr>
          <a:xfrm>
            <a:off x="3429000" y="2286000"/>
            <a:ext cx="2971800" cy="3048120"/>
            <a:chOff x="3429000" y="2286000"/>
            <a:chExt cx="2971800" cy="3048120"/>
          </a:xfrm>
        </p:grpSpPr>
        <p:grpSp>
          <p:nvGrpSpPr>
            <p:cNvPr id="2362" name=""/>
            <p:cNvGrpSpPr/>
            <p:nvPr/>
          </p:nvGrpSpPr>
          <p:grpSpPr>
            <a:xfrm>
              <a:off x="3429000" y="2286000"/>
              <a:ext cx="2971800" cy="3048120"/>
              <a:chOff x="3429000" y="2286000"/>
              <a:chExt cx="2971800" cy="3048120"/>
            </a:xfrm>
          </p:grpSpPr>
          <p:grpSp>
            <p:nvGrpSpPr>
              <p:cNvPr id="2363" name=""/>
              <p:cNvGrpSpPr/>
              <p:nvPr/>
            </p:nvGrpSpPr>
            <p:grpSpPr>
              <a:xfrm>
                <a:off x="3429000" y="2286000"/>
                <a:ext cx="2971800" cy="3048120"/>
                <a:chOff x="3429000" y="2286000"/>
                <a:chExt cx="2971800" cy="3048120"/>
              </a:xfrm>
            </p:grpSpPr>
            <p:grpSp>
              <p:nvGrpSpPr>
                <p:cNvPr id="2364" name=""/>
                <p:cNvGrpSpPr/>
                <p:nvPr/>
              </p:nvGrpSpPr>
              <p:grpSpPr>
                <a:xfrm>
                  <a:off x="3429000" y="2286000"/>
                  <a:ext cx="2971800" cy="3048120"/>
                  <a:chOff x="3429000" y="2286000"/>
                  <a:chExt cx="2971800" cy="3048120"/>
                </a:xfrm>
              </p:grpSpPr>
              <p:sp>
                <p:nvSpPr>
                  <p:cNvPr id="2365" name=""/>
                  <p:cNvSpPr/>
                  <p:nvPr/>
                </p:nvSpPr>
                <p:spPr>
                  <a:xfrm>
                    <a:off x="3429000" y="2286000"/>
                    <a:ext cx="2971800" cy="3048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3810240" y="2666880"/>
                    <a:ext cx="2209680" cy="2286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 flipH="1">
                    <a:off x="5410080" y="27432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4191120" y="30481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69" name=""/>
                <p:cNvSpPr/>
                <p:nvPr/>
              </p:nvSpPr>
              <p:spPr>
                <a:xfrm flipH="1" flipV="1">
                  <a:off x="3886200" y="274320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 flipH="1">
                  <a:off x="380988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41044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257800" y="3809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flipH="1">
                  <a:off x="3504960" y="380988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4876920" y="2286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4876920" y="419112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6" name=""/>
              <p:cNvSpPr/>
              <p:nvPr/>
            </p:nvSpPr>
            <p:spPr>
              <a:xfrm>
                <a:off x="4572000" y="342900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7" name=""/>
            <p:cNvSpPr/>
            <p:nvPr/>
          </p:nvSpPr>
          <p:spPr>
            <a:xfrm flipH="1" flipV="1">
              <a:off x="3580920" y="32000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358092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4267080" y="4876920"/>
              <a:ext cx="152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334120" y="48769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94360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V="1">
              <a:off x="5943600" y="32000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V="1">
              <a:off x="5334120" y="24379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343400" y="24382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5" name=""/>
          <p:cNvSpPr/>
          <p:nvPr/>
        </p:nvSpPr>
        <p:spPr>
          <a:xfrm>
            <a:off x="3962520" y="4038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( P(A,B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 flipH="1" rot="8177400">
            <a:off x="3477240" y="2403720"/>
            <a:ext cx="2895480" cy="273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23" y="2862"/>
                </a:moveTo>
                <a:arcTo wR="10800" hR="10800" stAng="-2838404" swAng="5726884"/>
                <a:lnTo>
                  <a:pt x="10800" y="10800"/>
                </a:lnTo>
                <a:close/>
              </a:path>
              <a:path fill="none" w="21600" h="21600">
                <a:moveTo>
                  <a:pt x="18123" y="2862"/>
                </a:moveTo>
                <a:arcTo wR="10800" hR="10800" stAng="-2838404" swAng="5726884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981360" y="99072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8" name=""/>
          <p:cNvGrpSpPr/>
          <p:nvPr/>
        </p:nvGrpSpPr>
        <p:grpSpPr>
          <a:xfrm>
            <a:off x="3429000" y="2286000"/>
            <a:ext cx="2971800" cy="3048120"/>
            <a:chOff x="3429000" y="2286000"/>
            <a:chExt cx="2971800" cy="3048120"/>
          </a:xfrm>
        </p:grpSpPr>
        <p:grpSp>
          <p:nvGrpSpPr>
            <p:cNvPr id="2389" name=""/>
            <p:cNvGrpSpPr/>
            <p:nvPr/>
          </p:nvGrpSpPr>
          <p:grpSpPr>
            <a:xfrm>
              <a:off x="3429000" y="2286000"/>
              <a:ext cx="2971800" cy="3048120"/>
              <a:chOff x="3429000" y="2286000"/>
              <a:chExt cx="2971800" cy="3048120"/>
            </a:xfrm>
          </p:grpSpPr>
          <p:grpSp>
            <p:nvGrpSpPr>
              <p:cNvPr id="2390" name=""/>
              <p:cNvGrpSpPr/>
              <p:nvPr/>
            </p:nvGrpSpPr>
            <p:grpSpPr>
              <a:xfrm>
                <a:off x="3429000" y="2286000"/>
                <a:ext cx="2971800" cy="3048120"/>
                <a:chOff x="3429000" y="2286000"/>
                <a:chExt cx="2971800" cy="3048120"/>
              </a:xfrm>
            </p:grpSpPr>
            <p:grpSp>
              <p:nvGrpSpPr>
                <p:cNvPr id="2391" name=""/>
                <p:cNvGrpSpPr/>
                <p:nvPr/>
              </p:nvGrpSpPr>
              <p:grpSpPr>
                <a:xfrm>
                  <a:off x="3429000" y="2286000"/>
                  <a:ext cx="2971800" cy="3048120"/>
                  <a:chOff x="3429000" y="2286000"/>
                  <a:chExt cx="2971800" cy="3048120"/>
                </a:xfrm>
              </p:grpSpPr>
              <p:sp>
                <p:nvSpPr>
                  <p:cNvPr id="2392" name=""/>
                  <p:cNvSpPr/>
                  <p:nvPr/>
                </p:nvSpPr>
                <p:spPr>
                  <a:xfrm>
                    <a:off x="3429000" y="2286000"/>
                    <a:ext cx="2971800" cy="3048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>
                    <a:off x="3810240" y="2666880"/>
                    <a:ext cx="2209680" cy="2286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4" name=""/>
                  <p:cNvSpPr/>
                  <p:nvPr/>
                </p:nvSpPr>
                <p:spPr>
                  <a:xfrm flipH="1">
                    <a:off x="5410080" y="27432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>
                    <a:off x="4191120" y="30481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6" name=""/>
                <p:cNvSpPr/>
                <p:nvPr/>
              </p:nvSpPr>
              <p:spPr>
                <a:xfrm flipH="1" flipV="1">
                  <a:off x="3886200" y="274320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flipH="1">
                  <a:off x="380988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541044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5257800" y="3809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flipH="1">
                  <a:off x="3504960" y="380988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4876920" y="2286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4876920" y="419112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3" name=""/>
              <p:cNvSpPr/>
              <p:nvPr/>
            </p:nvSpPr>
            <p:spPr>
              <a:xfrm>
                <a:off x="4572000" y="342900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4" name=""/>
            <p:cNvSpPr/>
            <p:nvPr/>
          </p:nvSpPr>
          <p:spPr>
            <a:xfrm flipH="1" flipV="1">
              <a:off x="3580920" y="32000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H="1">
              <a:off x="358092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>
              <a:off x="4267080" y="4876920"/>
              <a:ext cx="152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334120" y="48769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94360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5943600" y="32000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V="1">
              <a:off x="5334120" y="24379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343400" y="24382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2" name=""/>
          <p:cNvSpPr/>
          <p:nvPr/>
        </p:nvSpPr>
        <p:spPr>
          <a:xfrm>
            <a:off x="3962520" y="4038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( P(A,B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 flipH="1" rot="5505000">
            <a:off x="3407400" y="2339280"/>
            <a:ext cx="289440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981360" y="99072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5" name=""/>
          <p:cNvGrpSpPr/>
          <p:nvPr/>
        </p:nvGrpSpPr>
        <p:grpSpPr>
          <a:xfrm>
            <a:off x="3429000" y="2286000"/>
            <a:ext cx="2971800" cy="3048120"/>
            <a:chOff x="3429000" y="2286000"/>
            <a:chExt cx="2971800" cy="3048120"/>
          </a:xfrm>
        </p:grpSpPr>
        <p:grpSp>
          <p:nvGrpSpPr>
            <p:cNvPr id="2416" name=""/>
            <p:cNvGrpSpPr/>
            <p:nvPr/>
          </p:nvGrpSpPr>
          <p:grpSpPr>
            <a:xfrm>
              <a:off x="3429000" y="2286000"/>
              <a:ext cx="2971800" cy="3048120"/>
              <a:chOff x="3429000" y="2286000"/>
              <a:chExt cx="2971800" cy="3048120"/>
            </a:xfrm>
          </p:grpSpPr>
          <p:grpSp>
            <p:nvGrpSpPr>
              <p:cNvPr id="2417" name=""/>
              <p:cNvGrpSpPr/>
              <p:nvPr/>
            </p:nvGrpSpPr>
            <p:grpSpPr>
              <a:xfrm>
                <a:off x="3429000" y="2286000"/>
                <a:ext cx="2971800" cy="3048120"/>
                <a:chOff x="3429000" y="2286000"/>
                <a:chExt cx="2971800" cy="3048120"/>
              </a:xfrm>
            </p:grpSpPr>
            <p:grpSp>
              <p:nvGrpSpPr>
                <p:cNvPr id="2418" name=""/>
                <p:cNvGrpSpPr/>
                <p:nvPr/>
              </p:nvGrpSpPr>
              <p:grpSpPr>
                <a:xfrm>
                  <a:off x="3429000" y="2286000"/>
                  <a:ext cx="2971800" cy="3048120"/>
                  <a:chOff x="3429000" y="2286000"/>
                  <a:chExt cx="2971800" cy="3048120"/>
                </a:xfrm>
              </p:grpSpPr>
              <p:sp>
                <p:nvSpPr>
                  <p:cNvPr id="2419" name=""/>
                  <p:cNvSpPr/>
                  <p:nvPr/>
                </p:nvSpPr>
                <p:spPr>
                  <a:xfrm>
                    <a:off x="3429000" y="2286000"/>
                    <a:ext cx="2971800" cy="3048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>
                    <a:off x="3810240" y="2666880"/>
                    <a:ext cx="2209680" cy="2286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1" name=""/>
                  <p:cNvSpPr/>
                  <p:nvPr/>
                </p:nvSpPr>
                <p:spPr>
                  <a:xfrm flipH="1">
                    <a:off x="5410080" y="27432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>
                    <a:off x="4191120" y="30481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23" name=""/>
                <p:cNvSpPr/>
                <p:nvPr/>
              </p:nvSpPr>
              <p:spPr>
                <a:xfrm flipH="1" flipV="1">
                  <a:off x="3886200" y="274320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flipH="1">
                  <a:off x="380988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541044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5257800" y="3809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 flipH="1">
                  <a:off x="3504960" y="380988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4876920" y="2286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4876920" y="419112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0" name=""/>
              <p:cNvSpPr/>
              <p:nvPr/>
            </p:nvSpPr>
            <p:spPr>
              <a:xfrm>
                <a:off x="4572000" y="342900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1" name=""/>
            <p:cNvSpPr/>
            <p:nvPr/>
          </p:nvSpPr>
          <p:spPr>
            <a:xfrm flipH="1" flipV="1">
              <a:off x="3580920" y="32000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H="1">
              <a:off x="358092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H="1">
              <a:off x="4267080" y="4876920"/>
              <a:ext cx="152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334120" y="48769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94360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V="1">
              <a:off x="5943600" y="32000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V="1">
              <a:off x="5334120" y="24379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343400" y="24382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9" name=""/>
          <p:cNvSpPr/>
          <p:nvPr/>
        </p:nvSpPr>
        <p:spPr>
          <a:xfrm flipH="1" rot="5505000">
            <a:off x="3408480" y="2424600"/>
            <a:ext cx="2894760" cy="289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39" y="50"/>
                </a:moveTo>
                <a:arcTo wR="10800" hR="10800" stAng="-5068691" swAng="5068691"/>
                <a:lnTo>
                  <a:pt x="10800" y="10800"/>
                </a:lnTo>
                <a:close/>
              </a:path>
              <a:path fill="none" w="21600" h="21600">
                <a:moveTo>
                  <a:pt x="11839" y="50"/>
                </a:moveTo>
                <a:arcTo wR="10800" hR="10800" stAng="-5068691" swAng="5068691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5486400" y="4038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1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502920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 flipH="1" rot="12600">
            <a:off x="3467520" y="2520360"/>
            <a:ext cx="2894760" cy="273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71" y="2197"/>
                </a:moveTo>
                <a:arcTo wR="10800" hR="10800" stAng="-7631781" swAng="12889329"/>
                <a:lnTo>
                  <a:pt x="10800" y="10800"/>
                </a:lnTo>
                <a:close/>
              </a:path>
              <a:path fill="none" w="21600" h="21600">
                <a:moveTo>
                  <a:pt x="4271" y="2197"/>
                </a:moveTo>
                <a:arcTo wR="10800" hR="10800" stAng="-7631781" swAng="12889329"/>
              </a:path>
            </a:pathLst>
          </a:cu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981360" y="99072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rix of F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219320" y="2178000"/>
                <a:ext cx="7467480" cy="25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  <m:r>
                                    <m:t xml:space="preserve">∗</m:t>
                                  </m:r>
                                  <m:r>
                                    <m:t xml:space="preserve">0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  <m:r>
                                    <m:t xml:space="preserve">∗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  <m:r>
                                    <m:t xml:space="preserve">∗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∗</m:t>
                                  </m:r>
                                  <m:r>
                                    <m:t xml:space="preserve">0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∗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∗</m:t>
                                  </m:r>
                                  <m:r>
                                    <m:t xml:space="preserve">0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∗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681360" y="4919760"/>
                <a:ext cx="1143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4" name=""/>
          <p:cNvGrpSpPr/>
          <p:nvPr/>
        </p:nvGrpSpPr>
        <p:grpSpPr>
          <a:xfrm>
            <a:off x="3429000" y="2286000"/>
            <a:ext cx="2971800" cy="3048120"/>
            <a:chOff x="3429000" y="2286000"/>
            <a:chExt cx="2971800" cy="3048120"/>
          </a:xfrm>
        </p:grpSpPr>
        <p:grpSp>
          <p:nvGrpSpPr>
            <p:cNvPr id="2445" name=""/>
            <p:cNvGrpSpPr/>
            <p:nvPr/>
          </p:nvGrpSpPr>
          <p:grpSpPr>
            <a:xfrm>
              <a:off x="3429000" y="2286000"/>
              <a:ext cx="2971800" cy="3048120"/>
              <a:chOff x="3429000" y="2286000"/>
              <a:chExt cx="2971800" cy="3048120"/>
            </a:xfrm>
          </p:grpSpPr>
          <p:grpSp>
            <p:nvGrpSpPr>
              <p:cNvPr id="2446" name=""/>
              <p:cNvGrpSpPr/>
              <p:nvPr/>
            </p:nvGrpSpPr>
            <p:grpSpPr>
              <a:xfrm>
                <a:off x="3429000" y="2286000"/>
                <a:ext cx="2971800" cy="3048120"/>
                <a:chOff x="3429000" y="2286000"/>
                <a:chExt cx="2971800" cy="3048120"/>
              </a:xfrm>
            </p:grpSpPr>
            <p:grpSp>
              <p:nvGrpSpPr>
                <p:cNvPr id="2447" name=""/>
                <p:cNvGrpSpPr/>
                <p:nvPr/>
              </p:nvGrpSpPr>
              <p:grpSpPr>
                <a:xfrm>
                  <a:off x="3429000" y="2286000"/>
                  <a:ext cx="2971800" cy="3048120"/>
                  <a:chOff x="3429000" y="2286000"/>
                  <a:chExt cx="2971800" cy="3048120"/>
                </a:xfrm>
              </p:grpSpPr>
              <p:sp>
                <p:nvSpPr>
                  <p:cNvPr id="2448" name=""/>
                  <p:cNvSpPr/>
                  <p:nvPr/>
                </p:nvSpPr>
                <p:spPr>
                  <a:xfrm>
                    <a:off x="3429000" y="2286000"/>
                    <a:ext cx="2971800" cy="3048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>
                    <a:off x="3810240" y="2666880"/>
                    <a:ext cx="2209680" cy="2286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 flipH="1">
                    <a:off x="5410080" y="27432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1" name=""/>
                  <p:cNvSpPr/>
                  <p:nvPr/>
                </p:nvSpPr>
                <p:spPr>
                  <a:xfrm>
                    <a:off x="4191120" y="30481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2" name=""/>
                <p:cNvSpPr/>
                <p:nvPr/>
              </p:nvSpPr>
              <p:spPr>
                <a:xfrm flipH="1" flipV="1">
                  <a:off x="3886200" y="274320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flipH="1">
                  <a:off x="380988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541044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5257800" y="3809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 flipH="1">
                  <a:off x="3504960" y="380988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4876920" y="2286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4876920" y="419112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9" name=""/>
              <p:cNvSpPr/>
              <p:nvPr/>
            </p:nvSpPr>
            <p:spPr>
              <a:xfrm>
                <a:off x="4572000" y="342900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0" name=""/>
            <p:cNvSpPr/>
            <p:nvPr/>
          </p:nvSpPr>
          <p:spPr>
            <a:xfrm flipH="1" flipV="1">
              <a:off x="3580920" y="32000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358092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H="1">
              <a:off x="4267080" y="4876920"/>
              <a:ext cx="152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334120" y="48769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94360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5943600" y="32000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V="1">
              <a:off x="5334120" y="24379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343400" y="24382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8" name=""/>
          <p:cNvSpPr/>
          <p:nvPr/>
        </p:nvSpPr>
        <p:spPr>
          <a:xfrm>
            <a:off x="3962520" y="4038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( P(A,B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 flipH="1" rot="5505000">
            <a:off x="3408480" y="2424600"/>
            <a:ext cx="2894760" cy="289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39" y="50"/>
                </a:moveTo>
                <a:arcTo wR="10800" hR="10800" stAng="-5068691" swAng="5068691"/>
                <a:lnTo>
                  <a:pt x="10800" y="10800"/>
                </a:lnTo>
                <a:close/>
              </a:path>
              <a:path fill="none" w="21600" h="21600">
                <a:moveTo>
                  <a:pt x="11839" y="50"/>
                </a:moveTo>
                <a:arcTo wR="10800" hR="10800" stAng="-5068691" swAng="5068691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5486400" y="4038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1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38098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2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502920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H="1" rot="10946400">
            <a:off x="3505320" y="2351160"/>
            <a:ext cx="2894400" cy="273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11" y="2567"/>
                </a:moveTo>
                <a:arcTo wR="10800" hR="10800" stAng="-7819675" swAng="13498976"/>
                <a:lnTo>
                  <a:pt x="10800" y="10800"/>
                </a:lnTo>
                <a:close/>
              </a:path>
              <a:path fill="none" w="21600" h="21600">
                <a:moveTo>
                  <a:pt x="3811" y="2567"/>
                </a:moveTo>
                <a:arcTo wR="10800" hR="10800" stAng="-7819675" swAng="13498976"/>
              </a:path>
            </a:pathLst>
          </a:custGeom>
          <a:noFill/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 flipH="1" rot="12600">
            <a:off x="3467520" y="2520360"/>
            <a:ext cx="2894760" cy="273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71" y="2197"/>
                </a:moveTo>
                <a:arcTo wR="10800" hR="10800" stAng="-7631781" swAng="12889329"/>
                <a:lnTo>
                  <a:pt x="10800" y="10800"/>
                </a:lnTo>
                <a:close/>
              </a:path>
              <a:path fill="none" w="21600" h="21600">
                <a:moveTo>
                  <a:pt x="4271" y="2197"/>
                </a:moveTo>
                <a:arcTo wR="10800" hR="10800" stAng="-7631781" swAng="12889329"/>
              </a:path>
            </a:pathLst>
          </a:cu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981360" y="99072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6" name=""/>
          <p:cNvGrpSpPr/>
          <p:nvPr/>
        </p:nvGrpSpPr>
        <p:grpSpPr>
          <a:xfrm>
            <a:off x="3429000" y="2286000"/>
            <a:ext cx="2971800" cy="3048120"/>
            <a:chOff x="3429000" y="2286000"/>
            <a:chExt cx="2971800" cy="3048120"/>
          </a:xfrm>
        </p:grpSpPr>
        <p:grpSp>
          <p:nvGrpSpPr>
            <p:cNvPr id="2477" name=""/>
            <p:cNvGrpSpPr/>
            <p:nvPr/>
          </p:nvGrpSpPr>
          <p:grpSpPr>
            <a:xfrm>
              <a:off x="3429000" y="2286000"/>
              <a:ext cx="2971800" cy="3048120"/>
              <a:chOff x="3429000" y="2286000"/>
              <a:chExt cx="2971800" cy="3048120"/>
            </a:xfrm>
          </p:grpSpPr>
          <p:grpSp>
            <p:nvGrpSpPr>
              <p:cNvPr id="2478" name=""/>
              <p:cNvGrpSpPr/>
              <p:nvPr/>
            </p:nvGrpSpPr>
            <p:grpSpPr>
              <a:xfrm>
                <a:off x="3429000" y="2286000"/>
                <a:ext cx="2971800" cy="3048120"/>
                <a:chOff x="3429000" y="2286000"/>
                <a:chExt cx="2971800" cy="3048120"/>
              </a:xfrm>
            </p:grpSpPr>
            <p:grpSp>
              <p:nvGrpSpPr>
                <p:cNvPr id="2479" name=""/>
                <p:cNvGrpSpPr/>
                <p:nvPr/>
              </p:nvGrpSpPr>
              <p:grpSpPr>
                <a:xfrm>
                  <a:off x="3429000" y="2286000"/>
                  <a:ext cx="2971800" cy="3048120"/>
                  <a:chOff x="3429000" y="2286000"/>
                  <a:chExt cx="2971800" cy="3048120"/>
                </a:xfrm>
              </p:grpSpPr>
              <p:sp>
                <p:nvSpPr>
                  <p:cNvPr id="2480" name=""/>
                  <p:cNvSpPr/>
                  <p:nvPr/>
                </p:nvSpPr>
                <p:spPr>
                  <a:xfrm>
                    <a:off x="3429000" y="2286000"/>
                    <a:ext cx="2971800" cy="3048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>
                    <a:off x="3810240" y="2666880"/>
                    <a:ext cx="2209680" cy="2286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 flipH="1">
                    <a:off x="5410080" y="27432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>
                    <a:off x="4191120" y="30481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4" name=""/>
                <p:cNvSpPr/>
                <p:nvPr/>
              </p:nvSpPr>
              <p:spPr>
                <a:xfrm flipH="1" flipV="1">
                  <a:off x="3886200" y="274320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flipH="1">
                  <a:off x="380988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541044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5257800" y="3809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 flipH="1">
                  <a:off x="3504960" y="380988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4876920" y="2286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4876920" y="419112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1" name=""/>
              <p:cNvSpPr/>
              <p:nvPr/>
            </p:nvSpPr>
            <p:spPr>
              <a:xfrm>
                <a:off x="4572000" y="342900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2" name=""/>
            <p:cNvSpPr/>
            <p:nvPr/>
          </p:nvSpPr>
          <p:spPr>
            <a:xfrm flipH="1" flipV="1">
              <a:off x="3580920" y="32000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H="1">
              <a:off x="358092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>
              <a:off x="4267080" y="4876920"/>
              <a:ext cx="152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334120" y="48769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94360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5943600" y="32000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V="1">
              <a:off x="5334120" y="24379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343400" y="24382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0" name=""/>
          <p:cNvSpPr/>
          <p:nvPr/>
        </p:nvSpPr>
        <p:spPr>
          <a:xfrm>
            <a:off x="3962520" y="4038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( P(A,B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 flipH="1" rot="5505000">
            <a:off x="3408480" y="2424600"/>
            <a:ext cx="2894760" cy="289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39" y="50"/>
                </a:moveTo>
                <a:arcTo wR="10800" hR="10800" stAng="-5068691" swAng="5068691"/>
                <a:lnTo>
                  <a:pt x="10800" y="10800"/>
                </a:lnTo>
                <a:close/>
              </a:path>
              <a:path fill="none" w="21600" h="21600">
                <a:moveTo>
                  <a:pt x="11839" y="50"/>
                </a:moveTo>
                <a:arcTo wR="10800" hR="10800" stAng="-5068691" swAng="5068691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5486400" y="4038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1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5029200" y="4495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3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38098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2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502920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 flipH="1" rot="10946400">
            <a:off x="3505320" y="2351160"/>
            <a:ext cx="2894400" cy="273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11" y="2567"/>
                </a:moveTo>
                <a:arcTo wR="10800" hR="10800" stAng="-7819675" swAng="13498976"/>
                <a:lnTo>
                  <a:pt x="10800" y="10800"/>
                </a:lnTo>
                <a:close/>
              </a:path>
              <a:path fill="none" w="21600" h="21600">
                <a:moveTo>
                  <a:pt x="3811" y="2567"/>
                </a:moveTo>
                <a:arcTo wR="10800" hR="10800" stAng="-7819675" swAng="13498976"/>
              </a:path>
            </a:pathLst>
          </a:custGeom>
          <a:noFill/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 flipH="1" rot="12600">
            <a:off x="3467520" y="2520360"/>
            <a:ext cx="2894760" cy="273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71" y="2197"/>
                </a:moveTo>
                <a:arcTo wR="10800" hR="10800" stAng="-7631781" swAng="12889329"/>
                <a:lnTo>
                  <a:pt x="10800" y="10800"/>
                </a:lnTo>
                <a:close/>
              </a:path>
              <a:path fill="none" w="21600" h="21600">
                <a:moveTo>
                  <a:pt x="4271" y="2197"/>
                </a:moveTo>
                <a:arcTo wR="10800" hR="10800" stAng="-7631781" swAng="12889329"/>
              </a:path>
            </a:pathLst>
          </a:cu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 flipH="1" rot="2817000">
            <a:off x="3544920" y="2439000"/>
            <a:ext cx="2894760" cy="273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71" y="2197"/>
                </a:moveTo>
                <a:arcTo wR="10800" hR="10800" stAng="-7631781" swAng="12889329"/>
                <a:lnTo>
                  <a:pt x="10800" y="10800"/>
                </a:lnTo>
                <a:close/>
              </a:path>
              <a:path fill="none" w="21600" h="21600">
                <a:moveTo>
                  <a:pt x="4271" y="2197"/>
                </a:moveTo>
                <a:arcTo wR="10800" hR="10800" stAng="-7631781" swAng="12889329"/>
              </a:path>
            </a:pathLst>
          </a:cu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981360" y="99072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0" name=""/>
          <p:cNvGrpSpPr/>
          <p:nvPr/>
        </p:nvGrpSpPr>
        <p:grpSpPr>
          <a:xfrm>
            <a:off x="3429000" y="2286000"/>
            <a:ext cx="2971800" cy="3048120"/>
            <a:chOff x="3429000" y="2286000"/>
            <a:chExt cx="2971800" cy="3048120"/>
          </a:xfrm>
        </p:grpSpPr>
        <p:grpSp>
          <p:nvGrpSpPr>
            <p:cNvPr id="2511" name=""/>
            <p:cNvGrpSpPr/>
            <p:nvPr/>
          </p:nvGrpSpPr>
          <p:grpSpPr>
            <a:xfrm>
              <a:off x="3429000" y="2286000"/>
              <a:ext cx="2971800" cy="3048120"/>
              <a:chOff x="3429000" y="2286000"/>
              <a:chExt cx="2971800" cy="3048120"/>
            </a:xfrm>
          </p:grpSpPr>
          <p:grpSp>
            <p:nvGrpSpPr>
              <p:cNvPr id="2512" name=""/>
              <p:cNvGrpSpPr/>
              <p:nvPr/>
            </p:nvGrpSpPr>
            <p:grpSpPr>
              <a:xfrm>
                <a:off x="3429000" y="2286000"/>
                <a:ext cx="2971800" cy="3048120"/>
                <a:chOff x="3429000" y="2286000"/>
                <a:chExt cx="2971800" cy="3048120"/>
              </a:xfrm>
            </p:grpSpPr>
            <p:grpSp>
              <p:nvGrpSpPr>
                <p:cNvPr id="2513" name=""/>
                <p:cNvGrpSpPr/>
                <p:nvPr/>
              </p:nvGrpSpPr>
              <p:grpSpPr>
                <a:xfrm>
                  <a:off x="3429000" y="2286000"/>
                  <a:ext cx="2971800" cy="3048120"/>
                  <a:chOff x="3429000" y="2286000"/>
                  <a:chExt cx="2971800" cy="3048120"/>
                </a:xfrm>
              </p:grpSpPr>
              <p:sp>
                <p:nvSpPr>
                  <p:cNvPr id="2514" name=""/>
                  <p:cNvSpPr/>
                  <p:nvPr/>
                </p:nvSpPr>
                <p:spPr>
                  <a:xfrm>
                    <a:off x="3429000" y="2286000"/>
                    <a:ext cx="2971800" cy="3048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>
                    <a:off x="3810240" y="2666880"/>
                    <a:ext cx="2209680" cy="2286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 flipH="1">
                    <a:off x="5410080" y="27432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"/>
                  <p:cNvSpPr/>
                  <p:nvPr/>
                </p:nvSpPr>
                <p:spPr>
                  <a:xfrm>
                    <a:off x="4191120" y="30481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8" name=""/>
                <p:cNvSpPr/>
                <p:nvPr/>
              </p:nvSpPr>
              <p:spPr>
                <a:xfrm flipH="1" flipV="1">
                  <a:off x="3886200" y="274320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flipH="1">
                  <a:off x="380988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541044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5257800" y="3809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 flipH="1">
                  <a:off x="3504960" y="380988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4876920" y="2286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4876920" y="419112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5" name=""/>
              <p:cNvSpPr/>
              <p:nvPr/>
            </p:nvSpPr>
            <p:spPr>
              <a:xfrm>
                <a:off x="4572000" y="342900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6" name=""/>
            <p:cNvSpPr/>
            <p:nvPr/>
          </p:nvSpPr>
          <p:spPr>
            <a:xfrm flipH="1" flipV="1">
              <a:off x="3580920" y="32000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H="1">
              <a:off x="358092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H="1">
              <a:off x="4267080" y="4876920"/>
              <a:ext cx="152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334120" y="48769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94360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V="1">
              <a:off x="5943600" y="32000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V="1">
              <a:off x="5334120" y="24379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4343400" y="24382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4" name=""/>
          <p:cNvSpPr/>
          <p:nvPr/>
        </p:nvSpPr>
        <p:spPr>
          <a:xfrm>
            <a:off x="3962520" y="4038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( P(A,B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 flipH="1" rot="5505000">
            <a:off x="3408480" y="2423520"/>
            <a:ext cx="2894760" cy="28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030" y="3807"/>
                </a:moveTo>
                <a:arcTo wR="10800" hR="10800" stAng="-2421215" swAng="2421215"/>
                <a:lnTo>
                  <a:pt x="10800" y="10800"/>
                </a:lnTo>
                <a:close/>
              </a:path>
              <a:path fill="none" w="21600" h="21600">
                <a:moveTo>
                  <a:pt x="19030" y="3807"/>
                </a:moveTo>
                <a:arcTo wR="10800" hR="10800" stAng="-2421215" swAng="2421215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5486400" y="4038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1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5029200" y="4495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3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8098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2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502920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981360" y="99072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1" name=""/>
          <p:cNvGrpSpPr/>
          <p:nvPr/>
        </p:nvGrpSpPr>
        <p:grpSpPr>
          <a:xfrm>
            <a:off x="3429000" y="2286000"/>
            <a:ext cx="2971800" cy="3048120"/>
            <a:chOff x="3429000" y="2286000"/>
            <a:chExt cx="2971800" cy="3048120"/>
          </a:xfrm>
        </p:grpSpPr>
        <p:grpSp>
          <p:nvGrpSpPr>
            <p:cNvPr id="2542" name=""/>
            <p:cNvGrpSpPr/>
            <p:nvPr/>
          </p:nvGrpSpPr>
          <p:grpSpPr>
            <a:xfrm>
              <a:off x="3429000" y="2286000"/>
              <a:ext cx="2971800" cy="3048120"/>
              <a:chOff x="3429000" y="2286000"/>
              <a:chExt cx="2971800" cy="3048120"/>
            </a:xfrm>
          </p:grpSpPr>
          <p:grpSp>
            <p:nvGrpSpPr>
              <p:cNvPr id="2543" name=""/>
              <p:cNvGrpSpPr/>
              <p:nvPr/>
            </p:nvGrpSpPr>
            <p:grpSpPr>
              <a:xfrm>
                <a:off x="3429000" y="2286000"/>
                <a:ext cx="2971800" cy="3048120"/>
                <a:chOff x="3429000" y="2286000"/>
                <a:chExt cx="2971800" cy="3048120"/>
              </a:xfrm>
            </p:grpSpPr>
            <p:grpSp>
              <p:nvGrpSpPr>
                <p:cNvPr id="2544" name=""/>
                <p:cNvGrpSpPr/>
                <p:nvPr/>
              </p:nvGrpSpPr>
              <p:grpSpPr>
                <a:xfrm>
                  <a:off x="3429000" y="2286000"/>
                  <a:ext cx="2971800" cy="3048120"/>
                  <a:chOff x="3429000" y="2286000"/>
                  <a:chExt cx="2971800" cy="3048120"/>
                </a:xfrm>
              </p:grpSpPr>
              <p:sp>
                <p:nvSpPr>
                  <p:cNvPr id="2545" name=""/>
                  <p:cNvSpPr/>
                  <p:nvPr/>
                </p:nvSpPr>
                <p:spPr>
                  <a:xfrm>
                    <a:off x="3429000" y="2286000"/>
                    <a:ext cx="2971800" cy="3048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>
                    <a:off x="3810240" y="2666880"/>
                    <a:ext cx="2209680" cy="2286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 flipH="1">
                    <a:off x="5410080" y="27432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4191120" y="30481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9" name=""/>
                <p:cNvSpPr/>
                <p:nvPr/>
              </p:nvSpPr>
              <p:spPr>
                <a:xfrm flipH="1" flipV="1">
                  <a:off x="3886200" y="274320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flipH="1">
                  <a:off x="380988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541044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5257800" y="3809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flipH="1">
                  <a:off x="3504960" y="380988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4876920" y="2286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4876920" y="419112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6" name=""/>
              <p:cNvSpPr/>
              <p:nvPr/>
            </p:nvSpPr>
            <p:spPr>
              <a:xfrm>
                <a:off x="4572000" y="342900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7" name=""/>
            <p:cNvSpPr/>
            <p:nvPr/>
          </p:nvSpPr>
          <p:spPr>
            <a:xfrm flipH="1" flipV="1">
              <a:off x="3580920" y="32000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H="1">
              <a:off x="358092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>
              <a:off x="4267080" y="4876920"/>
              <a:ext cx="152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334120" y="48769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94360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943600" y="32000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5334120" y="24379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343400" y="24382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5" name=""/>
          <p:cNvSpPr/>
          <p:nvPr/>
        </p:nvSpPr>
        <p:spPr>
          <a:xfrm flipH="1" rot="5505000">
            <a:off x="3409920" y="2426040"/>
            <a:ext cx="2895480" cy="289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47" y="7102"/>
                </a:moveTo>
                <a:arcTo wR="10800" hR="10800" stAng="-1201254" swAng="1201254"/>
                <a:lnTo>
                  <a:pt x="10800" y="10800"/>
                </a:lnTo>
                <a:close/>
              </a:path>
              <a:path fill="none" w="21600" h="21600">
                <a:moveTo>
                  <a:pt x="20947" y="7102"/>
                </a:moveTo>
                <a:arcTo wR="10800" hR="10800" stAng="-1201254" swAng="1201254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5791320" y="29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1(C2(B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5791320" y="3429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3(C3(B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3733920" y="2590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2(C2(B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502920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4876920" y="23623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3962520" y="4038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( P(A,B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5486400" y="4038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1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5029200" y="4495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3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38098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2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981360" y="99072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6" name=""/>
          <p:cNvGrpSpPr/>
          <p:nvPr/>
        </p:nvGrpSpPr>
        <p:grpSpPr>
          <a:xfrm>
            <a:off x="3429000" y="2286000"/>
            <a:ext cx="2971800" cy="3048120"/>
            <a:chOff x="3429000" y="2286000"/>
            <a:chExt cx="2971800" cy="3048120"/>
          </a:xfrm>
        </p:grpSpPr>
        <p:grpSp>
          <p:nvGrpSpPr>
            <p:cNvPr id="2577" name=""/>
            <p:cNvGrpSpPr/>
            <p:nvPr/>
          </p:nvGrpSpPr>
          <p:grpSpPr>
            <a:xfrm>
              <a:off x="3429000" y="2286000"/>
              <a:ext cx="2971800" cy="3048120"/>
              <a:chOff x="3429000" y="2286000"/>
              <a:chExt cx="2971800" cy="3048120"/>
            </a:xfrm>
          </p:grpSpPr>
          <p:grpSp>
            <p:nvGrpSpPr>
              <p:cNvPr id="2578" name=""/>
              <p:cNvGrpSpPr/>
              <p:nvPr/>
            </p:nvGrpSpPr>
            <p:grpSpPr>
              <a:xfrm>
                <a:off x="3429000" y="2286000"/>
                <a:ext cx="2971800" cy="3048120"/>
                <a:chOff x="3429000" y="2286000"/>
                <a:chExt cx="2971800" cy="3048120"/>
              </a:xfrm>
            </p:grpSpPr>
            <p:grpSp>
              <p:nvGrpSpPr>
                <p:cNvPr id="2579" name=""/>
                <p:cNvGrpSpPr/>
                <p:nvPr/>
              </p:nvGrpSpPr>
              <p:grpSpPr>
                <a:xfrm>
                  <a:off x="3429000" y="2286000"/>
                  <a:ext cx="2971800" cy="3048120"/>
                  <a:chOff x="3429000" y="2286000"/>
                  <a:chExt cx="2971800" cy="3048120"/>
                </a:xfrm>
              </p:grpSpPr>
              <p:sp>
                <p:nvSpPr>
                  <p:cNvPr id="2580" name=""/>
                  <p:cNvSpPr/>
                  <p:nvPr/>
                </p:nvSpPr>
                <p:spPr>
                  <a:xfrm>
                    <a:off x="3429000" y="2286000"/>
                    <a:ext cx="2971800" cy="3048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>
                    <a:off x="3810240" y="2666880"/>
                    <a:ext cx="2209680" cy="2286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 flipH="1">
                    <a:off x="5410080" y="27432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4191120" y="30481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4" name=""/>
                <p:cNvSpPr/>
                <p:nvPr/>
              </p:nvSpPr>
              <p:spPr>
                <a:xfrm flipH="1" flipV="1">
                  <a:off x="3886200" y="274320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 flipH="1">
                  <a:off x="380988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541044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5257800" y="3809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flipH="1">
                  <a:off x="3504960" y="380988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4876920" y="2286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4876920" y="419112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1" name=""/>
              <p:cNvSpPr/>
              <p:nvPr/>
            </p:nvSpPr>
            <p:spPr>
              <a:xfrm>
                <a:off x="4572000" y="342900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2" name=""/>
            <p:cNvSpPr/>
            <p:nvPr/>
          </p:nvSpPr>
          <p:spPr>
            <a:xfrm flipH="1" flipV="1">
              <a:off x="3580920" y="32000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H="1">
              <a:off x="358092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H="1">
              <a:off x="4267080" y="4876920"/>
              <a:ext cx="152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334120" y="48769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94360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5943600" y="32000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5334120" y="24379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343400" y="24382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0" name=""/>
          <p:cNvSpPr/>
          <p:nvPr/>
        </p:nvSpPr>
        <p:spPr>
          <a:xfrm flipH="1" rot="5505000">
            <a:off x="3408480" y="2424960"/>
            <a:ext cx="289548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01" y="6976"/>
                </a:moveTo>
                <a:arcTo wR="10800" hR="10800" stAng="-1244050" swAng="1244050"/>
                <a:lnTo>
                  <a:pt x="10800" y="10800"/>
                </a:lnTo>
                <a:close/>
              </a:path>
              <a:path fill="none" w="21600" h="21600">
                <a:moveTo>
                  <a:pt x="20901" y="6976"/>
                </a:moveTo>
                <a:arcTo wR="10800" hR="10800" stAng="-1244050" swAng="1244050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502920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334120" y="25146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4114800" y="23623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(C2(B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 flipH="1" rot="5505000">
            <a:off x="3427560" y="2505960"/>
            <a:ext cx="289548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01" y="6976"/>
                </a:moveTo>
                <a:arcTo wR="10800" hR="10800" stAng="-1244050" swAng="1244050"/>
                <a:lnTo>
                  <a:pt x="10800" y="10800"/>
                </a:lnTo>
                <a:close/>
              </a:path>
              <a:path fill="none" w="21600" h="21600">
                <a:moveTo>
                  <a:pt x="20901" y="6976"/>
                </a:moveTo>
                <a:arcTo wR="10800" hR="10800" stAng="-1244050" swAng="1244050"/>
              </a:path>
            </a:pathLst>
          </a:custGeom>
          <a:noFill/>
          <a:ln w="7632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4876920" y="23623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981360" y="99072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7" name=""/>
          <p:cNvGrpSpPr/>
          <p:nvPr/>
        </p:nvGrpSpPr>
        <p:grpSpPr>
          <a:xfrm>
            <a:off x="3429000" y="2286000"/>
            <a:ext cx="2971800" cy="3048120"/>
            <a:chOff x="3429000" y="2286000"/>
            <a:chExt cx="2971800" cy="3048120"/>
          </a:xfrm>
        </p:grpSpPr>
        <p:grpSp>
          <p:nvGrpSpPr>
            <p:cNvPr id="2608" name=""/>
            <p:cNvGrpSpPr/>
            <p:nvPr/>
          </p:nvGrpSpPr>
          <p:grpSpPr>
            <a:xfrm>
              <a:off x="3429000" y="2286000"/>
              <a:ext cx="2971800" cy="3048120"/>
              <a:chOff x="3429000" y="2286000"/>
              <a:chExt cx="2971800" cy="3048120"/>
            </a:xfrm>
          </p:grpSpPr>
          <p:grpSp>
            <p:nvGrpSpPr>
              <p:cNvPr id="2609" name=""/>
              <p:cNvGrpSpPr/>
              <p:nvPr/>
            </p:nvGrpSpPr>
            <p:grpSpPr>
              <a:xfrm>
                <a:off x="3429000" y="2286000"/>
                <a:ext cx="2971800" cy="3048120"/>
                <a:chOff x="3429000" y="2286000"/>
                <a:chExt cx="2971800" cy="3048120"/>
              </a:xfrm>
            </p:grpSpPr>
            <p:grpSp>
              <p:nvGrpSpPr>
                <p:cNvPr id="2610" name=""/>
                <p:cNvGrpSpPr/>
                <p:nvPr/>
              </p:nvGrpSpPr>
              <p:grpSpPr>
                <a:xfrm>
                  <a:off x="3429000" y="2286000"/>
                  <a:ext cx="2971800" cy="3048120"/>
                  <a:chOff x="3429000" y="2286000"/>
                  <a:chExt cx="2971800" cy="3048120"/>
                </a:xfrm>
              </p:grpSpPr>
              <p:sp>
                <p:nvSpPr>
                  <p:cNvPr id="2611" name=""/>
                  <p:cNvSpPr/>
                  <p:nvPr/>
                </p:nvSpPr>
                <p:spPr>
                  <a:xfrm>
                    <a:off x="3429000" y="2286000"/>
                    <a:ext cx="2971800" cy="3048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3810240" y="2666880"/>
                    <a:ext cx="2209680" cy="2286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 flipH="1">
                    <a:off x="5410080" y="2743200"/>
                    <a:ext cx="53316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4191120" y="30481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5" name=""/>
                <p:cNvSpPr/>
                <p:nvPr/>
              </p:nvSpPr>
              <p:spPr>
                <a:xfrm flipH="1" flipV="1">
                  <a:off x="3886200" y="274320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flipH="1">
                  <a:off x="380988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5410440" y="4343400"/>
                  <a:ext cx="53316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5257800" y="3809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flipH="1">
                  <a:off x="3504960" y="380988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4876920" y="2286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4876920" y="419112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2" name=""/>
              <p:cNvSpPr/>
              <p:nvPr/>
            </p:nvSpPr>
            <p:spPr>
              <a:xfrm>
                <a:off x="4572000" y="342900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3" name=""/>
            <p:cNvSpPr/>
            <p:nvPr/>
          </p:nvSpPr>
          <p:spPr>
            <a:xfrm flipH="1" flipV="1">
              <a:off x="3580920" y="32000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H="1">
              <a:off x="358092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H="1">
              <a:off x="4267080" y="4876920"/>
              <a:ext cx="152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334120" y="48769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943600" y="42670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V="1">
              <a:off x="5943600" y="32000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V="1">
              <a:off x="5334120" y="24379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343400" y="24382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1" name=""/>
          <p:cNvSpPr/>
          <p:nvPr/>
        </p:nvSpPr>
        <p:spPr>
          <a:xfrm flipH="1" rot="5505000">
            <a:off x="3408480" y="2424960"/>
            <a:ext cx="289548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01" y="6976"/>
                </a:moveTo>
                <a:arcTo wR="10800" hR="10800" stAng="-1244050" swAng="1244050"/>
                <a:lnTo>
                  <a:pt x="10800" y="10800"/>
                </a:lnTo>
                <a:close/>
              </a:path>
              <a:path fill="none" w="21600" h="21600">
                <a:moveTo>
                  <a:pt x="20901" y="6976"/>
                </a:moveTo>
                <a:arcTo wR="10800" hR="10800" stAng="-1244050" swAng="1244050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502920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4876920" y="23623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981360" y="99072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st Multipol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formance in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ithmetic Complexity: (step 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Complexity: (step 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2286000" y="2590920"/>
                <a:ext cx="35053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2316240" y="4370400"/>
                <a:ext cx="375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9" name=""/>
          <p:cNvSpPr/>
          <p:nvPr/>
        </p:nvSpPr>
        <p:spPr>
          <a:xfrm>
            <a:off x="4800600" y="3276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: # interpolation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5105520" y="5181480"/>
                <a:ext cx="14745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h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stions we ha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D cost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munication co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does the algo2 reduce the communication cost?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p-1)m*MPI_Redu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our understanding on algo3 righ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stions you hav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600200" y="3352680"/>
                <a:ext cx="6781680" cy="222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W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F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 Matrix-Vector Algorith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FF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-step fram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t Multipol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Matrix-Vector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Fn as     blocks with size m = n/p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ote the top left m*m submatrix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447920" y="3429000"/>
                <a:ext cx="739116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:</m:t>
                              </m:r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m</m:t>
                              </m:r>
                              <m:r>
                                <m:t xml:space="preserve">:</m:t>
                              </m:r>
                              <m:r>
                                <m:t xml:space="preserve">2</m:t>
                              </m:r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  <m:r>
                                <m:t xml:space="preserve">: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p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p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p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p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p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p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p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:</m:t>
                              </m:r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m</m:t>
                              </m:r>
                              <m:r>
                                <m:t xml:space="preserve">:</m:t>
                              </m:r>
                              <m:r>
                                <m:t xml:space="preserve">2</m:t>
                              </m:r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  <m:r>
                                <m:t xml:space="preserve">: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5867280"/>
                <a:ext cx="3886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a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η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019920" y="5943600"/>
                <a:ext cx="2286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i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073320" y="2028960"/>
                <a:ext cx="474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47920" y="2638440"/>
                <a:ext cx="5331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238880" y="2506680"/>
                <a:ext cx="806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959520" y="2057400"/>
                <a:ext cx="474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duce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ular-value decomposition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significant singular values of F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|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symptotically only m/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compression to reduce commun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the first k row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 = m/p + O(log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838760" y="5105520"/>
                <a:ext cx="395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19520" y="2666880"/>
                <a:ext cx="21970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/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629400" y="2011320"/>
                <a:ext cx="6094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ompute the matric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371600" y="2438280"/>
                <a:ext cx="28558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/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71600" y="3505320"/>
                <a:ext cx="25272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/>
                        </m:sSup>
                      </m:e>
                    </m:nary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724280" y="3486240"/>
                <a:ext cx="2571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r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428840" y="4457880"/>
                <a:ext cx="22860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800600" y="4495680"/>
                <a:ext cx="2571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r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1371600" y="56386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ompute matrices        (k*m) and       (m*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535800" y="5621400"/>
                <a:ext cx="590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406760" y="5581800"/>
                <a:ext cx="6098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1:39:29Z</dcterms:created>
  <dc:creator>NUS</dc:creator>
  <dc:description/>
  <dc:language>en-US</dc:language>
  <cp:lastModifiedBy>NUS</cp:lastModifiedBy>
  <dcterms:modified xsi:type="dcterms:W3CDTF">2002-05-21T14:54:15Z</dcterms:modified>
  <cp:revision>137</cp:revision>
  <dc:subject/>
  <dc:title>PowerPoint Presentation</dc:title>
</cp:coreProperties>
</file>