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0063" cy="9748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F389-3516-46CB-9DDC-63337DF6C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82AA-CF18-4733-93AD-2507683FB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5F34-7B11-4DD5-B7D4-66A8821B9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466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937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838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466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937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FA16-C90D-4CFF-A5C8-FC27779E7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145C7-621D-418A-9018-E0FB17A9F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86C07-E59D-4A1E-A10B-48E13D748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7D304-2F2D-4FBA-88CD-55ED427B5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38BA6-57E7-4227-90CC-CDD83AB40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AD02B-F9A0-4891-9F49-948C4803E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838080" y="34272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4615E-11B6-4C6C-BF93-734C50D86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73B02-1BC6-46AA-8964-979EFD49C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6308-C4FE-4F88-9509-EC7A9FD4A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6AD7F-2869-4602-93F6-6E0BA2AA5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F1A0F-B57D-4371-9255-BD6F17D0F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1B193-ED80-4A0E-9FDA-6AE067C13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6F232-CA4A-4E82-9D63-30382A3CF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466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937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838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466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937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E23E3-FE79-4B97-BD05-15785D715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E9C3-CDEB-40F3-9DD1-56220F6E0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EFBE-E9BA-4232-A936-6C89C635E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A465-FBB6-4212-A987-5B857B601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838080" y="34272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B64C-131A-4A44-8BB0-DC1A1BAD6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6C0F-F714-47D9-BE4F-51B139D0B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CB3B-2146-4D6C-83FF-4A3752C59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A083-9B22-463B-B079-C5F51224F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880" y="304920"/>
            <a:ext cx="8383680" cy="6022800"/>
            <a:chOff x="380880" y="304920"/>
            <a:chExt cx="8383680" cy="6022800"/>
          </a:xfrm>
        </p:grpSpPr>
        <p:grpSp>
          <p:nvGrpSpPr>
            <p:cNvPr id="1" name=""/>
            <p:cNvGrpSpPr/>
            <p:nvPr/>
          </p:nvGrpSpPr>
          <p:grpSpPr>
            <a:xfrm>
              <a:off x="380880" y="1600200"/>
              <a:ext cx="8383680" cy="4727520"/>
              <a:chOff x="380880" y="1600200"/>
              <a:chExt cx="8383680" cy="4727520"/>
            </a:xfrm>
          </p:grpSpPr>
          <p:sp>
            <p:nvSpPr>
              <p:cNvPr id="2" name=""/>
              <p:cNvSpPr/>
              <p:nvPr/>
            </p:nvSpPr>
            <p:spPr>
              <a:xfrm>
                <a:off x="388800" y="1603440"/>
                <a:ext cx="8364600" cy="472428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380880" y="1600200"/>
                <a:ext cx="8364600" cy="4726080"/>
              </a:xfrm>
              <a:custGeom>
                <a:avLst/>
                <a:gdLst/>
                <a:ahLst/>
                <a:rect l="l" t="t" r="r" b="b"/>
                <a:pathLst>
                  <a:path w="5269" h="2977">
                    <a:moveTo>
                      <a:pt x="5268" y="0"/>
                    </a:moveTo>
                    <a:lnTo>
                      <a:pt x="0" y="0"/>
                    </a:lnTo>
                    <a:lnTo>
                      <a:pt x="0" y="2976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99960" y="1600200"/>
                <a:ext cx="8364600" cy="4726080"/>
              </a:xfrm>
              <a:custGeom>
                <a:avLst/>
                <a:gdLst/>
                <a:ahLst/>
                <a:rect l="l" t="t" r="r" b="b"/>
                <a:pathLst>
                  <a:path w="5269" h="2977">
                    <a:moveTo>
                      <a:pt x="5268" y="0"/>
                    </a:moveTo>
                    <a:lnTo>
                      <a:pt x="5268" y="2976"/>
                    </a:lnTo>
                    <a:lnTo>
                      <a:pt x="0" y="2976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" name=""/>
            <p:cNvGrpSpPr/>
            <p:nvPr/>
          </p:nvGrpSpPr>
          <p:grpSpPr>
            <a:xfrm>
              <a:off x="533520" y="1751040"/>
              <a:ext cx="153720" cy="4421160"/>
              <a:chOff x="533520" y="1751040"/>
              <a:chExt cx="153720" cy="4421160"/>
            </a:xfrm>
          </p:grpSpPr>
          <p:sp>
            <p:nvSpPr>
              <p:cNvPr id="6" name=""/>
              <p:cNvSpPr/>
              <p:nvPr/>
            </p:nvSpPr>
            <p:spPr>
              <a:xfrm>
                <a:off x="533520" y="1752480"/>
                <a:ext cx="152280" cy="441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520" y="1751040"/>
                <a:ext cx="153720" cy="4421160"/>
              </a:xfrm>
              <a:custGeom>
                <a:avLst/>
                <a:gdLst/>
                <a:ahLst/>
                <a:rect l="l" t="t" r="r" b="b"/>
                <a:pathLst>
                  <a:path w="97" h="2785">
                    <a:moveTo>
                      <a:pt x="0" y="2784"/>
                    </a:moveTo>
                    <a:lnTo>
                      <a:pt x="96" y="2784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33520" y="1751040"/>
                <a:ext cx="153720" cy="4421160"/>
              </a:xfrm>
              <a:custGeom>
                <a:avLst/>
                <a:gdLst/>
                <a:ahLst/>
                <a:rect l="l" t="t" r="r" b="b"/>
                <a:pathLst>
                  <a:path w="97" h="2785">
                    <a:moveTo>
                      <a:pt x="0" y="2784"/>
                    </a:moveTo>
                    <a:lnTo>
                      <a:pt x="0" y="0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" name=""/>
            <p:cNvGrpSpPr/>
            <p:nvPr/>
          </p:nvGrpSpPr>
          <p:grpSpPr>
            <a:xfrm>
              <a:off x="380880" y="304920"/>
              <a:ext cx="306360" cy="1144440"/>
              <a:chOff x="380880" y="304920"/>
              <a:chExt cx="306360" cy="1144440"/>
            </a:xfrm>
          </p:grpSpPr>
          <p:sp>
            <p:nvSpPr>
              <p:cNvPr id="10" name=""/>
              <p:cNvSpPr/>
              <p:nvPr/>
            </p:nvSpPr>
            <p:spPr>
              <a:xfrm>
                <a:off x="380880" y="304920"/>
                <a:ext cx="304920" cy="114300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80880" y="304920"/>
                <a:ext cx="306360" cy="1144440"/>
              </a:xfrm>
              <a:custGeom>
                <a:avLst/>
                <a:gdLst/>
                <a:ahLst/>
                <a:rect l="l" t="t" r="r" b="b"/>
                <a:pathLst>
                  <a:path w="193" h="721">
                    <a:moveTo>
                      <a:pt x="192" y="0"/>
                    </a:moveTo>
                    <a:lnTo>
                      <a:pt x="0" y="0"/>
                    </a:lnTo>
                    <a:lnTo>
                      <a:pt x="0" y="72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80" y="304920"/>
                <a:ext cx="306360" cy="1144440"/>
              </a:xfrm>
              <a:custGeom>
                <a:avLst/>
                <a:gdLst/>
                <a:ahLst/>
                <a:rect l="l" t="t" r="r" b="b"/>
                <a:pathLst>
                  <a:path w="193" h="721">
                    <a:moveTo>
                      <a:pt x="192" y="0"/>
                    </a:moveTo>
                    <a:lnTo>
                      <a:pt x="192" y="720"/>
                    </a:lnTo>
                    <a:lnTo>
                      <a:pt x="0" y="72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38088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8EAEC-F85A-46D8-97BE-837630E3D0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378000" y="1676520"/>
            <a:ext cx="8389800" cy="4421160"/>
            <a:chOff x="378000" y="1676520"/>
            <a:chExt cx="8389800" cy="4421160"/>
          </a:xfrm>
        </p:grpSpPr>
        <p:grpSp>
          <p:nvGrpSpPr>
            <p:cNvPr id="55" name=""/>
            <p:cNvGrpSpPr/>
            <p:nvPr/>
          </p:nvGrpSpPr>
          <p:grpSpPr>
            <a:xfrm>
              <a:off x="378000" y="1676520"/>
              <a:ext cx="8389800" cy="2211120"/>
              <a:chOff x="378000" y="1676520"/>
              <a:chExt cx="8389800" cy="2211120"/>
            </a:xfrm>
          </p:grpSpPr>
          <p:sp>
            <p:nvSpPr>
              <p:cNvPr id="56" name=""/>
              <p:cNvSpPr/>
              <p:nvPr/>
            </p:nvSpPr>
            <p:spPr>
              <a:xfrm>
                <a:off x="385920" y="1677960"/>
                <a:ext cx="8369280" cy="220824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378000" y="1676520"/>
                <a:ext cx="8370720" cy="2211120"/>
              </a:xfrm>
              <a:custGeom>
                <a:avLst/>
                <a:gdLst/>
                <a:ahLst/>
                <a:rect l="l" t="t" r="r" b="b"/>
                <a:pathLst>
                  <a:path w="5273" h="1393">
                    <a:moveTo>
                      <a:pt x="5272" y="0"/>
                    </a:moveTo>
                    <a:lnTo>
                      <a:pt x="0" y="0"/>
                    </a:lnTo>
                    <a:lnTo>
                      <a:pt x="0" y="1392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396720" y="1676520"/>
                <a:ext cx="8371080" cy="2211120"/>
              </a:xfrm>
              <a:custGeom>
                <a:avLst/>
                <a:gdLst/>
                <a:ahLst/>
                <a:rect l="l" t="t" r="r" b="b"/>
                <a:pathLst>
                  <a:path w="5273" h="1393">
                    <a:moveTo>
                      <a:pt x="5272" y="0"/>
                    </a:moveTo>
                    <a:lnTo>
                      <a:pt x="5272" y="1392"/>
                    </a:lnTo>
                    <a:lnTo>
                      <a:pt x="0" y="1392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" name=""/>
            <p:cNvGrpSpPr/>
            <p:nvPr/>
          </p:nvGrpSpPr>
          <p:grpSpPr>
            <a:xfrm>
              <a:off x="380880" y="5943600"/>
              <a:ext cx="8383680" cy="154080"/>
              <a:chOff x="380880" y="5943600"/>
              <a:chExt cx="8383680" cy="154080"/>
            </a:xfrm>
          </p:grpSpPr>
          <p:sp>
            <p:nvSpPr>
              <p:cNvPr id="60" name=""/>
              <p:cNvSpPr/>
              <p:nvPr/>
            </p:nvSpPr>
            <p:spPr>
              <a:xfrm>
                <a:off x="380880" y="5943600"/>
                <a:ext cx="8382240" cy="15228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80880" y="5943600"/>
                <a:ext cx="8383680" cy="154080"/>
              </a:xfrm>
              <a:custGeom>
                <a:avLst/>
                <a:gdLst/>
                <a:ahLst/>
                <a:rect l="l" t="t" r="r" b="b"/>
                <a:pathLst>
                  <a:path w="5281" h="97">
                    <a:moveTo>
                      <a:pt x="5280" y="0"/>
                    </a:moveTo>
                    <a:lnTo>
                      <a:pt x="0" y="0"/>
                    </a:lnTo>
                    <a:lnTo>
                      <a:pt x="0" y="96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380880" y="5943600"/>
                <a:ext cx="8383680" cy="154080"/>
              </a:xfrm>
              <a:custGeom>
                <a:avLst/>
                <a:gdLst/>
                <a:ahLst/>
                <a:rect l="l" t="t" r="r" b="b"/>
                <a:pathLst>
                  <a:path w="5281" h="97">
                    <a:moveTo>
                      <a:pt x="5280" y="0"/>
                    </a:moveTo>
                    <a:lnTo>
                      <a:pt x="5280" y="96"/>
                    </a:lnTo>
                    <a:lnTo>
                      <a:pt x="0" y="96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536400" y="1905120"/>
              <a:ext cx="154080" cy="1752480"/>
              <a:chOff x="536400" y="1905120"/>
              <a:chExt cx="154080" cy="1752480"/>
            </a:xfrm>
          </p:grpSpPr>
          <p:sp>
            <p:nvSpPr>
              <p:cNvPr id="64" name=""/>
              <p:cNvSpPr/>
              <p:nvPr/>
            </p:nvSpPr>
            <p:spPr>
              <a:xfrm>
                <a:off x="536400" y="1906560"/>
                <a:ext cx="152640" cy="175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36400" y="1905120"/>
                <a:ext cx="154080" cy="1752480"/>
              </a:xfrm>
              <a:custGeom>
                <a:avLst/>
                <a:gdLst/>
                <a:ahLst/>
                <a:rect l="l" t="t" r="r" b="b"/>
                <a:pathLst>
                  <a:path w="97" h="1104">
                    <a:moveTo>
                      <a:pt x="0" y="1103"/>
                    </a:moveTo>
                    <a:lnTo>
                      <a:pt x="96" y="1103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536400" y="1905120"/>
                <a:ext cx="154080" cy="1752480"/>
              </a:xfrm>
              <a:custGeom>
                <a:avLst/>
                <a:gdLst/>
                <a:ahLst/>
                <a:rect l="l" t="t" r="r" b="b"/>
                <a:pathLst>
                  <a:path w="97" h="1104">
                    <a:moveTo>
                      <a:pt x="0" y="1103"/>
                    </a:moveTo>
                    <a:lnTo>
                      <a:pt x="0" y="0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6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dt" idx="4"/>
          </p:nvPr>
        </p:nvSpPr>
        <p:spPr>
          <a:xfrm>
            <a:off x="380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46E5E-47C5-49F2-B831-D1DB14D885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120" y="1828440"/>
            <a:ext cx="853452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arallel Implementation of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ull-motion Video Information Retrieval</a:t>
            </a:r>
            <a:r>
              <a:rPr b="1" lang="en-US" sz="5400" spc="-1" strike="noStrike">
                <a:solidFill>
                  <a:srgbClr val="000000"/>
                </a:solidFill>
                <a:latin typeface="Comic Sans MS"/>
                <a:ea typeface="SimSu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240" y="457200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By: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meya Virkar (smap106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Qian Haichun (smap1051)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Qiu Qiang (smap105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MA5505 – Applied Parallel Comput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84872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verview of MPEG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  <a:ea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15573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828800" y="2004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ipb" descr=""/>
          <p:cNvPicPr/>
          <p:nvPr/>
        </p:nvPicPr>
        <p:blipFill>
          <a:blip r:embed="rId2"/>
          <a:stretch/>
        </p:blipFill>
        <p:spPr>
          <a:xfrm>
            <a:off x="838080" y="1828800"/>
            <a:ext cx="7848720" cy="4073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A5505 – Applied Parallel Comput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807732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arallel MPEG1 Video Decoding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 algn="just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rame level parallel processing is adopted for video decoding phas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PEG1 video is parallel decoded in the unit of GOP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histogram of each frame is maintained as a distributed matrix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process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ill only keep the histogram for (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*N/nProc)th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bin and the subsequent 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/nProc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i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15573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828800" y="19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A5505 – Applied Parallel Comput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807732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arallel Histogram Difference Metric Calcul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 algn="just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ixel level parallel processing is adopted for histogram difference metric calculation phas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 partial histogram difference of the frames will be computed parallel for the corresponding portion of histogram at each proces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t the end of each computation, the partial histogram difference from all processes could be summed up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15573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828800" y="19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A5505 – Applied Parallel Comput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120" y="1828440"/>
            <a:ext cx="853452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ore Implementation Detai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1371240" y="457200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By: 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Qian Haichu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MA5505 – Applied Parallel Comput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807732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alculation of T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 algn="just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rame level parallel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</a:t>
            </a:r>
            <a:r>
              <a:rPr b="0" i="1" lang="en-US" sz="32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b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= u +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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u is mean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s devia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istribution of frames, each processor computes its own sum. Then add_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ass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o each processor(pass_data), each processor computes own deviation. Then add together(add_dat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5573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828800" y="19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A5505 – Applied Parallel Comput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alculation of Tb(Cont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dd_dat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hw1_1" descr=""/>
          <p:cNvPicPr/>
          <p:nvPr/>
        </p:nvPicPr>
        <p:blipFill>
          <a:blip r:embed="rId2"/>
          <a:stretch/>
        </p:blipFill>
        <p:spPr>
          <a:xfrm>
            <a:off x="1371600" y="2514600"/>
            <a:ext cx="6858000" cy="350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A5505 – Applied Parallel Comput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twinComparis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Frame level parallel implem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etection of camera break: the implementation is triv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etection of gradual transition brea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A5505 – Applied Parallel Comput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markKeyFra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ixel layer parallel proces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alculate partial histogram similarity independently(Average partial histogra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um the results, then select the most similar one as the key fr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A5505 – Applied Parallel Comput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752120" y="1828440"/>
            <a:ext cx="853452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erformance Analy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371240" y="457200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By: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meya Virk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MA5505 – Applied Parallel Comput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807732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 algn="just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oc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tup for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peed Up and Resul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uture 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15573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828800" y="19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A5505 – Applied Parallel Comput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ideo Information Retrieval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VIR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752480" y="1905120"/>
            <a:ext cx="603576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A5505 – Applied Parallel Comput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807732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oc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 algn="just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rial Program is very sl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ence Speed 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emory Util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15573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828800" y="19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A5505 – Applied Parallel Comput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807732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xperimental Setu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 algn="just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eowulf Cluster at M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ideos Cho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PEG 1 vide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ith Camera Brea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PEG Video chosen is roughly 25 seconds l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15573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828800" y="19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A5505 – Applied Parallel Comput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807732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xperimental Setu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15573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828800" y="19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2438280" y="2286000"/>
            <a:ext cx="4191120" cy="2857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A5505 – Applied Parallel Comput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807732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peed Up Achiev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 algn="just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, 2, 4, 8 process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ime tak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 processor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04.785 se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 processor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73.964 se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4 processor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30.502 se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8 processor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1.683  se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15573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828800" y="19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038480" y="2895480"/>
            <a:ext cx="1067040" cy="228600"/>
          </a:xfrm>
          <a:prstGeom prst="rightArrow">
            <a:avLst>
              <a:gd name="adj1" fmla="val 50000"/>
              <a:gd name="adj2" fmla="val 116693"/>
            </a:avLst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038480" y="3352680"/>
            <a:ext cx="1067040" cy="228600"/>
          </a:xfrm>
          <a:prstGeom prst="rightArrow">
            <a:avLst>
              <a:gd name="adj1" fmla="val 50000"/>
              <a:gd name="adj2" fmla="val 116693"/>
            </a:avLst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038480" y="3809880"/>
            <a:ext cx="1067040" cy="228600"/>
          </a:xfrm>
          <a:prstGeom prst="rightArrow">
            <a:avLst>
              <a:gd name="adj1" fmla="val 50000"/>
              <a:gd name="adj2" fmla="val 116693"/>
            </a:avLst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038480" y="4191120"/>
            <a:ext cx="1067040" cy="228600"/>
          </a:xfrm>
          <a:prstGeom prst="rightArrow">
            <a:avLst>
              <a:gd name="adj1" fmla="val 50000"/>
              <a:gd name="adj2" fmla="val 116693"/>
            </a:avLst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A5505 – Applied Parallel Comput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807732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peed Up Achieved (Cont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15573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828800" y="19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1179360" y="1752480"/>
          <a:ext cx="7089840" cy="411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79360" y="1752480"/>
                    <a:ext cx="70898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A5505 – Applied Parallel Comput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807732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peed U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7720" y="18288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597240" indent="-597240" algn="just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ss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-522720" algn="just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arge Memory requir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-522720" algn="just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ecoding the MPEG Vide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-522720" algn="just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eakness in Twin compari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43880" indent="-447840" algn="just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istogram Calc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717200" indent="-372960" algn="just">
              <a:lnSpc>
                <a:spcPct val="90000"/>
              </a:lnSpc>
              <a:spcBef>
                <a:spcPts val="400"/>
              </a:spcBef>
              <a:buClr>
                <a:srgbClr val="b2b2b2"/>
              </a:buClr>
              <a:buSzPct val="75000"/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tore in files – increases response 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17200" indent="-372960" algn="just">
              <a:lnSpc>
                <a:spcPct val="90000"/>
              </a:lnSpc>
              <a:spcBef>
                <a:spcPts val="400"/>
              </a:spcBef>
              <a:buClr>
                <a:srgbClr val="b2b2b2"/>
              </a:buClr>
              <a:buSzPct val="75000"/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Keep in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 algn="just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ingle Proces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-522720" algn="just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verhead of Swapping for large vide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 algn="just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ultiple Process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-522720" algn="just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verhead of commun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15573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828800" y="19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A5505 – Applied Parallel Comput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807732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peed Up (Cont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7720" y="18288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 algn="just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istributed Mem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ultiple Process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ivide and Conqu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arge Memories can improve speed for large vide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ppro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ach processes a different GOP in every it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xchange boundary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15573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828800" y="19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A5505 – Applied Parallel Comput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807732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 algn="just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al Vide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ecoding and computing thresholds on the f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evelop an interactive t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f course, improving the speed up even fur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15573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828800" y="19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A5505 – Applied Parallel Comput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807732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 algn="just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Question / Answ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15573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828800" y="19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A5505 – Applied Parallel Comput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8305920" cy="110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y Parallel VI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uge Compu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very promising techn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al-time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SimSun"/>
              </a:rPr>
              <a:t>video indexing and summ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gital T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A5505 – Applied Parallel Comput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84872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verview on VI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8288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e need to perform the following tas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ideo Segmenta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hot Boundary Detectio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ideo indexing and summa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key frame retrieva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eractive Tool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A5505 – Applied Parallel Comput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84872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hot Boundary Det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istogram Comparis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GB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domain is linearly re-quantized into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evels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UV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doma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f the difference exceeds a threshold, then a shot boundary is detecte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Di &gt; T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69108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2209680" y="3124080"/>
                <a:ext cx="5334120" cy="10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r>
                          <m:t xml:space="preserve">|</m:t>
                        </m:r>
                        <m:r>
                          <m:t xml:space="preserve">H</m:t>
                        </m:r>
                        <m:r>
                          <m:t xml:space="preserve">I</m:t>
                        </m:r>
                        <m:r>
                          <m:t xml:space="preserve">[</m:t>
                        </m:r>
                        <m:r>
                          <m:t xml:space="preserve">k</m:t>
                        </m:r>
                        <m:r>
                          <m:t xml:space="preserve">]</m:t>
                        </m:r>
                        <m:r>
                          <m:t xml:space="preserve">−</m:t>
                        </m:r>
                        <m:r>
                          <m:t xml:space="preserve">H</m:t>
                        </m:r>
                        <m:r>
                          <m:t xml:space="preserve">J</m:t>
                        </m:r>
                        <m:r>
                          <m:t xml:space="preserve">[</m:t>
                        </m:r>
                        <m:r>
                          <m:t xml:space="preserve">k</m:t>
                        </m:r>
                        <m:r>
                          <m:t xml:space="preserve">]</m:t>
                        </m:r>
                        <m:r>
                          <m:t xml:space="preserve">|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A5505 – Applied Parallel Comput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84872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lection of threshold </a:t>
            </a:r>
            <a:r>
              <a:rPr b="0" i="1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et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e the mean and standard deviation of the frame-to-frame differences of a video.  The threshold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</a:t>
            </a:r>
            <a:r>
              <a:rPr b="0" i="1" lang="en-US" sz="32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can be chosen this wa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</a:t>
            </a:r>
            <a:r>
              <a:rPr b="0" i="1" lang="en-US" sz="28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= u +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A5505 – Applied Parallel Comput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84872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win-comparison Method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528120" indent="-528120" algn="just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core idea is the use of two thresholds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</a:t>
            </a:r>
            <a:r>
              <a:rPr b="0" i="1" lang="en-US" sz="28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</a:t>
            </a:r>
            <a:r>
              <a:rPr b="0" i="1" lang="en-US" sz="28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-452520" algn="just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mpute SD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for all frame in the video sequen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-452520" algn="just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ark camera breaks where Sdi &gt; T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-452520" algn="just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ark potential gradual transition subsequences    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T = {[Fs, Fe]}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of the video wherever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D</a:t>
            </a:r>
            <a:r>
              <a:rPr b="0" i="1" lang="en-US" sz="20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&gt; T</a:t>
            </a:r>
            <a:r>
              <a:rPr b="0" i="1" lang="en-US" sz="20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for 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</a:t>
            </a:r>
            <a:r>
              <a:rPr b="0" i="1" lang="en-US" sz="20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s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≤ i ≤ F</a:t>
            </a:r>
            <a:r>
              <a:rPr b="0" i="1" lang="en-US" sz="20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-452520" algn="just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or each potential gradual transition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[Fs, Fe],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ccumulate the frame-to-frame difference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8232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C =∑ SD</a:t>
            </a:r>
            <a:r>
              <a:rPr b="0" i="1" lang="en-US" sz="18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-452520" algn="just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C &gt; Tb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, then declare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[Fs, Fe]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s a gradual transi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15573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A5505 – Applied Parallel Comput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84872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Key Frame Retrieval</a:t>
            </a:r>
            <a:r>
              <a:rPr b="0" i="1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 algn="just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Key frame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serve to capture the significant content of the vide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o shot boundary det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mpute the normalized histogram for every frame in shot 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or every bin of the histogram, compute the average frequency of pix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btain the average histogram of shot k using the average frequencies. Normalize i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mpare the normalized histogram of each frame of shot k with it average hist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ick the most similar frame as the key fram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15573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A5505 – Applied Parallel Comput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84872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esign Methodology for Parallel VI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 algn="just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veral possible levels of parallel processing for video: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75000"/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ixel level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75000"/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rame leve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75000"/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mbination of both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15573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28800" y="19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A5505 – Applied Parallel Comput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9T02:35:49Z</dcterms:created>
  <dc:creator>Qiu Qiang</dc:creator>
  <dc:description/>
  <dc:language>en-US</dc:language>
  <cp:lastModifiedBy>NUS</cp:lastModifiedBy>
  <dcterms:modified xsi:type="dcterms:W3CDTF">2002-05-13T23:41:26Z</dcterms:modified>
  <cp:revision>58</cp:revision>
  <dc:subject/>
  <dc:title>No Slide Title</dc:title>
</cp:coreProperties>
</file>