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7B6A-946B-4E18-9E1B-5478908E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1A3-2B4B-4939-B381-96EA909E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280-890C-4FDE-BD52-7AB2DB27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E70-852D-458C-89E2-3C9E32AD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3527-F910-4345-A559-8350128B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E215-157E-4DF1-A17A-34C7B7B5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7DDE-C61F-4ED6-8818-50D755FF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8A31-83AE-4176-929D-F658A038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A98D-405E-409D-967A-C1666D5F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ED11-3CA1-4946-8033-267B5195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F22A-3F89-411D-8C51-32376EF3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49F-3B7F-4A6D-8F47-880B4ECA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1381-AEAD-4D8E-8496-EE6A3C9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62DC-3888-41B8-9F35-59517FBE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8231-860F-48C5-B6DD-4420C40E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6039-095E-4462-8EDD-80E4DC88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B142-F4F0-439A-8B52-8C518974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2DF-176C-4D56-8501-66162A0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4AE-58D8-468F-9853-FB7180D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93F-2513-469B-99E7-5385FDBD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CE7-60BA-4FF7-8DAF-74BF928B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4B4-56A8-43A2-8EA7-B9FA7BC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ECA-C2C4-4073-A0ED-62E73F6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9CC-932E-494C-94AC-42C277E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83B2-E050-4BC1-80EE-0BEFD0007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6845-088D-47A6-8AC7-C561ED06F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rallel Sparse Incomplete Cholesky Precondition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Memb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ity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u Yong H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Wai Ch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tributed Sparse Cholesky Factor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5600" y="1752480"/>
            <a:ext cx="79041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 leaf node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div(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*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processor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p(Struct(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*j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c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c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c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ive any column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c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ruct(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*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mod(j, 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colum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quires no mor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m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div(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*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processors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p(Struct(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*j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c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c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pressed Sparse R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 sparse matrix times dense v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x has many zero e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 space and time by keeping only nonzero e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SR 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14400" y="1676520"/>
            <a:ext cx="2679480" cy="2234160"/>
            <a:chOff x="914400" y="1676520"/>
            <a:chExt cx="2679480" cy="2234160"/>
          </a:xfrm>
        </p:grpSpPr>
        <p:sp>
          <p:nvSpPr>
            <p:cNvPr id="112" name=""/>
            <p:cNvSpPr/>
            <p:nvPr/>
          </p:nvSpPr>
          <p:spPr>
            <a:xfrm>
              <a:off x="986760" y="17535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06160" y="17535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42080" y="17535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6160" y="21124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42080" y="21124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6760" y="247104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3760" y="247104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42080" y="247104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78720" y="247104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42080" y="28299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3760" y="318852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0400" y="318852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78720" y="354744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14400" y="1676520"/>
              <a:ext cx="169200" cy="2154240"/>
            </a:xfrm>
            <a:custGeom>
              <a:avLst/>
              <a:gdLst/>
              <a:ahLst/>
              <a:rect l="l" t="t" r="r" b="b"/>
              <a:pathLst>
                <a:path w="81" h="1201">
                  <a:moveTo>
                    <a:pt x="80" y="0"/>
                  </a:moveTo>
                  <a:lnTo>
                    <a:pt x="0" y="0"/>
                  </a:lnTo>
                  <a:lnTo>
                    <a:pt x="0" y="1200"/>
                  </a:lnTo>
                  <a:lnTo>
                    <a:pt x="80" y="12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4680" y="1676520"/>
              <a:ext cx="169200" cy="2154240"/>
            </a:xfrm>
            <a:custGeom>
              <a:avLst/>
              <a:gdLst/>
              <a:ahLst/>
              <a:rect l="l" t="t" r="r" b="b"/>
              <a:pathLst>
                <a:path w="81" h="1201">
                  <a:moveTo>
                    <a:pt x="0" y="0"/>
                  </a:moveTo>
                  <a:lnTo>
                    <a:pt x="80" y="0"/>
                  </a:lnTo>
                  <a:lnTo>
                    <a:pt x="80" y="1200"/>
                  </a:lnTo>
                  <a:lnTo>
                    <a:pt x="0" y="12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33520" y="3886200"/>
            <a:ext cx="822960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3.5, 0.9, 2.2, 4.1, 1.9, 4.6, 0.7, 2.7, 3.0, 2.9, 1.2, 2.8, 3.4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0,   1,   3,   1,   3,   0,   2,   3,   5,   2,   2,   4,   5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st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0, 3, 5, 9, 10, 12, 13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1676520"/>
            <a:ext cx="4953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[(0,3.5) (1,0.9) (3,2.2)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[(1,4.1) (3,1.9)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[(0,4.6) (2,0.7) (3,2.7) (5,3.0)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[(2,2.9)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[(2,1.2) (4,2.8)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[(5,3.4)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vels of Fi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have additional non-zeros which were zero in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l of F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ed by Guassian Eli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ic factor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mbolic factoriz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6964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mod(j, k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eve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= min{leve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j 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eve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evel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j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8288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512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al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order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f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rse CutHill-Mc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um Deg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ximate Minimum Deg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utation array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er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o permutate original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er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lied to columns and rows to preserver sym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erse CutHill-McKe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eadth first search on graph (C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dered by degre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 initial nod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rs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er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get RC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ice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ffects re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 be a disconnected graph with many connected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eripheral No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a pair of nodes which are maximum distance ap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centricity of nod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ap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(x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max{shortest distances of nod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meter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, d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max{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(x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peripheral node i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(x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seudoperipheral No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pheral nodes can be found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(|X||E|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reduce time taken, find nodes of high eccentricity –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seudoperipher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l structure of grap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 root nod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r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BFS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rmine distance of nod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seudoperipheral No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1: Choose an arbitrary nod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2: Construct level structur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3: Choose a nod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minimum degree in last level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4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 level structur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(x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(r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go to Step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5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pseudoperipheral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el Algorith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ssed Sparse Row and Levels of F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seudoperipheral No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6" name="fig04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riginal Matrix,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density = 0.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8" name="fig05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0" name="fig06" descr=""/>
          <p:cNvPicPr/>
          <p:nvPr/>
        </p:nvPicPr>
        <p:blipFill>
          <a:blip r:embed="rId1"/>
          <a:stretch/>
        </p:blipFill>
        <p:spPr>
          <a:xfrm>
            <a:off x="1371600" y="15048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C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fig07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 – using pseudo-peripheral nodes (unsorted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4" name="fig12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CM – using pseudo-peripheral nodes (unsorted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fig11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M – using pseudo-peripheral nodes (sorted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8" name="fig08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CM – using pseudo-peripheral nodes (sorted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fig09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lab RC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fig10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st Resul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2120" y="1422360"/>
          <a:ext cx="7924680" cy="524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22360"/>
                    <a:ext cx="7924680" cy="52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ar equ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x=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ive solution metho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Conjugate grad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onditio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s a linear system to have more favourable spectral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x=M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st Resul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2120" y="1523880"/>
          <a:ext cx="7772400" cy="514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2400" cy="51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st Resul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14400" y="1523880"/>
          <a:ext cx="7467480" cy="50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6748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ork Di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00200"/>
          <a:ext cx="7162560" cy="4746600"/>
        </p:xfrm>
        <a:graphic>
          <a:graphicData uri="http://schemas.openxmlformats.org/drawingml/2006/table">
            <a:tbl>
              <a:tblPr/>
              <a:tblGrid>
                <a:gridCol w="2415960"/>
                <a:gridCol w="1314720"/>
                <a:gridCol w="1755720"/>
                <a:gridCol w="1676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ity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ng H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i Cho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 in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(A), G(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les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orde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uedoperipheral no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ll lev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bu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ial C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tlab C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ding &amp; Desig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cum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 Coll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olesky Precondition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ain lower triangular matrix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=LL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symmetric positive definite (SP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positive diagonal e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dditional nonzeros (fill) which were zero 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al Algorith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905120"/>
            <a:ext cx="609588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1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mod(j, k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i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+ 1, 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div(j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kj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j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r Implem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tributed Sparse Cholesky Factorization using MP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ssed Sparse Row (CS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ls of f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rse CutHill-McKee (RCM) re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rix Graphs and Elimination Tr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fig01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0010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rix Graphs and Elimination Tr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fig02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960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rix Graphs and Elimination Tr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fig03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1536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12:22Z</dcterms:created>
  <dc:creator>NUS</dc:creator>
  <dc:description/>
  <dc:language>en-US</dc:language>
  <cp:lastModifiedBy>NUS</cp:lastModifiedBy>
  <dcterms:modified xsi:type="dcterms:W3CDTF">2002-05-13T16:09:11Z</dcterms:modified>
  <cp:revision>80</cp:revision>
  <dc:subject/>
  <dc:title>Parallel Sparse Incomplete Cholesky Preconditioners</dc:title>
</cp:coreProperties>
</file>