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CAA5-868F-4735-BD51-3886D296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B2AB-6481-4B1E-AA0F-65CB72B4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4046-18CA-4613-9A12-AA27055D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25F5-0111-4209-B3EE-7039B07F2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BD24-9153-47BD-A719-4C7C4E5A9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E63B-F744-4E9C-A486-E31A0836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E6EF-DC8B-45CC-8AEF-718E22D9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B66F-AD87-4B28-AC0F-9A686DD1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E9BD-B556-4E42-98D2-5D1606BA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3F2D-621B-434F-A41B-0EBDE631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9B91-B797-418D-B2BB-C13B6C01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736C-AE5B-4D9D-AA4E-3CD08D75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C95F-E767-493C-BF6D-34426482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9493-A4DD-4566-92AC-1ABBA416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E6C6-0894-428F-9BF7-105FF76C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6229-6034-4105-8376-20E20CCC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F2DA-F4B8-426B-A18D-9518016D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4205-5452-44A5-A89E-7241EDFA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5A3C-165C-4594-8194-5CB02DF1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7D8C-2974-47BC-B186-17432995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2918-3CF5-4279-B647-65A2F652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3934-A931-425C-9849-D8405582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72CE-881F-42CC-9868-EC46F5C4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6F1B-066A-4E25-BA11-D60330AB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6985-6EFC-4DEA-BD38-67B06C000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4DB2-280B-44AE-9776-3771795C6FA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liacs.nl/~putten/library/cc2000/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Parallelization Of Decision Trees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Anuradha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Yu Xiaoxue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iscretization in Our Program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in the TIC (The Insurance Company) benchmark (COIL Challenge 2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ready been discret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goric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 values are continuous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4f41"/>
                </a:solidFill>
                <a:latin typeface="Times New Roman"/>
              </a:rPr>
              <a:t>Life is easier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9641-EB4D-4355-B0F4-9E872162F41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HASE 1 : Data Warehous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surance Company Benchmark from the COIL (Computational Intelligence and Learning) Challeng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5 attributes, one class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822 tuples for training, and 4000 tuples for testing (originally a machine learning benchmar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use the 5822 tuples set for decision tree bui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C199-7CD7-4A53-9F48-5E4932080B1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HASE 2 : Preprocessing Dat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rete data – don’t need</a:t>
            </a:r>
            <a:r>
              <a:rPr b="0" lang="en-US" sz="3200" spc="-1" strike="noStrike">
                <a:solidFill>
                  <a:srgbClr val="d54f41"/>
                </a:solidFill>
                <a:latin typeface="Times New Roman"/>
              </a:rPr>
              <a:t> discretiz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e file “config.sy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number of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 of each attrib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ic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discretiz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possibl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possibl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ossible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46BD-781A-4256-8AEE-7658391FD53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HASE 3 : Decision Tree Algorithm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by ste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in all the tupl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the information gain of each attribute, to get the root node of the tre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 other nodes recursively, in a DFS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29B1-BF1E-4C9D-B590-DABF70EF407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4920" y="8388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ecision Tree Algorithm (Cont.)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240" y="14475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ion of the Information 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Cont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cted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G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(A) = I(D) - E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81080" y="2438280"/>
                <a:ext cx="48006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i</m:t>
                        </m:r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828800" y="3886200"/>
                <a:ext cx="50292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i</m:t>
                            </m:r>
                            <m:r>
                              <m:t xml:space="preserve">|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i</m:t>
                        </m:r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9361-C388-4CFC-9B06-3B69547172C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ecision Tree Algorithm (Cont.)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pping criteria of the recurs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he attributes within the current branch demonstrate information gain “0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pport of the current branch is below a given thresh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pth of the current tree is greater than a given thresh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0AE4-3BE8-4876-A5CF-5E9AD9B9ADF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HASE 4: Post-Processing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u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ent</a:t>
            </a:r>
            <a:r>
              <a:rPr b="0" lang="en-US" sz="2800" spc="-1" strike="noStrike">
                <a:solidFill>
                  <a:srgbClr val="d54f41"/>
                </a:solidFill>
                <a:latin typeface="Times New Roman"/>
              </a:rPr>
              <a:t> overfi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e-off: Precision vs.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e did – pruning while buil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support of the current branch is below a given threshold, just cut it off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5FD3-CD8C-4F05-A52D-3FFAEEBFDE2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7999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tructure Of Tree Nod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lvl="4" marL="172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 Tree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 index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 par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 childCou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 TreeNode** childr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 attCoun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 *c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** workSe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 setSiz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1DE2-E231-47E2-835B-311146596D2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7999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arallelizat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s Of Paralle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peed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Sca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Communication Over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Load Balanc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A241-F510-4AC0-9AD1-EB3AE2299AC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arallel Decision Tree Building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-Node Paralle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19720" y="2971800"/>
            <a:ext cx="1752480" cy="609480"/>
          </a:xfrm>
          <a:prstGeom prst="ellipse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4800600"/>
            <a:ext cx="1447560" cy="762120"/>
          </a:xfrm>
          <a:prstGeom prst="ellipse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 attr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38680" y="4724280"/>
            <a:ext cx="1447920" cy="762120"/>
          </a:xfrm>
          <a:prstGeom prst="ellipse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 attr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91520" y="4648320"/>
            <a:ext cx="1447560" cy="761760"/>
          </a:xfrm>
          <a:prstGeom prst="ellipse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 attr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7" idx="2"/>
            <a:endCxn id="158" idx="7"/>
          </p:cNvCxnSpPr>
          <p:nvPr/>
        </p:nvCxnSpPr>
        <p:spPr>
          <a:xfrm flipH="1">
            <a:off x="2910960" y="3276720"/>
            <a:ext cx="1509120" cy="16358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162" name=""/>
          <p:cNvCxnSpPr>
            <a:stCxn id="157" idx="5"/>
            <a:endCxn id="159" idx="0"/>
          </p:cNvCxnSpPr>
          <p:nvPr/>
        </p:nvCxnSpPr>
        <p:spPr>
          <a:xfrm>
            <a:off x="5914800" y="3492360"/>
            <a:ext cx="448200" cy="12322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163" name=""/>
          <p:cNvCxnSpPr>
            <a:stCxn id="157" idx="6"/>
            <a:endCxn id="160" idx="0"/>
          </p:cNvCxnSpPr>
          <p:nvPr/>
        </p:nvCxnSpPr>
        <p:spPr>
          <a:xfrm>
            <a:off x="6172200" y="3276720"/>
            <a:ext cx="1944000" cy="13723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sp>
        <p:nvSpPr>
          <p:cNvPr id="164" name=""/>
          <p:cNvSpPr/>
          <p:nvPr/>
        </p:nvSpPr>
        <p:spPr>
          <a:xfrm>
            <a:off x="1371600" y="4572000"/>
            <a:ext cx="2133720" cy="129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15200" y="4572000"/>
            <a:ext cx="1676520" cy="129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c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05320" y="5029200"/>
            <a:ext cx="1904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 . . . . .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57600" y="3809880"/>
            <a:ext cx="2362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86400" y="4572000"/>
            <a:ext cx="1676520" cy="129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c p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8B32-27E2-40FD-81A8-D4FD81AD28F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Knowledge Discovery In Databases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4f41"/>
                </a:solidFill>
                <a:latin typeface="Times New Roman"/>
              </a:rPr>
              <a:t>Automa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reation, Test and Refining of Hypoth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of Dealing with Large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9DBA-1A9C-46D7-AAA2-083F9FEBC0D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arallel Decision Tree Building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-Attribute Evaluation Paralle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295280" y="2743200"/>
            <a:ext cx="7543800" cy="3429000"/>
            <a:chOff x="1295280" y="2743200"/>
            <a:chExt cx="7543800" cy="3429000"/>
          </a:xfrm>
        </p:grpSpPr>
        <p:grpSp>
          <p:nvGrpSpPr>
            <p:cNvPr id="172" name=""/>
            <p:cNvGrpSpPr/>
            <p:nvPr/>
          </p:nvGrpSpPr>
          <p:grpSpPr>
            <a:xfrm>
              <a:off x="1295280" y="2743200"/>
              <a:ext cx="7543800" cy="3429000"/>
              <a:chOff x="1295280" y="2743200"/>
              <a:chExt cx="7543800" cy="3429000"/>
            </a:xfrm>
          </p:grpSpPr>
          <p:sp>
            <p:nvSpPr>
              <p:cNvPr id="173" name=""/>
              <p:cNvSpPr/>
              <p:nvPr/>
            </p:nvSpPr>
            <p:spPr>
              <a:xfrm>
                <a:off x="3200400" y="3809880"/>
                <a:ext cx="1905120" cy="609840"/>
              </a:xfrm>
              <a:prstGeom prst="ellipse">
                <a:avLst/>
              </a:prstGeom>
              <a:solidFill>
                <a:srgbClr val="727de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Eval attrib 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..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934320" y="3733920"/>
                <a:ext cx="1904760" cy="609480"/>
              </a:xfrm>
              <a:prstGeom prst="ellipse">
                <a:avLst/>
              </a:prstGeom>
              <a:solidFill>
                <a:srgbClr val="727de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Eval attrib 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..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371600" y="5257800"/>
                <a:ext cx="1905120" cy="609480"/>
              </a:xfrm>
              <a:prstGeom prst="ellipse">
                <a:avLst/>
              </a:prstGeom>
              <a:solidFill>
                <a:srgbClr val="727de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Eval attrib 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,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724280" y="5334120"/>
                <a:ext cx="1905120" cy="609480"/>
              </a:xfrm>
              <a:prstGeom prst="ellipse">
                <a:avLst/>
              </a:prstGeom>
              <a:solidFill>
                <a:srgbClr val="727de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Eval attrib 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M-1,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105520" y="2743200"/>
                <a:ext cx="1904760" cy="609480"/>
              </a:xfrm>
              <a:prstGeom prst="ellipse">
                <a:avLst/>
              </a:prstGeom>
              <a:solidFill>
                <a:srgbClr val="727de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295280" y="5181480"/>
                <a:ext cx="2057400" cy="990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Proc 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648320" y="5181480"/>
                <a:ext cx="2057400" cy="990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Proc 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0" name=""/>
              <p:cNvCxnSpPr>
                <a:stCxn id="177" idx="2"/>
                <a:endCxn id="173" idx="0"/>
              </p:cNvCxnSpPr>
              <p:nvPr/>
            </p:nvCxnSpPr>
            <p:spPr>
              <a:xfrm flipH="1">
                <a:off x="4152600" y="3048120"/>
                <a:ext cx="953280" cy="76248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</p:cxnSp>
          <p:cxnSp>
            <p:nvCxnSpPr>
              <p:cNvPr id="181" name=""/>
              <p:cNvCxnSpPr>
                <a:stCxn id="177" idx="6"/>
                <a:endCxn id="174" idx="7"/>
              </p:cNvCxnSpPr>
              <p:nvPr/>
            </p:nvCxnSpPr>
            <p:spPr>
              <a:xfrm>
                <a:off x="7010280" y="3048120"/>
                <a:ext cx="1550160" cy="77544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</p:cxnSp>
          <p:cxnSp>
            <p:nvCxnSpPr>
              <p:cNvPr id="182" name=""/>
              <p:cNvCxnSpPr>
                <a:stCxn id="173" idx="2"/>
                <a:endCxn id="178" idx="0"/>
              </p:cNvCxnSpPr>
              <p:nvPr/>
            </p:nvCxnSpPr>
            <p:spPr>
              <a:xfrm flipH="1">
                <a:off x="2323800" y="4114440"/>
                <a:ext cx="876960" cy="10674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sm" type="triangle" w="sm"/>
              </a:ln>
            </p:spPr>
          </p:cxnSp>
          <p:cxnSp>
            <p:nvCxnSpPr>
              <p:cNvPr id="183" name=""/>
              <p:cNvCxnSpPr>
                <a:stCxn id="173" idx="6"/>
                <a:endCxn id="179" idx="0"/>
              </p:cNvCxnSpPr>
              <p:nvPr/>
            </p:nvCxnSpPr>
            <p:spPr>
              <a:xfrm>
                <a:off x="5105160" y="4114440"/>
                <a:ext cx="572040" cy="10674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sm" type="triangle" w="sm"/>
              </a:ln>
            </p:spPr>
          </p:cxnSp>
        </p:grpSp>
        <p:sp>
          <p:nvSpPr>
            <p:cNvPr id="184" name=""/>
            <p:cNvSpPr/>
            <p:nvPr/>
          </p:nvSpPr>
          <p:spPr>
            <a:xfrm>
              <a:off x="3429000" y="5410080"/>
              <a:ext cx="121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. . . . .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1DC2-AEFB-4E9D-892E-30433F1923A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arallel Decision Tree Building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a-Attribute Paralle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295280" y="2590920"/>
            <a:ext cx="7543800" cy="3429000"/>
            <a:chOff x="1295280" y="2590920"/>
            <a:chExt cx="7543800" cy="3429000"/>
          </a:xfrm>
        </p:grpSpPr>
        <p:grpSp>
          <p:nvGrpSpPr>
            <p:cNvPr id="188" name=""/>
            <p:cNvGrpSpPr/>
            <p:nvPr/>
          </p:nvGrpSpPr>
          <p:grpSpPr>
            <a:xfrm>
              <a:off x="1295280" y="2590920"/>
              <a:ext cx="7543800" cy="3429000"/>
              <a:chOff x="1295280" y="2590920"/>
              <a:chExt cx="7543800" cy="3429000"/>
            </a:xfrm>
          </p:grpSpPr>
          <p:sp>
            <p:nvSpPr>
              <p:cNvPr id="189" name=""/>
              <p:cNvSpPr/>
              <p:nvPr/>
            </p:nvSpPr>
            <p:spPr>
              <a:xfrm>
                <a:off x="2286000" y="2957760"/>
                <a:ext cx="45720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200400" y="3657600"/>
                <a:ext cx="1905120" cy="609840"/>
              </a:xfrm>
              <a:prstGeom prst="ellipse">
                <a:avLst/>
              </a:prstGeom>
              <a:solidFill>
                <a:srgbClr val="727de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Eval attrib 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934320" y="3581640"/>
                <a:ext cx="1904760" cy="609480"/>
              </a:xfrm>
              <a:prstGeom prst="ellipse">
                <a:avLst/>
              </a:prstGeom>
              <a:solidFill>
                <a:srgbClr val="727de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105520" y="2590920"/>
                <a:ext cx="1904760" cy="609480"/>
              </a:xfrm>
              <a:prstGeom prst="ellipse">
                <a:avLst/>
              </a:prstGeom>
              <a:solidFill>
                <a:srgbClr val="727de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295280" y="5029200"/>
                <a:ext cx="2057400" cy="990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Proc 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648320" y="5029200"/>
                <a:ext cx="2057400" cy="990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Proc 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95" name=""/>
              <p:cNvCxnSpPr>
                <a:stCxn id="192" idx="2"/>
                <a:endCxn id="190" idx="0"/>
              </p:cNvCxnSpPr>
              <p:nvPr/>
            </p:nvCxnSpPr>
            <p:spPr>
              <a:xfrm flipH="1">
                <a:off x="4152600" y="2895840"/>
                <a:ext cx="953280" cy="76248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</p:cxnSp>
          <p:cxnSp>
            <p:nvCxnSpPr>
              <p:cNvPr id="196" name=""/>
              <p:cNvCxnSpPr>
                <a:stCxn id="192" idx="6"/>
                <a:endCxn id="191" idx="7"/>
              </p:cNvCxnSpPr>
              <p:nvPr/>
            </p:nvCxnSpPr>
            <p:spPr>
              <a:xfrm>
                <a:off x="7010280" y="2895840"/>
                <a:ext cx="1550160" cy="77544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</p:cxnSp>
          <p:cxnSp>
            <p:nvCxnSpPr>
              <p:cNvPr id="197" name=""/>
              <p:cNvCxnSpPr>
                <a:stCxn id="190" idx="2"/>
                <a:endCxn id="193" idx="0"/>
              </p:cNvCxnSpPr>
              <p:nvPr/>
            </p:nvCxnSpPr>
            <p:spPr>
              <a:xfrm flipH="1">
                <a:off x="2323800" y="3962160"/>
                <a:ext cx="876960" cy="10674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sm" type="triangle" w="sm"/>
              </a:ln>
            </p:spPr>
          </p:cxnSp>
          <p:cxnSp>
            <p:nvCxnSpPr>
              <p:cNvPr id="198" name=""/>
              <p:cNvCxnSpPr>
                <a:stCxn id="190" idx="6"/>
                <a:endCxn id="194" idx="0"/>
              </p:cNvCxnSpPr>
              <p:nvPr/>
            </p:nvCxnSpPr>
            <p:spPr>
              <a:xfrm>
                <a:off x="5105160" y="3962160"/>
                <a:ext cx="572040" cy="10674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sm" type="triangle" w="sm"/>
              </a:ln>
            </p:spPr>
          </p:cxnSp>
          <p:sp>
            <p:nvSpPr>
              <p:cNvPr id="199" name=""/>
              <p:cNvSpPr/>
              <p:nvPr/>
            </p:nvSpPr>
            <p:spPr>
              <a:xfrm>
                <a:off x="1600200" y="5257800"/>
                <a:ext cx="1523880" cy="457200"/>
              </a:xfrm>
              <a:prstGeom prst="rect">
                <a:avLst/>
              </a:prstGeom>
              <a:solidFill>
                <a:srgbClr val="727de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ata Subset 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876920" y="5257800"/>
                <a:ext cx="1600200" cy="457200"/>
              </a:xfrm>
              <a:prstGeom prst="rect">
                <a:avLst/>
              </a:prstGeom>
              <a:solidFill>
                <a:srgbClr val="727de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ata Subset 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3429000" y="5410080"/>
              <a:ext cx="121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. . . . .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66D4-3606-4FDE-B77E-4C781EB9273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istributed Data Mining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523880" y="1676160"/>
            <a:ext cx="7315200" cy="4267800"/>
            <a:chOff x="1523880" y="1676160"/>
            <a:chExt cx="7315200" cy="4267800"/>
          </a:xfrm>
        </p:grpSpPr>
        <p:sp>
          <p:nvSpPr>
            <p:cNvPr id="205" name=""/>
            <p:cNvSpPr/>
            <p:nvPr/>
          </p:nvSpPr>
          <p:spPr>
            <a:xfrm>
              <a:off x="1523880" y="3429000"/>
              <a:ext cx="1447920" cy="1066680"/>
            </a:xfrm>
            <a:prstGeom prst="rect">
              <a:avLst/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 to be Mi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819520" y="5181480"/>
              <a:ext cx="990360" cy="533520"/>
            </a:xfrm>
            <a:prstGeom prst="rect">
              <a:avLst/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ubset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90920" y="2286000"/>
              <a:ext cx="1066680" cy="533520"/>
            </a:xfrm>
            <a:prstGeom prst="rect">
              <a:avLst/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ubset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95680" y="2057400"/>
              <a:ext cx="685800" cy="609480"/>
            </a:xfrm>
            <a:prstGeom prst="ellipse">
              <a:avLst/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419720" y="5105520"/>
              <a:ext cx="685800" cy="609480"/>
            </a:xfrm>
            <a:prstGeom prst="ellipse">
              <a:avLst/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91320" y="1905120"/>
              <a:ext cx="838080" cy="533160"/>
            </a:xfrm>
            <a:prstGeom prst="triangle">
              <a:avLst>
                <a:gd name="adj" fmla="val 50000"/>
              </a:avLst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n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15000" y="5181480"/>
              <a:ext cx="838080" cy="533520"/>
            </a:xfrm>
            <a:prstGeom prst="triangle">
              <a:avLst>
                <a:gd name="adj" fmla="val 50000"/>
              </a:avLst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n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95880" y="3809880"/>
              <a:ext cx="1905120" cy="304920"/>
            </a:xfrm>
            <a:prstGeom prst="ellipse">
              <a:avLst/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b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5200" y="4724280"/>
              <a:ext cx="1523880" cy="1067040"/>
            </a:xfrm>
            <a:prstGeom prst="triangle">
              <a:avLst>
                <a:gd name="adj" fmla="val 50000"/>
              </a:avLst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4" name=""/>
            <p:cNvCxnSpPr>
              <a:stCxn id="205" idx="0"/>
              <a:endCxn id="207" idx="1"/>
            </p:cNvCxnSpPr>
            <p:nvPr/>
          </p:nvCxnSpPr>
          <p:spPr>
            <a:xfrm flipH="1" flipV="1" rot="5400000">
              <a:off x="1980720" y="2818800"/>
              <a:ext cx="876960" cy="343800"/>
            </a:xfrm>
            <a:prstGeom prst="bentConnector2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215" name=""/>
            <p:cNvCxnSpPr>
              <a:stCxn id="205" idx="2"/>
              <a:endCxn id="206" idx="1"/>
            </p:cNvCxnSpPr>
            <p:nvPr/>
          </p:nvCxnSpPr>
          <p:spPr>
            <a:xfrm flipH="1" rot="16200000">
              <a:off x="2057400" y="4685760"/>
              <a:ext cx="953280" cy="572400"/>
            </a:xfrm>
            <a:prstGeom prst="bentConnector2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216" name=""/>
            <p:cNvCxnSpPr>
              <a:stCxn id="207" idx="3"/>
              <a:endCxn id="208" idx="0"/>
            </p:cNvCxnSpPr>
            <p:nvPr/>
          </p:nvCxnSpPr>
          <p:spPr>
            <a:xfrm flipV="1">
              <a:off x="3657240" y="2057040"/>
              <a:ext cx="1181880" cy="496080"/>
            </a:xfrm>
            <a:prstGeom prst="bentConnector4">
              <a:avLst>
                <a:gd name="adj1" fmla="val 35466"/>
                <a:gd name="adj2" fmla="val 146114"/>
              </a:avLst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217" name=""/>
            <p:cNvCxnSpPr>
              <a:stCxn id="206" idx="3"/>
              <a:endCxn id="209" idx="4"/>
            </p:cNvCxnSpPr>
            <p:nvPr/>
          </p:nvCxnSpPr>
          <p:spPr>
            <a:xfrm>
              <a:off x="3809880" y="5447880"/>
              <a:ext cx="953280" cy="267120"/>
            </a:xfrm>
            <a:prstGeom prst="bentConnector4">
              <a:avLst>
                <a:gd name="adj1" fmla="val 31998"/>
                <a:gd name="adj2" fmla="val 185829"/>
              </a:avLst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218" name=""/>
            <p:cNvCxnSpPr>
              <a:stCxn id="208" idx="6"/>
              <a:endCxn id="210" idx="0"/>
            </p:cNvCxnSpPr>
            <p:nvPr/>
          </p:nvCxnSpPr>
          <p:spPr>
            <a:xfrm flipV="1">
              <a:off x="5181480" y="1904760"/>
              <a:ext cx="1029600" cy="457920"/>
            </a:xfrm>
            <a:prstGeom prst="bentConnector4">
              <a:avLst>
                <a:gd name="adj1" fmla="val 29625"/>
                <a:gd name="adj2" fmla="val 149960"/>
              </a:avLst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219" name=""/>
            <p:cNvCxnSpPr>
              <a:stCxn id="209" idx="6"/>
              <a:endCxn id="211" idx="3"/>
            </p:cNvCxnSpPr>
            <p:nvPr/>
          </p:nvCxnSpPr>
          <p:spPr>
            <a:xfrm>
              <a:off x="5105160" y="5409720"/>
              <a:ext cx="1028880" cy="305640"/>
            </a:xfrm>
            <a:prstGeom prst="bentConnector4">
              <a:avLst>
                <a:gd name="adj1" fmla="val 29611"/>
                <a:gd name="adj2" fmla="val 175000"/>
              </a:avLst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220" name=""/>
            <p:cNvCxnSpPr>
              <a:stCxn id="211" idx="5"/>
              <a:endCxn id="212" idx="3"/>
            </p:cNvCxnSpPr>
            <p:nvPr/>
          </p:nvCxnSpPr>
          <p:spPr>
            <a:xfrm flipV="1">
              <a:off x="6343560" y="4069800"/>
              <a:ext cx="32400" cy="1378440"/>
            </a:xfrm>
            <a:prstGeom prst="bentConnector4">
              <a:avLst>
                <a:gd name="adj1" fmla="val 1379775"/>
                <a:gd name="adj2" fmla="val 58045"/>
              </a:avLst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221" name=""/>
            <p:cNvCxnSpPr>
              <a:stCxn id="210" idx="5"/>
              <a:endCxn id="212" idx="1"/>
            </p:cNvCxnSpPr>
            <p:nvPr/>
          </p:nvCxnSpPr>
          <p:spPr>
            <a:xfrm flipH="1">
              <a:off x="6374880" y="2171880"/>
              <a:ext cx="45360" cy="1683360"/>
            </a:xfrm>
            <a:prstGeom prst="bentConnector4">
              <a:avLst>
                <a:gd name="adj1" fmla="val -985600"/>
                <a:gd name="adj2" fmla="val 56598"/>
              </a:avLst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222" name=""/>
            <p:cNvCxnSpPr>
              <a:stCxn id="212" idx="6"/>
              <a:endCxn id="213" idx="0"/>
            </p:cNvCxnSpPr>
            <p:nvPr/>
          </p:nvCxnSpPr>
          <p:spPr>
            <a:xfrm>
              <a:off x="8001000" y="3962520"/>
              <a:ext cx="76680" cy="762480"/>
            </a:xfrm>
            <a:prstGeom prst="bentConnector2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223" name=""/>
            <p:cNvSpPr/>
            <p:nvPr/>
          </p:nvSpPr>
          <p:spPr>
            <a:xfrm>
              <a:off x="3200400" y="2895480"/>
              <a:ext cx="15228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724280" y="2819520"/>
              <a:ext cx="15264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2C03-E8B6-42B0-AD34-4EC9AE0B8A8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Result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76920" y="1523880"/>
            <a:ext cx="609480" cy="304920"/>
          </a:xfrm>
          <a:prstGeom prst="rect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828800"/>
            <a:ext cx="609840" cy="304920"/>
          </a:xfrm>
          <a:prstGeom prst="rect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2438280"/>
            <a:ext cx="609840" cy="304920"/>
          </a:xfrm>
          <a:prstGeom prst="rect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09680" y="1905120"/>
            <a:ext cx="609840" cy="304560"/>
          </a:xfrm>
          <a:prstGeom prst="rect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33720" y="3352680"/>
            <a:ext cx="609480" cy="304920"/>
          </a:xfrm>
          <a:prstGeom prst="rect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95280" y="3352680"/>
            <a:ext cx="609840" cy="304920"/>
          </a:xfrm>
          <a:prstGeom prst="rect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14600" y="4038480"/>
            <a:ext cx="609480" cy="304920"/>
          </a:xfrm>
          <a:prstGeom prst="rect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4038480"/>
            <a:ext cx="609480" cy="304920"/>
          </a:xfrm>
          <a:prstGeom prst="rect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14600" y="4648320"/>
            <a:ext cx="609480" cy="304560"/>
          </a:xfrm>
          <a:prstGeom prst="rect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4648320"/>
            <a:ext cx="609480" cy="304560"/>
          </a:xfrm>
          <a:prstGeom prst="rect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43000" y="4648320"/>
            <a:ext cx="609480" cy="304560"/>
          </a:xfrm>
          <a:prstGeom prst="rect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00400" y="4038480"/>
            <a:ext cx="609480" cy="304920"/>
          </a:xfrm>
          <a:prstGeom prst="rect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038480"/>
            <a:ext cx="609480" cy="304920"/>
          </a:xfrm>
          <a:prstGeom prst="rect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4648320"/>
            <a:ext cx="609480" cy="304560"/>
          </a:xfrm>
          <a:prstGeom prst="rect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00400" y="4648320"/>
            <a:ext cx="609480" cy="304560"/>
          </a:xfrm>
          <a:prstGeom prst="rect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26" idx="1"/>
            <a:endCxn id="229" idx="0"/>
          </p:cNvCxnSpPr>
          <p:nvPr/>
        </p:nvCxnSpPr>
        <p:spPr>
          <a:xfrm flipV="1" rot="10800000">
            <a:off x="2513880" y="1675440"/>
            <a:ext cx="2363040" cy="229320"/>
          </a:xfrm>
          <a:prstGeom prst="bentConnector2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2" name=""/>
          <p:cNvCxnSpPr>
            <a:stCxn id="226" idx="2"/>
            <a:endCxn id="228" idx="0"/>
          </p:cNvCxnSpPr>
          <p:nvPr/>
        </p:nvCxnSpPr>
        <p:spPr>
          <a:xfrm flipH="1" rot="16200000">
            <a:off x="4914720" y="2095200"/>
            <a:ext cx="610200" cy="7668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" name=""/>
          <p:cNvCxnSpPr>
            <a:stCxn id="226" idx="3"/>
            <a:endCxn id="227" idx="0"/>
          </p:cNvCxnSpPr>
          <p:nvPr/>
        </p:nvCxnSpPr>
        <p:spPr>
          <a:xfrm>
            <a:off x="5486040" y="1676160"/>
            <a:ext cx="2515320" cy="153000"/>
          </a:xfrm>
          <a:prstGeom prst="bentConnector2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4" name=""/>
          <p:cNvCxnSpPr>
            <a:stCxn id="229" idx="2"/>
            <a:endCxn id="231" idx="0"/>
          </p:cNvCxnSpPr>
          <p:nvPr/>
        </p:nvCxnSpPr>
        <p:spPr>
          <a:xfrm rot="5400000">
            <a:off x="1485360" y="2323800"/>
            <a:ext cx="1143720" cy="9151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5" name=""/>
          <p:cNvCxnSpPr>
            <a:stCxn id="229" idx="2"/>
            <a:endCxn id="230" idx="0"/>
          </p:cNvCxnSpPr>
          <p:nvPr/>
        </p:nvCxnSpPr>
        <p:spPr>
          <a:xfrm rot="5400000">
            <a:off x="1904760" y="2742840"/>
            <a:ext cx="1143720" cy="7668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6" name=""/>
          <p:cNvCxnSpPr>
            <a:stCxn id="230" idx="1"/>
            <a:endCxn id="238" idx="0"/>
          </p:cNvCxnSpPr>
          <p:nvPr/>
        </p:nvCxnSpPr>
        <p:spPr>
          <a:xfrm flipH="1">
            <a:off x="1447200" y="3504960"/>
            <a:ext cx="686520" cy="5338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7" name=""/>
          <p:cNvCxnSpPr>
            <a:stCxn id="230" idx="2"/>
            <a:endCxn id="233" idx="0"/>
          </p:cNvCxnSpPr>
          <p:nvPr/>
        </p:nvCxnSpPr>
        <p:spPr>
          <a:xfrm flipH="1">
            <a:off x="2133360" y="3657600"/>
            <a:ext cx="305280" cy="3816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8" name=""/>
          <p:cNvCxnSpPr>
            <a:stCxn id="230" idx="2"/>
            <a:endCxn id="232" idx="0"/>
          </p:cNvCxnSpPr>
          <p:nvPr/>
        </p:nvCxnSpPr>
        <p:spPr>
          <a:xfrm>
            <a:off x="2437920" y="3657600"/>
            <a:ext cx="381960" cy="3816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9" name=""/>
          <p:cNvCxnSpPr>
            <a:stCxn id="230" idx="3"/>
            <a:endCxn id="237" idx="0"/>
          </p:cNvCxnSpPr>
          <p:nvPr/>
        </p:nvCxnSpPr>
        <p:spPr>
          <a:xfrm>
            <a:off x="2742840" y="3504960"/>
            <a:ext cx="762840" cy="5338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50" name=""/>
          <p:cNvCxnSpPr>
            <a:stCxn id="233" idx="2"/>
            <a:endCxn id="236" idx="0"/>
          </p:cNvCxnSpPr>
          <p:nvPr/>
        </p:nvCxnSpPr>
        <p:spPr>
          <a:xfrm flipH="1">
            <a:off x="1447200" y="4343040"/>
            <a:ext cx="686520" cy="3056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51" name=""/>
          <p:cNvCxnSpPr>
            <a:stCxn id="233" idx="2"/>
            <a:endCxn id="235" idx="0"/>
          </p:cNvCxnSpPr>
          <p:nvPr/>
        </p:nvCxnSpPr>
        <p:spPr>
          <a:xfrm>
            <a:off x="2133360" y="4343040"/>
            <a:ext cx="1080" cy="3056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52" name=""/>
          <p:cNvCxnSpPr>
            <a:stCxn id="233" idx="2"/>
            <a:endCxn id="234" idx="0"/>
          </p:cNvCxnSpPr>
          <p:nvPr/>
        </p:nvCxnSpPr>
        <p:spPr>
          <a:xfrm>
            <a:off x="2133360" y="4343040"/>
            <a:ext cx="686520" cy="3056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53" name=""/>
          <p:cNvCxnSpPr>
            <a:stCxn id="237" idx="2"/>
            <a:endCxn id="240" idx="0"/>
          </p:cNvCxnSpPr>
          <p:nvPr/>
        </p:nvCxnSpPr>
        <p:spPr>
          <a:xfrm>
            <a:off x="3504960" y="4343040"/>
            <a:ext cx="1080" cy="3056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54" name=""/>
          <p:cNvCxnSpPr>
            <a:stCxn id="237" idx="2"/>
            <a:endCxn id="239" idx="0"/>
          </p:cNvCxnSpPr>
          <p:nvPr/>
        </p:nvCxnSpPr>
        <p:spPr>
          <a:xfrm>
            <a:off x="3504960" y="4343040"/>
            <a:ext cx="686520" cy="3056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55" name=""/>
          <p:cNvSpPr/>
          <p:nvPr/>
        </p:nvSpPr>
        <p:spPr>
          <a:xfrm>
            <a:off x="3200400" y="3352680"/>
            <a:ext cx="609480" cy="304920"/>
          </a:xfrm>
          <a:prstGeom prst="rect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"/>
          <p:cNvCxnSpPr>
            <a:stCxn id="229" idx="2"/>
            <a:endCxn id="255" idx="0"/>
          </p:cNvCxnSpPr>
          <p:nvPr/>
        </p:nvCxnSpPr>
        <p:spPr>
          <a:xfrm flipH="1" rot="16200000">
            <a:off x="2438280" y="2285280"/>
            <a:ext cx="1143720" cy="9914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57" name=""/>
          <p:cNvSpPr/>
          <p:nvPr/>
        </p:nvSpPr>
        <p:spPr>
          <a:xfrm>
            <a:off x="2286000" y="5257800"/>
            <a:ext cx="83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2895480"/>
            <a:ext cx="8384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43800" y="2209680"/>
            <a:ext cx="838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B7F5-CA0F-425F-B8D9-40C087D434B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240" y="7999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Future Work </a:t>
            </a:r>
            <a:br>
              <a:rPr sz="4400"/>
            </a:b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(Till the Final Report)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PI Version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ison of Sequential, Open MP and MPI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ing in terms of Scal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7EFB-6E6C-4210-8340-93FB7168950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240" y="7999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Unresolved Issue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/O 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9B70-F4D1-4375-A6DD-821F6EF06C5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Bibliography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ink of the benchma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00"/>
                </a:solidFill>
                <a:uFillTx/>
                <a:latin typeface="Times New Roman"/>
                <a:hlinkClick r:id="rId1"/>
              </a:rPr>
              <a:t>http://www.liacs.nl/~putten/library/cc2000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management Systems : Raghu Ramakrishnan / Johannes Ger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ng with very Large Databases with Parallel Processing : Alex A.Freitas, Simon H. Laving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9070-50CA-4338-BC26-4B448B30940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cknowledgemen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. Liu B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. Wynne Hs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. Peter van der Pu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5CC6-BB31-4210-8A09-6C37F7FA81E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7999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ata Mining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Databases is Ubiquit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and for data Becoming finer and finer g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 of Databases growing Lar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, the idea of Paralle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EE57-540B-413C-8F42-37A80AA383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Knowledge Discovery Proces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 Phas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Building a Data Wareho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Pre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Data M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Post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4649-1701-4178-8D09-D78266CC2A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Knowledge Discovery Proces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371600" y="2285280"/>
            <a:ext cx="7467480" cy="4039200"/>
            <a:chOff x="1371600" y="2285280"/>
            <a:chExt cx="7467480" cy="4039200"/>
          </a:xfrm>
        </p:grpSpPr>
        <p:sp>
          <p:nvSpPr>
            <p:cNvPr id="93" name=""/>
            <p:cNvSpPr/>
            <p:nvPr/>
          </p:nvSpPr>
          <p:spPr>
            <a:xfrm>
              <a:off x="1371600" y="236232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71600" y="4495680"/>
              <a:ext cx="762120" cy="762120"/>
            </a:xfrm>
            <a:prstGeom prst="can">
              <a:avLst>
                <a:gd name="adj" fmla="val 25000"/>
              </a:avLst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91120" y="3048120"/>
              <a:ext cx="761760" cy="1676160"/>
            </a:xfrm>
            <a:prstGeom prst="can">
              <a:avLst>
                <a:gd name="adj" fmla="val 25000"/>
              </a:avLst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re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ou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90920" y="2666880"/>
              <a:ext cx="457200" cy="2819520"/>
            </a:xfrm>
            <a:prstGeom prst="ellipse">
              <a:avLst/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62720" y="2743200"/>
              <a:ext cx="1600200" cy="762120"/>
            </a:xfrm>
            <a:prstGeom prst="rect">
              <a:avLst/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-Process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848720" y="2514600"/>
              <a:ext cx="990360" cy="990720"/>
            </a:xfrm>
            <a:prstGeom prst="ellipse">
              <a:avLst/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i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53080" y="4267080"/>
              <a:ext cx="1752840" cy="609840"/>
            </a:xfrm>
            <a:prstGeom prst="rect">
              <a:avLst/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st-Process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91520" y="5486400"/>
              <a:ext cx="1295280" cy="838080"/>
            </a:xfrm>
            <a:prstGeom prst="triangle">
              <a:avLst>
                <a:gd name="adj" fmla="val 50000"/>
              </a:avLst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1" name=""/>
            <p:cNvCxnSpPr>
              <a:stCxn id="93" idx="4"/>
              <a:endCxn id="96" idx="2"/>
            </p:cNvCxnSpPr>
            <p:nvPr/>
          </p:nvCxnSpPr>
          <p:spPr>
            <a:xfrm>
              <a:off x="2133720" y="2705040"/>
              <a:ext cx="457920" cy="1372320"/>
            </a:xfrm>
            <a:prstGeom prst="bentConnector3">
              <a:avLst>
                <a:gd name="adj1" fmla="val 49960"/>
              </a:avLst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02" name=""/>
            <p:cNvCxnSpPr>
              <a:stCxn id="94" idx="4"/>
              <a:endCxn id="96" idx="2"/>
            </p:cNvCxnSpPr>
            <p:nvPr/>
          </p:nvCxnSpPr>
          <p:spPr>
            <a:xfrm flipV="1">
              <a:off x="2133720" y="4075920"/>
              <a:ext cx="457920" cy="801000"/>
            </a:xfrm>
            <a:prstGeom prst="bentConnector3">
              <a:avLst>
                <a:gd name="adj1" fmla="val 49960"/>
              </a:avLst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03" name=""/>
            <p:cNvCxnSpPr>
              <a:stCxn id="96" idx="6"/>
              <a:endCxn id="95" idx="2"/>
            </p:cNvCxnSpPr>
            <p:nvPr/>
          </p:nvCxnSpPr>
          <p:spPr>
            <a:xfrm flipV="1">
              <a:off x="3047760" y="3885480"/>
              <a:ext cx="1143720" cy="191160"/>
            </a:xfrm>
            <a:prstGeom prst="bentConnector3">
              <a:avLst>
                <a:gd name="adj1" fmla="val 50000"/>
              </a:avLst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04" name=""/>
            <p:cNvCxnSpPr>
              <a:stCxn id="95" idx="4"/>
              <a:endCxn id="97" idx="1"/>
            </p:cNvCxnSpPr>
            <p:nvPr/>
          </p:nvCxnSpPr>
          <p:spPr>
            <a:xfrm flipV="1">
              <a:off x="4952880" y="3123360"/>
              <a:ext cx="610560" cy="762840"/>
            </a:xfrm>
            <a:prstGeom prst="bentConnector3">
              <a:avLst>
                <a:gd name="adj1" fmla="val 49970"/>
              </a:avLst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05" name=""/>
            <p:cNvCxnSpPr>
              <a:stCxn id="97" idx="3"/>
              <a:endCxn id="98" idx="0"/>
            </p:cNvCxnSpPr>
            <p:nvPr/>
          </p:nvCxnSpPr>
          <p:spPr>
            <a:xfrm flipV="1">
              <a:off x="7162560" y="2513880"/>
              <a:ext cx="1181880" cy="610200"/>
            </a:xfrm>
            <a:prstGeom prst="bentConnector4">
              <a:avLst>
                <a:gd name="adj1" fmla="val 29006"/>
                <a:gd name="adj2" fmla="val 137485"/>
              </a:avLst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06" name=""/>
            <p:cNvCxnSpPr>
              <a:stCxn id="98" idx="4"/>
              <a:endCxn id="99" idx="0"/>
            </p:cNvCxnSpPr>
            <p:nvPr/>
          </p:nvCxnSpPr>
          <p:spPr>
            <a:xfrm rot="5400000">
              <a:off x="7505280" y="3429000"/>
              <a:ext cx="762480" cy="915120"/>
            </a:xfrm>
            <a:prstGeom prst="bentConnector3">
              <a:avLst>
                <a:gd name="adj1" fmla="val 49976"/>
              </a:avLst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07" name=""/>
            <p:cNvCxnSpPr>
              <a:stCxn id="99" idx="2"/>
              <a:endCxn id="100" idx="0"/>
            </p:cNvCxnSpPr>
            <p:nvPr/>
          </p:nvCxnSpPr>
          <p:spPr>
            <a:xfrm flipH="1" rot="16200000">
              <a:off x="7428600" y="4876560"/>
              <a:ext cx="610200" cy="610200"/>
            </a:xfrm>
            <a:prstGeom prst="bentConnector3">
              <a:avLst>
                <a:gd name="adj1" fmla="val 50000"/>
              </a:avLst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4A6A-CB62-4AFA-AC23-318125FA80E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ttribute Select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523880" y="1981080"/>
            <a:ext cx="7315200" cy="4191120"/>
            <a:chOff x="1523880" y="1981080"/>
            <a:chExt cx="7315200" cy="4191120"/>
          </a:xfrm>
        </p:grpSpPr>
        <p:sp>
          <p:nvSpPr>
            <p:cNvPr id="110" name=""/>
            <p:cNvSpPr/>
            <p:nvPr/>
          </p:nvSpPr>
          <p:spPr>
            <a:xfrm>
              <a:off x="1600200" y="1981080"/>
              <a:ext cx="1676520" cy="533520"/>
            </a:xfrm>
            <a:prstGeom prst="rect">
              <a:avLst/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iven 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76720" y="2514600"/>
              <a:ext cx="2666880" cy="533520"/>
            </a:xfrm>
            <a:prstGeom prst="ellipse">
              <a:avLst/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lect Set of 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23880" y="3429000"/>
              <a:ext cx="2286000" cy="380880"/>
            </a:xfrm>
            <a:prstGeom prst="rect">
              <a:avLst/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duced 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67080" y="3352680"/>
              <a:ext cx="1905120" cy="1067040"/>
            </a:xfrm>
            <a:prstGeom prst="flowChartDecision">
              <a:avLst/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g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ccura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00200" y="4876920"/>
              <a:ext cx="4648320" cy="457200"/>
            </a:xfrm>
            <a:prstGeom prst="rect">
              <a:avLst/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duced Data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10280" y="4267080"/>
              <a:ext cx="1067040" cy="838440"/>
            </a:xfrm>
            <a:prstGeom prst="ellipse">
              <a:avLst/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i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86600" y="5486400"/>
              <a:ext cx="1752480" cy="685800"/>
            </a:xfrm>
            <a:prstGeom prst="triangle">
              <a:avLst>
                <a:gd name="adj" fmla="val 50000"/>
              </a:avLst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7" name=""/>
            <p:cNvCxnSpPr>
              <a:stCxn id="110" idx="3"/>
              <a:endCxn id="111" idx="0"/>
            </p:cNvCxnSpPr>
            <p:nvPr/>
          </p:nvCxnSpPr>
          <p:spPr>
            <a:xfrm>
              <a:off x="3276720" y="2247480"/>
              <a:ext cx="1334160" cy="267120"/>
            </a:xfrm>
            <a:prstGeom prst="bentConnector2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18" name=""/>
            <p:cNvCxnSpPr>
              <a:stCxn id="111" idx="2"/>
              <a:endCxn id="112" idx="0"/>
            </p:cNvCxnSpPr>
            <p:nvPr/>
          </p:nvCxnSpPr>
          <p:spPr>
            <a:xfrm flipV="1" rot="10800000">
              <a:off x="2666160" y="2780280"/>
              <a:ext cx="610560" cy="648360"/>
            </a:xfrm>
            <a:prstGeom prst="bentConnector2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19" name=""/>
            <p:cNvCxnSpPr>
              <a:stCxn id="112" idx="3"/>
              <a:endCxn id="113" idx="0"/>
            </p:cNvCxnSpPr>
            <p:nvPr/>
          </p:nvCxnSpPr>
          <p:spPr>
            <a:xfrm flipV="1">
              <a:off x="3809880" y="3352320"/>
              <a:ext cx="1410480" cy="267120"/>
            </a:xfrm>
            <a:prstGeom prst="bentConnector4">
              <a:avLst>
                <a:gd name="adj1" fmla="val 16211"/>
                <a:gd name="adj2" fmla="val 185829"/>
              </a:avLst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20" name=""/>
            <p:cNvCxnSpPr>
              <a:stCxn id="113" idx="2"/>
              <a:endCxn id="114" idx="0"/>
            </p:cNvCxnSpPr>
            <p:nvPr/>
          </p:nvCxnSpPr>
          <p:spPr>
            <a:xfrm rot="5400000">
              <a:off x="4342680" y="4000680"/>
              <a:ext cx="457920" cy="1296000"/>
            </a:xfrm>
            <a:prstGeom prst="bentConnector3">
              <a:avLst>
                <a:gd name="adj1" fmla="val 49960"/>
              </a:avLst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21" name=""/>
            <p:cNvCxnSpPr>
              <a:stCxn id="122" idx="0"/>
            </p:cNvCxnSpPr>
            <p:nvPr/>
          </p:nvCxnSpPr>
          <p:spPr>
            <a:xfrm flipV="1">
              <a:off x="8305920" y="2285280"/>
              <a:ext cx="2160" cy="160092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</a:ln>
          </p:spPr>
        </p:cxnSp>
        <p:cxnSp>
          <p:nvCxnSpPr>
            <p:cNvPr id="123" name=""/>
            <p:cNvCxnSpPr/>
            <p:nvPr/>
          </p:nvCxnSpPr>
          <p:spPr>
            <a:xfrm flipH="1">
              <a:off x="4571640" y="2285640"/>
              <a:ext cx="3734640" cy="108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124" name=""/>
            <p:cNvSpPr/>
            <p:nvPr/>
          </p:nvSpPr>
          <p:spPr>
            <a:xfrm>
              <a:off x="4419720" y="4572000"/>
              <a:ext cx="4572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81680" y="3733920"/>
              <a:ext cx="4572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72200" y="3886200"/>
              <a:ext cx="21337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14" idx="3"/>
              <a:endCxn id="115" idx="0"/>
            </p:cNvCxnSpPr>
            <p:nvPr/>
          </p:nvCxnSpPr>
          <p:spPr>
            <a:xfrm flipV="1">
              <a:off x="6248520" y="4266360"/>
              <a:ext cx="1296000" cy="839160"/>
            </a:xfrm>
            <a:prstGeom prst="bentConnector4">
              <a:avLst>
                <a:gd name="adj1" fmla="val 29397"/>
                <a:gd name="adj2" fmla="val 127253"/>
              </a:avLst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28" name=""/>
            <p:cNvCxnSpPr>
              <a:stCxn id="115" idx="6"/>
              <a:endCxn id="116" idx="0"/>
            </p:cNvCxnSpPr>
            <p:nvPr/>
          </p:nvCxnSpPr>
          <p:spPr>
            <a:xfrm flipH="1">
              <a:off x="7962480" y="4686480"/>
              <a:ext cx="115200" cy="800640"/>
            </a:xfrm>
            <a:prstGeom prst="bentConnector4">
              <a:avLst>
                <a:gd name="adj1" fmla="val -200000"/>
                <a:gd name="adj2" fmla="val 76158"/>
              </a:avLst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5F82-1FF8-4BC8-AABD-982920A74EF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76968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ttribute Selection in</a:t>
            </a:r>
            <a:br>
              <a:rPr sz="4400"/>
            </a:b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 Our Program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240" y="2590920"/>
            <a:ext cx="76201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-selected Attributes – Defined in the benchm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the DT building – Based on the </a:t>
            </a:r>
            <a:r>
              <a:rPr b="0" lang="en-US" sz="3200" spc="-1" strike="noStrike">
                <a:solidFill>
                  <a:srgbClr val="d54f41"/>
                </a:solidFill>
                <a:latin typeface="Times New Roman"/>
              </a:rPr>
              <a:t>Information 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choose the attribute with the highest information gain to split the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074A-0553-4DDF-8444-13A1C74C04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7999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iscretizat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rete vs. Continuous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ret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er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gor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6558-EFBF-4FAC-9FB1-EE7FAE3A083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ros And Cons of Discretizat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va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s the range of data-mining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s the Comprehensibility of the Data Ware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 reduction in the time taken to run the data mining algorithm to form decision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adva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the accuracy of discovered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E301-DEAD-4613-ACE9-79F5E86CCFE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2T15:48:42Z</dcterms:created>
  <dc:creator>NUS</dc:creator>
  <dc:description/>
  <dc:language>en-US</dc:language>
  <cp:lastModifiedBy>NUS</cp:lastModifiedBy>
  <dcterms:modified xsi:type="dcterms:W3CDTF">2002-05-15T07:42:12Z</dcterms:modified>
  <cp:revision>79</cp:revision>
  <dc:subject/>
  <dc:title>Parallelization Of Decision Trees</dc:title>
</cp:coreProperties>
</file>