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3BF-15A7-4986-BEA0-68E5277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726-869F-4ECB-950A-D10B6AC8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ECC-ABC8-4CDA-9F79-4FE730AB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2EF-4A75-4BCB-8162-5A1144DD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AAFD-6FD9-47A3-AF58-AEDCC0D7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29A9-AE98-4ACB-8FA2-B7BBF18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14DA-ED5A-4173-ACBB-468F811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019D-5521-4565-838D-4B2B556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132B-7019-44BD-893B-9EC7342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442B-749A-48D2-96FE-FE86F10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AA0-2E7E-45F5-87AB-2F8FF93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549-95CF-48C1-BEC7-9878815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0779-4D30-4ABC-A0DF-6759B0F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84B-2153-480A-BE28-EA187CF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1F91-F3B8-473F-BEC2-43FE5EBB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034-69B0-4CDB-8450-49D3F83C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5691-1C98-4358-97F3-8E227906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0CA-D2FE-4DDD-9EE4-6BC7083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41D-305C-411C-A903-2531DBE7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FFE-31D8-4CA2-B7C4-3589131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440-6621-400A-94F5-FDF78B3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AD1-D254-430A-9260-5CCEBDA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1A9-6875-41A5-A447-97721D5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600-C418-41DA-B547-EC1A57C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6AAC-7249-40D3-8F4F-D7D1B455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477-8C88-4837-8AB8-1FC5411D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0640"/>
            <a:ext cx="62481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Parallel Thinning Algorithm in Specific Facial Image Generation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572000"/>
            <a:ext cx="495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By Chen Yan (smap10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Wu Jie (smap10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Wu Wenjun (smap10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DP &amp; Grid Poi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ordination of feature points in neutral and expressional face to reconstruct the interpolation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terpolation function to get the new coordination of the grid points  in the expressional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eature points and grid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Flow of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acial Gener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new and old version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points to rebuil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ion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unction constructed in Part I to calculate the new version of grid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Flow of Facial Image Gener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2209680"/>
            <a:ext cx="7238880" cy="4191120"/>
            <a:chOff x="152280" y="2209680"/>
            <a:chExt cx="7238880" cy="4191120"/>
          </a:xfrm>
        </p:grpSpPr>
        <p:grpSp>
          <p:nvGrpSpPr>
            <p:cNvPr id="116" name=""/>
            <p:cNvGrpSpPr/>
            <p:nvPr/>
          </p:nvGrpSpPr>
          <p:grpSpPr>
            <a:xfrm>
              <a:off x="1600200" y="2209680"/>
              <a:ext cx="5790960" cy="4191120"/>
              <a:chOff x="1600200" y="2209680"/>
              <a:chExt cx="5790960" cy="4191120"/>
            </a:xfrm>
          </p:grpSpPr>
          <p:sp>
            <p:nvSpPr>
              <p:cNvPr id="117" name=""/>
              <p:cNvSpPr/>
              <p:nvPr/>
            </p:nvSpPr>
            <p:spPr>
              <a:xfrm>
                <a:off x="1600200" y="2209680"/>
                <a:ext cx="259056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riginal Coordin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f Feature Poi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4876560" y="2209680"/>
                <a:ext cx="243864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txBody>
              <a:bodyPr anchor="t">
                <a:normAutofit/>
              </a:bodyPr>
              <a:p>
                <a:pPr marL="343080" indent="0" algn="ctr">
                  <a:lnSpc>
                    <a:spcPct val="90000"/>
                  </a:lnSpc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0" algn="ctr">
                  <a:lnSpc>
                    <a:spcPct val="90000"/>
                  </a:lnSpc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w Coordin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0" algn="ctr">
                  <a:lnSpc>
                    <a:spcPct val="90000"/>
                  </a:lnSpc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f Feature Poi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00400" y="3581280"/>
                <a:ext cx="236196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olation Fun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43200" y="312408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4647600" y="312408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00200" y="5334120"/>
                <a:ext cx="259056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riginal Coordina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f Grid Poi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52880" y="5334120"/>
                <a:ext cx="24382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w Coordina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f Grid Poi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514600" y="4343400"/>
                <a:ext cx="12952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52880" y="4419720"/>
                <a:ext cx="9907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066680" y="2209680"/>
              <a:ext cx="381240" cy="198144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90920"/>
              <a:ext cx="8380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4191120"/>
              <a:ext cx="380880" cy="198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4572000"/>
              <a:ext cx="838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 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adial Basis Fun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AI to train neutr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respect to the distance between new data and ol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points are affected by feature points in terms of their d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F is suitable for the interpolation function for facial animation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rade-of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have more interpolation points, the function that is reconstructed by those points will be more sm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less the points, the less the amount of cal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make a trade off between the image quality and running time.</a:t>
            </a:r>
            <a:fld id="{42FF7F98-FEF3-4071-A96F-09D77F635B15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inning Algorith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purpose is to decrease the number of interpolation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unimportant points need to be removed to obtain a thinner interpolation points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oose those unimportant poin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rchitec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launay Triangual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om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uild the interpolation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y Parallize i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ial is divided into several parts, to parallize the generation of the new facial image is quite reason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o generate the animation is  so precious that we must decrease the calculation amount as much as we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Job Divi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 J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unay Triang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 Wenj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ning the interpo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 Y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and gene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cial imag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0260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ep 1: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880" y="33523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Delaunay 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of Facial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of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n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&amp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is D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iangulation is a subdivision of an area (volume) into triangles (tetrahedro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aunay triangulation has the property that the circumcircle (circumsphere) of every triangle (tetrahedron) does not contain any points of the triang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: Computation of neighbouring problems, Mesh generation for finite elemen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y D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aunay Triangulations are generated, thinning algorithm will be able to delete some points according to it and at the same time distributed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lgorith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2197080"/>
          <a:ext cx="369576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97080"/>
                    <a:ext cx="369576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76280" y="198108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mplement a parallel “Delaunay wall algorith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merge divide-and-conqu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simplex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vely compute the other poin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arallelize D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earchers are doing research on how to parallelize 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ir data are normal data and have n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ata are different. Human Facial data have important features: symmetric, position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mplement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the feature points among proces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 their positions on th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ried two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cessors: divide the data into symmetric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processors: near feature_points are put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mplementation-con’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to consider: Load 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Our division for 6 process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yebrow, forehead&gt;,&lt;ears&gt;,&lt;mouth&gt;,&lt;nose, cheek&gt;,&lt;eyes&gt;,&lt;teeth, ch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n’t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will be more likely to produce DT with the nea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enefi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st is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need to generate large numbers of facial data, it is absolutely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y experiment, 84*100 data, the run time in Sunfire (sequential) is double that in Beowu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ep 2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Th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inning the Se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get the delaunay triangulation, we can find out all of the neighbor point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x, we assume that x1…xk are its neighbor points in DT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7400" y="4495680"/>
                <a:ext cx="42148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⋯</m:t>
                            </m:r>
                            <m:r>
                              <m:t xml:space="preserve">k</m:t>
                            </m:r>
                          </m:lim>
                        </m:limLow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⋯</m:t>
                            </m:r>
                            <m:r>
                              <m:t xml:space="preserve">k</m:t>
                            </m:r>
                          </m:lim>
                        </m:limLow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move Poin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points that should satisfy the following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62120" y="3200400"/>
                <a:ext cx="655308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limLow>
                          <m:e/>
                          <m:lim/>
                        </m:limLow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and specification of the facial model of MPEG-4 is the hotsp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EG-4 provides facial animation system and related parameters to create a specific human fac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reate a specific fleshly human face image has been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69" name="fdp" descr=""/>
          <p:cNvPicPr/>
          <p:nvPr/>
        </p:nvPicPr>
        <p:blipFill>
          <a:blip r:embed="rId1"/>
          <a:stretch/>
        </p:blipFill>
        <p:spPr>
          <a:xfrm>
            <a:off x="0" y="2700360"/>
            <a:ext cx="4038480" cy="3244680"/>
          </a:xfrm>
          <a:prstGeom prst="rect">
            <a:avLst/>
          </a:prstGeom>
          <a:ln w="0">
            <a:noFill/>
          </a:ln>
        </p:spPr>
      </p:pic>
      <p:pic>
        <p:nvPicPr>
          <p:cNvPr id="170" name="fdpnew" descr=""/>
          <p:cNvPicPr/>
          <p:nvPr/>
        </p:nvPicPr>
        <p:blipFill>
          <a:blip r:embed="rId2"/>
          <a:stretch/>
        </p:blipFill>
        <p:spPr>
          <a:xfrm>
            <a:off x="4114800" y="2705040"/>
            <a:ext cx="4038480" cy="3245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08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hinning (84 f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209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inning (54 f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ep 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use feature points to compute other grid mesh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ccessive two frames, we know the position of feature points of them and old mesh grid points. We want to find a fast way to compute the new position of mesh grid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stract expression to be used to describe the relationship of points in two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onstruct polynomial interpolatio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give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polynomi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polynomial interpola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87640" y="2743200"/>
                <a:ext cx="52275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ew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ew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ew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ld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09680" y="4419720"/>
                <a:ext cx="4267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219320" y="516744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adial Basi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point: find prop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polynomi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523880" y="2895480"/>
                <a:ext cx="601992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Jocabi meth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arameters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i Iterativ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AX =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(L + D +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 = (L + D + U) 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X = - (L + U)X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(L + U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(L + U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 + b /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(L + D + U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 + b / D +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Jacobi meth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 iterativ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b – A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||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| &gt; e)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k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1 t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5120" y="3657600"/>
                <a:ext cx="3047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o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447920" y="4800600"/>
                <a:ext cx="152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248520" y="3962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limit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 of constructing polynomial interpola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BF or feature definition points is not appropriate, hard to fin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i method and other method can’t find parameters because of the il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other attemp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ttem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focus from pure math 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odel of musc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relationship and their effecti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and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acial Animation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EG 4 defined a face without any expression as the neutral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ial animation generation models are based on neutral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10120" y="1981080"/>
          <a:ext cx="3627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0120" y="1981080"/>
                    <a:ext cx="3627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our meth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 of coordinates change with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0" y="3048120"/>
                <a:ext cx="769608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atur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atur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219320" y="518148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the number of feature point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efficie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our meth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 of coordinates change with weight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" y="3276720"/>
                <a:ext cx="7467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ab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ri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atur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atur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ma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atur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mi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erpolation: our meth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 of coordinates change with weight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zed: simple, average workload to processors, few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89296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ests and Resul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Sour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ot MPEG-4 standard feature points and grid points of human face from USTC graphic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 randomly generate 100 frames data on the basis of standar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ample result 1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2" name="figure" descr=""/>
          <p:cNvPicPr/>
          <p:nvPr/>
        </p:nvPicPr>
        <p:blipFill>
          <a:blip r:embed="rId1"/>
          <a:stretch/>
        </p:blipFill>
        <p:spPr>
          <a:xfrm>
            <a:off x="1676520" y="2637000"/>
            <a:ext cx="4800600" cy="385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8080" y="1981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ust moved eye’s positions: (partial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ample result 2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5" name="face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341600" cy="4876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64008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just moved eye’s positions: (holistic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rial Resul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8" name="serialface" descr=""/>
          <p:cNvPicPr/>
          <p:nvPr/>
        </p:nvPicPr>
        <p:blipFill>
          <a:blip r:embed="rId1"/>
          <a:stretch/>
        </p:blipFill>
        <p:spPr>
          <a:xfrm>
            <a:off x="1447920" y="1612800"/>
            <a:ext cx="502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arallel Result (6 proc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20" name="paraface" descr=""/>
          <p:cNvPicPr/>
          <p:nvPr/>
        </p:nvPicPr>
        <p:blipFill>
          <a:blip r:embed="rId1"/>
          <a:stretch/>
        </p:blipFill>
        <p:spPr>
          <a:xfrm>
            <a:off x="1676520" y="1714680"/>
            <a:ext cx="444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arallel Result (2 proc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22" name="paraface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eature Poi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points are defined to represent those corresponding points in fleshly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feature points determine the main shape of a human 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expression facial image frame, the coordination of feature points will be different from those of neutral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points are divided into groups such as nose, mouth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peed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209680"/>
          <a:ext cx="6095880" cy="4114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4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30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r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1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0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pr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4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1143000" y="22096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peed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70000" y="2295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2295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57200" y="1828800"/>
          <a:ext cx="7162920" cy="462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28800"/>
                    <a:ext cx="71629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animation is suitable for parallization and need to be paral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formance is encour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ject makes full use of the natural feature of huma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knowledg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 Group from University of Science and Technology of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our results on the re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n grid points need to be re-divided based on the real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more processors to improve the speed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eature Points &amp; Points involved in F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ead.tmp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7315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acial Featur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ye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nose" descr=""/>
          <p:cNvPicPr/>
          <p:nvPr/>
        </p:nvPicPr>
        <p:blipFill>
          <a:blip r:embed="rId2"/>
          <a:stretch/>
        </p:blipFill>
        <p:spPr>
          <a:xfrm>
            <a:off x="4210200" y="2286000"/>
            <a:ext cx="1581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teeth" descr=""/>
          <p:cNvPicPr/>
          <p:nvPr/>
        </p:nvPicPr>
        <p:blipFill>
          <a:blip r:embed="rId3"/>
          <a:stretch/>
        </p:blipFill>
        <p:spPr>
          <a:xfrm>
            <a:off x="5943600" y="2590920"/>
            <a:ext cx="1523880" cy="1163520"/>
          </a:xfrm>
          <a:prstGeom prst="rect">
            <a:avLst/>
          </a:prstGeom>
          <a:ln w="0">
            <a:noFill/>
          </a:ln>
        </p:spPr>
      </p:pic>
      <p:pic>
        <p:nvPicPr>
          <p:cNvPr id="104" name="tongue" descr=""/>
          <p:cNvPicPr/>
          <p:nvPr/>
        </p:nvPicPr>
        <p:blipFill>
          <a:blip r:embed="rId4"/>
          <a:stretch/>
        </p:blipFill>
        <p:spPr>
          <a:xfrm>
            <a:off x="914400" y="4367160"/>
            <a:ext cx="2590920" cy="1347840"/>
          </a:xfrm>
          <a:prstGeom prst="rect">
            <a:avLst/>
          </a:prstGeom>
          <a:ln w="0">
            <a:noFill/>
          </a:ln>
        </p:spPr>
      </p:pic>
      <p:pic>
        <p:nvPicPr>
          <p:cNvPr id="105" name="mouth" descr=""/>
          <p:cNvPicPr/>
          <p:nvPr/>
        </p:nvPicPr>
        <p:blipFill>
          <a:blip r:embed="rId5"/>
          <a:stretch/>
        </p:blipFill>
        <p:spPr>
          <a:xfrm>
            <a:off x="3952800" y="4181400"/>
            <a:ext cx="34387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rid Poi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points can help to generate a fleshl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grid points in facial image are controlled by feature point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coordination of a new face, we can calculate the new coordination of grid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Interpol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al word a function is not a formula but a bunch of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cover a function from the bunch of dat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an approximation of the theoretic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best to match given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6:03:46Z</dcterms:created>
  <dc:creator>NUS</dc:creator>
  <dc:description/>
  <dc:language>en-US</dc:language>
  <cp:lastModifiedBy>NUS</cp:lastModifiedBy>
  <dcterms:modified xsi:type="dcterms:W3CDTF">2002-05-21T14:15:51Z</dcterms:modified>
  <cp:revision>25</cp:revision>
  <dc:subject/>
  <dc:title>Parallel Thinning Algorithm in Specific Facial Image Generation </dc:title>
</cp:coreProperties>
</file>