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7372-B3AA-4E39-B193-50026D15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2F4-CE78-4E9D-BAD3-5E7807DD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F82A-89CC-4E69-8161-435CC8F8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CC99-DA3A-48DF-BD97-6C280025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4130-CBBA-4B11-8677-0F89BC29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B070-171A-40BE-BFF9-39CDCDF5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17D2-46A5-400F-A71C-8B4B1EE2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981F-0D03-49B7-9DB9-7EE9FB49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4BC3-D797-4F02-9334-CCE70F99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8B63-A409-492B-BDF8-377E5980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3F4A-EE88-4FC7-BC4D-3544217D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8B47-DDC5-4C09-9DD8-353F7B83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1D24-A28D-41E5-9DA5-306A4238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2E70-2DA2-4A2A-8DD8-EE485352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560C-2A7B-49A7-9143-FC77A82D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2971-88BC-4FB1-8B3A-A2D0B2A8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EF81-6C02-44AB-B738-8F578E15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750-5DF0-4673-A6F3-7ACF2DCC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C3AC-A765-490C-B480-09E4A712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1FFD-CE10-4D9D-9DFF-52C4B68C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5EB5-856D-43E5-9167-DD6F733D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31F-A763-4D0B-ABEE-CD514DB4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261F-CD41-432A-909C-8D51C11B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A98-C130-47CE-8B61-EF83315B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2579-525D-4EB3-8F1D-37499FD14CB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131A-6359-4DC8-8379-407E658B29B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plorations into Internet Distributed Compu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Kunal Agrawal, Ang Huey Ting, Li Guoliang, and Kevin Ch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apevine Featu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ritten in Jav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metrized Task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er-task commun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lt Repor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tus Repor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-addressed Issu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SzPct val="1065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458c"/>
                </a:solidFill>
                <a:latin typeface="Tahoma"/>
              </a:rPr>
              <a:t>Node reliability</a:t>
            </a:r>
            <a:endParaRPr b="0" lang="en-US" sz="3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SzPct val="1065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458c"/>
                </a:solidFill>
                <a:latin typeface="Tahoma"/>
              </a:rPr>
              <a:t>Load Balancing</a:t>
            </a:r>
            <a:endParaRPr b="0" lang="en-US" sz="3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SzPct val="1065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458c"/>
                </a:solidFill>
                <a:latin typeface="Tahoma"/>
              </a:rPr>
              <a:t>Un-intrusive Operation</a:t>
            </a:r>
            <a:endParaRPr b="0" lang="en-US" sz="3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SzPct val="1065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458c"/>
                </a:solidFill>
                <a:latin typeface="Tahoma"/>
              </a:rPr>
              <a:t>Interruption Semantics</a:t>
            </a:r>
            <a:endParaRPr b="0" lang="en-US" sz="3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SzPct val="10651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458c"/>
                </a:solidFill>
                <a:latin typeface="Tahoma"/>
              </a:rPr>
              <a:t>Deadlock</a:t>
            </a:r>
            <a:endParaRPr b="0" lang="en-US" sz="3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ta Classifi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- Ang Huey Ting, Li Guolia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ifi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unction(instance) = {True,False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chine Learning Approac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uild a model on the training se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the model to classify new inst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ublicly available packages : WEKA(in java), MLC++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ta Classifi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sembly of class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ives better perform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wo ways of generating assembly of classifier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erent training data se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erent algorith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o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ilding Meta Classifi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fferent Train Datasets - Bag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ndomly generated ‘bags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lection  with replac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different ‘flavors’ of the training se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fferent Algorith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.g. Naïve Bayesian, Neural Net, SV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erent algorithms works well on different training se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y Parallelis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utationally in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e classifier = 0.5 h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a classifier (assembly of 10 classifiers) = 10 *0.5 = 5 h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tributed Environment - Grapevi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uild classifiers in parallel independent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ttle communication required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tributed Meta Classifier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KA-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machine learning packag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versity of Waikato, New Zealan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ttp://www.cs.waikato.ac.nz/~ml/weka/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lemented in Jav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cluding most popular machine learning too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Distributed Meta-Classifiers on Grapevin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SimSun"/>
              </a:rPr>
              <a:t>Distributed Bagging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SimSun"/>
              </a:rPr>
              <a:t>Generate different Bag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SimSun"/>
              </a:rPr>
              <a:t>Define bag and Algorithm for each tas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SimSun"/>
              </a:rPr>
              <a:t>Submit tasks to Grapevi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SimSun"/>
              </a:rPr>
              <a:t>Node build Class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SimSun"/>
              </a:rPr>
              <a:t>Receive result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SimSun"/>
              </a:rPr>
              <a:t>Perform voting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liminary Stud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gging on Quick Propagation in openM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lemented in 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ject 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sign and implement a simpl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net distributed computing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ame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are application development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for this environment with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traditional parallel computing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environmen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2" name="Construction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2286000" cy="1896840"/>
          </a:xfrm>
          <a:prstGeom prst="rect">
            <a:avLst/>
          </a:prstGeom>
          <a:ln w="0">
            <a:noFill/>
          </a:ln>
        </p:spPr>
      </p:pic>
      <p:pic>
        <p:nvPicPr>
          <p:cNvPr id="213" name="paintbrush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2539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ial Domai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nchmark corpus Reuters21578 for Text Categor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9000+ train docum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000+ test docum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90+ categor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form feature sel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process documents into feature vecto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uccessful internet distributed computing requires addressing many issues outside of traditional computer scienc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tributed computing is not for everyo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apev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 Internet Distributed Computing Framewor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- Kunal Agrawal, Kevin Ch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Tahoma"/>
              </a:rPr>
              <a:t>What is Internet Distributed Computing?</a:t>
            </a:r>
            <a:endParaRPr b="0" lang="en-US" sz="3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internet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48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Supercomputers are very expensive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Large numbers of personal computers and workstations around the world are naturally networked via the internet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Huge amounts of computational resources are wasted because many computers spend most of their time idle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Growing interest in grid computing technologies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Tahoma"/>
              </a:rPr>
              <a:t>Other Distributed Computing Efforts</a:t>
            </a:r>
            <a:endParaRPr b="0" lang="en-US" sz="3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3" name="seti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5715000" cy="1143000"/>
          </a:xfrm>
          <a:prstGeom prst="rect">
            <a:avLst/>
          </a:prstGeom>
          <a:ln w="0">
            <a:noFill/>
          </a:ln>
        </p:spPr>
      </p:pic>
      <p:pic>
        <p:nvPicPr>
          <p:cNvPr id="224" name="parabon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468520" cy="822600"/>
          </a:xfrm>
          <a:prstGeom prst="rect">
            <a:avLst/>
          </a:prstGeom>
          <a:ln w="0">
            <a:noFill/>
          </a:ln>
        </p:spPr>
      </p:pic>
      <p:pic>
        <p:nvPicPr>
          <p:cNvPr id="225" name="globus_top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5771880" cy="365040"/>
          </a:xfrm>
          <a:prstGeom prst="rect">
            <a:avLst/>
          </a:prstGeom>
          <a:ln w="0">
            <a:noFill/>
          </a:ln>
        </p:spPr>
      </p:pic>
      <p:pic>
        <p:nvPicPr>
          <p:cNvPr id="226" name="globus_bottom" descr=""/>
          <p:cNvPicPr/>
          <p:nvPr/>
        </p:nvPicPr>
        <p:blipFill>
          <a:blip r:embed="rId4"/>
          <a:stretch/>
        </p:blipFill>
        <p:spPr>
          <a:xfrm>
            <a:off x="990720" y="4479840"/>
            <a:ext cx="1531800" cy="435240"/>
          </a:xfrm>
          <a:prstGeom prst="rect">
            <a:avLst/>
          </a:prstGeom>
          <a:ln w="0">
            <a:noFill/>
          </a:ln>
        </p:spPr>
      </p:pic>
      <p:pic>
        <p:nvPicPr>
          <p:cNvPr id="227" name="alicebimba" descr=""/>
          <p:cNvPicPr/>
          <p:nvPr/>
        </p:nvPicPr>
        <p:blipFill>
          <a:blip r:embed="rId5"/>
          <a:stretch/>
        </p:blipFill>
        <p:spPr>
          <a:xfrm>
            <a:off x="7010280" y="4343400"/>
            <a:ext cx="1417680" cy="1406520"/>
          </a:xfrm>
          <a:prstGeom prst="rect">
            <a:avLst/>
          </a:prstGeom>
          <a:ln w="0">
            <a:noFill/>
          </a:ln>
        </p:spPr>
      </p:pic>
      <p:pic>
        <p:nvPicPr>
          <p:cNvPr id="228" name="Alice" descr=""/>
          <p:cNvPicPr/>
          <p:nvPr/>
        </p:nvPicPr>
        <p:blipFill>
          <a:blip r:embed="rId6"/>
          <a:stretch/>
        </p:blipFill>
        <p:spPr>
          <a:xfrm>
            <a:off x="573120" y="5867280"/>
            <a:ext cx="85708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Tahoma"/>
              </a:rPr>
              <a:t>Internet Distributed Computing Issues</a:t>
            </a:r>
            <a:endParaRPr b="0" lang="en-US" sz="3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s relia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work qua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alabilit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ur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oss platform portability of object c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uting Paradigm Shif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verview Of Grapev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971800" y="380880"/>
            <a:ext cx="3429000" cy="9907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ent Applica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1905120"/>
            <a:ext cx="2667240" cy="1523880"/>
          </a:xfrm>
          <a:prstGeom prst="rect">
            <a:avLst/>
          </a:prstGeom>
          <a:solidFill>
            <a:srgbClr val="ecd882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rapevin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rv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4800600"/>
            <a:ext cx="2286000" cy="1600200"/>
          </a:xfrm>
          <a:prstGeom prst="rect">
            <a:avLst/>
          </a:prstGeom>
          <a:solidFill>
            <a:srgbClr val="800080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rapevin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olunte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4648320"/>
            <a:ext cx="2362320" cy="1828800"/>
          </a:xfrm>
          <a:prstGeom prst="rect">
            <a:avLst/>
          </a:prstGeom>
          <a:solidFill>
            <a:srgbClr val="800080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rapevin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olunte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4419720"/>
            <a:ext cx="2667240" cy="2057400"/>
          </a:xfrm>
          <a:prstGeom prst="rect">
            <a:avLst/>
          </a:prstGeom>
          <a:solidFill>
            <a:srgbClr val="800080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rapevin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olunte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267080" y="1447920"/>
            <a:ext cx="838080" cy="380880"/>
            <a:chOff x="4267080" y="1447920"/>
            <a:chExt cx="838080" cy="380880"/>
          </a:xfrm>
        </p:grpSpPr>
        <p:sp>
          <p:nvSpPr>
            <p:cNvPr id="239" name=""/>
            <p:cNvSpPr/>
            <p:nvPr/>
          </p:nvSpPr>
          <p:spPr>
            <a:xfrm>
              <a:off x="4724280" y="144792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67080" y="14479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343400" y="3581280"/>
            <a:ext cx="838080" cy="457200"/>
            <a:chOff x="4343400" y="3581280"/>
            <a:chExt cx="838080" cy="457200"/>
          </a:xfrm>
        </p:grpSpPr>
        <p:sp>
          <p:nvSpPr>
            <p:cNvPr id="242" name=""/>
            <p:cNvSpPr/>
            <p:nvPr/>
          </p:nvSpPr>
          <p:spPr>
            <a:xfrm>
              <a:off x="4800600" y="3581280"/>
              <a:ext cx="380880" cy="457200"/>
            </a:xfrm>
            <a:prstGeom prst="upArrow">
              <a:avLst>
                <a:gd name="adj1" fmla="val 50000"/>
                <a:gd name="adj2" fmla="val 30009"/>
              </a:avLst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43400" y="3581280"/>
              <a:ext cx="380880" cy="457200"/>
            </a:xfrm>
            <a:prstGeom prst="downArrow">
              <a:avLst>
                <a:gd name="adj1" fmla="val 50000"/>
                <a:gd name="adj2" fmla="val 30009"/>
              </a:avLst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cxnSp>
        <p:nvCxnSpPr>
          <p:cNvPr id="244" name=""/>
          <p:cNvCxnSpPr/>
          <p:nvPr/>
        </p:nvCxnSpPr>
        <p:spPr>
          <a:xfrm>
            <a:off x="380520" y="4191120"/>
            <a:ext cx="8535240" cy="2160"/>
          </a:xfrm>
          <a:prstGeom prst="straightConnector1">
            <a:avLst/>
          </a:prstGeom>
          <a:ln w="57240">
            <a:solidFill>
              <a:srgbClr val="40458c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15:18:44Z</dcterms:created>
  <dc:creator>NUS</dc:creator>
  <dc:description/>
  <dc:language>en-US</dc:language>
  <cp:lastModifiedBy>Kevin Chu</cp:lastModifiedBy>
  <dcterms:modified xsi:type="dcterms:W3CDTF">2002-05-13T21:02:33Z</dcterms:modified>
  <cp:revision>33</cp:revision>
  <dc:subject/>
  <dc:title>Grapevine</dc:title>
</cp:coreProperties>
</file>