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174288" cy="75057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3233880" y="506520"/>
            <a:ext cx="3427200" cy="25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FuturaA Md BT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318680" y="3203280"/>
            <a:ext cx="7255080" cy="30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406920"/>
            <a:ext cx="4287960" cy="3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605560" y="6406920"/>
            <a:ext cx="4287600" cy="3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09C014-E030-4D3C-94E9-C673CE30E8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3233880" y="506520"/>
            <a:ext cx="3427200" cy="2528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318680" y="3203280"/>
            <a:ext cx="7255080" cy="30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rce node attempts to reserve the desired wavelength on each link in the route by sending a separate control message to each node in the route. Each node that receives a reservation request message will attempt to reserve the specified wavelength, and will send either a positive or negative acknowledgment back to the source. If the source node receives positive acknowledgements from all of the nodes, it can use this wavelength and communicate with the dest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1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10020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1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10020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480" y="-63360"/>
            <a:ext cx="10159920" cy="763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A Md B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9000"/>
          </a:bodyPr>
          <a:p>
            <a:pPr marL="282960" indent="-28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1031040" indent="-1789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3" marL="1412640" indent="-19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Font typeface="CentSchbook BT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4" marL="1794600" indent="-19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5" marL="1794600" indent="-19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6" marL="1794600" indent="-19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829120" y="7198920"/>
            <a:ext cx="4343400" cy="3063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  <a:defRPr b="0" lang="fr-FR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uturaA Bk BT"/>
              </a:rPr>
              <a:t>SMA 5505  May.13, 2002 - Page </a:t>
            </a:r>
            <a:fld id="{BE801DC1-3DA4-4AFA-AA62-92535D4056F9}" type="slidenum">
              <a:rPr b="0" lang="fr-FR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32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72800" rIns="10116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FuturaA Md BT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6095880" y="6934320"/>
            <a:ext cx="3810240" cy="342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ctr">
              <a:spcBef>
                <a:spcPts val="938"/>
              </a:spcBef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938"/>
              </a:spcBef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SMA 5505   May14,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08680" y="1756080"/>
            <a:ext cx="915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0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lvl="1" marL="284472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3035160" indent="-231120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3" marL="3225960" indent="-250200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CentSchbook BT"/>
              <a:buChar char="–"/>
              <a:tabLst>
                <a:tab algn="l" pos="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Schbook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Schbook BT"/>
            </a:endParaRPr>
          </a:p>
          <a:p>
            <a:pPr lvl="4" marL="3416400" indent="-269244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Schbook It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Schbook It BT"/>
            </a:endParaRPr>
          </a:p>
          <a:p>
            <a:pPr lvl="5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Schbook It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Schbook It BT"/>
            </a:endParaRPr>
          </a:p>
          <a:p>
            <a:pPr lvl="6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Schbook It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Schbook I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10.jpe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0.jpe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3049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ulation of a Parallel Computing Routing Algorithm for IP/DWDM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25780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Y Group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334120"/>
            <a:ext cx="495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Keng Teck (smap1079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5791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Ou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Hanyan     (smap105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6248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Yu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Jia          (smap106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r>
              <a:rPr b="0" lang="en-US" sz="2800" spc="-1" strike="noStrike">
                <a:solidFill>
                  <a:srgbClr val="000000"/>
                </a:solidFill>
                <a:latin typeface="FuturaA Md B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8645760" cy="44276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used 14 processors on a cluster machine to simulate  14 IP networks, each of which is connected to 14 OXC nodes.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IP network is composed of 5000 routers or clients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r>
              <a:rPr b="0" lang="en-US" sz="2800" spc="-1" strike="noStrike">
                <a:solidFill>
                  <a:srgbClr val="000000"/>
                </a:solidFill>
                <a:latin typeface="FuturaA Md B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645400" cy="3124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81000"/>
          </a:bodyPr>
          <a:p>
            <a:pPr marL="231480" indent="-2314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processor controls 1 OXC equipment and knows the 14-node optical network topology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-2314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quest may cover different networks. Typical one is IP network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ptical network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P network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-2314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llel wavelength reservation (use MPI)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3148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P/DWDM Network Design and Optical Routing Algorith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u Jia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Design (By Yu Jia)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not a pure computation problem, and we hope to obey to the IP network and Optical Network constraints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Network Data Structures, O-O (Object Oriented) 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outer, OXC, Link, Fiber(optical), Path, LightPath, IP Network, Optical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P Network and Optical Network Initialization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645400" cy="35053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Compute routes in Optical Network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DIJKSTRA algorithm, Priority Queue, etc to find shortest path. If we need to find backup disjoint path, just remove the links in the primary path and compute a secondary path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8645400" cy="45036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Maintain and update the resource information in the IP network and Optical Network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computing a request, scan through the data to remove the links that don’t have enough bandwidth or wavelength, and assign costs to links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each request, store the lightpath to the OXC to save recomputing for next request which uses same destination OXC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tain Lightpath in Edge Router</a:t>
            </a:r>
            <a:endParaRPr b="0" lang="en-US" sz="32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1760" y="3344760"/>
            <a:ext cx="8645400" cy="381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0402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62640" y="293688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275000" y="2386080"/>
            <a:ext cx="1234440" cy="980640"/>
            <a:chOff x="4275000" y="2386080"/>
            <a:chExt cx="1234440" cy="980640"/>
          </a:xfrm>
        </p:grpSpPr>
        <p:sp>
          <p:nvSpPr>
            <p:cNvPr id="442" name=""/>
            <p:cNvSpPr/>
            <p:nvPr/>
          </p:nvSpPr>
          <p:spPr>
            <a:xfrm>
              <a:off x="4275000" y="2386080"/>
              <a:ext cx="1234440" cy="980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54701"/>
                </a:gs>
                <a:gs pos="100000">
                  <a:srgbClr val="fe9b0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38440" y="2521440"/>
              <a:ext cx="947880" cy="214560"/>
              <a:chOff x="4438440" y="2521440"/>
              <a:chExt cx="947880" cy="214560"/>
            </a:xfrm>
          </p:grpSpPr>
          <p:sp>
            <p:nvSpPr>
              <p:cNvPr id="444" name=""/>
              <p:cNvSpPr/>
              <p:nvPr/>
            </p:nvSpPr>
            <p:spPr>
              <a:xfrm>
                <a:off x="4458960" y="2521440"/>
                <a:ext cx="927360" cy="208440"/>
              </a:xfrm>
              <a:custGeom>
                <a:avLst/>
                <a:gdLst/>
                <a:ahLst/>
                <a:rect l="l" t="t" r="r" b="b"/>
                <a:pathLst>
                  <a:path w="273" h="90">
                    <a:moveTo>
                      <a:pt x="0" y="0"/>
                    </a:moveTo>
                    <a:lnTo>
                      <a:pt x="60" y="0"/>
                    </a:lnTo>
                    <a:lnTo>
                      <a:pt x="198" y="90"/>
                    </a:lnTo>
                    <a:lnTo>
                      <a:pt x="273" y="90"/>
                    </a:lnTo>
                  </a:path>
                </a:pathLst>
              </a:custGeom>
              <a:gradFill rotWithShape="0">
                <a:gsLst>
                  <a:gs pos="0">
                    <a:srgbClr val="754701"/>
                  </a:gs>
                  <a:gs pos="100000">
                    <a:srgbClr val="fe9b03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438440" y="2527200"/>
                <a:ext cx="927360" cy="208440"/>
              </a:xfrm>
              <a:custGeom>
                <a:avLst/>
                <a:gdLst/>
                <a:ahLst/>
                <a:rect l="l" t="t" r="r" b="b"/>
                <a:pathLst>
                  <a:path w="273" h="90">
                    <a:moveTo>
                      <a:pt x="0" y="0"/>
                    </a:moveTo>
                    <a:lnTo>
                      <a:pt x="60" y="0"/>
                    </a:lnTo>
                    <a:lnTo>
                      <a:pt x="198" y="90"/>
                    </a:lnTo>
                    <a:lnTo>
                      <a:pt x="273" y="90"/>
                    </a:lnTo>
                  </a:path>
                </a:pathLst>
              </a:custGeom>
              <a:gradFill rotWithShape="0">
                <a:gsLst>
                  <a:gs pos="0">
                    <a:srgbClr val="754701"/>
                  </a:gs>
                  <a:gs pos="100000">
                    <a:srgbClr val="fe9b03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101600" y="2936880"/>
            <a:ext cx="3159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2160" y="2419200"/>
            <a:ext cx="3214800" cy="3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33560" y="2419200"/>
            <a:ext cx="136692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54000" y="242568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, 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7920" y="197316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63120" y="27925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3640" y="3889440"/>
            <a:ext cx="2668680" cy="75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03400" y="4919760"/>
            <a:ext cx="3000600" cy="211428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94600" y="4032360"/>
            <a:ext cx="122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going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60720" y="5559480"/>
            <a:ext cx="1201680" cy="29376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2400" y="5559480"/>
            <a:ext cx="1200240" cy="29376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60720" y="5853240"/>
            <a:ext cx="120168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2400" y="5853240"/>
            <a:ext cx="120024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60720" y="6148440"/>
            <a:ext cx="1201680" cy="49212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2400" y="6148440"/>
            <a:ext cx="1200240" cy="49212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720" y="6640560"/>
            <a:ext cx="120168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2400" y="6640560"/>
            <a:ext cx="120024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60720" y="5264280"/>
            <a:ext cx="120168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2400" y="5264280"/>
            <a:ext cx="1200240" cy="2952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5960" y="5223240"/>
            <a:ext cx="128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Dest-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41880" y="5234400"/>
            <a:ext cx="126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72840" y="4933800"/>
            <a:ext cx="186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Comic Sans MS"/>
              </a:rPr>
              <a:t>Lightpa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268880" y="4652640"/>
            <a:ext cx="0" cy="266760"/>
          </a:xfrm>
          <a:prstGeom prst="line">
            <a:avLst/>
          </a:prstGeom>
          <a:ln w="284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11480" y="4299120"/>
            <a:ext cx="74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95520" y="3943440"/>
            <a:ext cx="18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ing Lookup Data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4880" y="558180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Rout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09600" y="58770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Rou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08160" y="666900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Router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4560" y="559116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Path1 (G,R,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00480" y="5881680"/>
            <a:ext cx="14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Path 2 (G,R,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83200" y="6680160"/>
            <a:ext cx="13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omic Sans MS"/>
              </a:rPr>
              <a:t>Path4(G,R,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49560" y="2978280"/>
            <a:ext cx="373320" cy="809640"/>
          </a:xfrm>
          <a:prstGeom prst="triangle">
            <a:avLst>
              <a:gd name="adj" fmla="val 10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11680" y="4299120"/>
            <a:ext cx="749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6240600"/>
            <a:ext cx="0" cy="380880"/>
          </a:xfrm>
          <a:prstGeom prst="line">
            <a:avLst/>
          </a:prstGeom>
          <a:ln w="1260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6240600"/>
            <a:ext cx="0" cy="380880"/>
          </a:xfrm>
          <a:prstGeom prst="line">
            <a:avLst/>
          </a:prstGeom>
          <a:ln w="1260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Lazy Release of resources: put the active requests to  queues which use same ligthpath. Whenever a new request comes in and request using this lightpath, OXC will check the timestamps of the requests stored in the queue. If they are outdated, delete them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P Network Routing with ILP solver and network topology generation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 Han yan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P layer topology generation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2201760"/>
            <a:ext cx="8645400" cy="381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opology for each IP network on each node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 for topology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dge is bidirectional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pair of nodes have a path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715680" cy="609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2362320"/>
            <a:ext cx="8629560" cy="4572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ct val="100000"/>
              </a:lnSpc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ct val="100000"/>
              </a:lnSpc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P/DWDM Network Design and Optical Routing Algorithms (By Yu Jia)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ct val="100000"/>
              </a:lnSpc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P Network Routing with ILP solver and network topology generation (By Hanyan)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ct val="100000"/>
              </a:lnSpc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tical Communication Protocol and GUI (B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 Keng Teck) 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ct val="100000"/>
              </a:lnSpc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request type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645400" cy="3124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equests on each node, there are two types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request: source and destination are in one IP net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local request = one IP reques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request: source and dest are in two IP ne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global  = two IP requests+one Optical reques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5257800"/>
            <a:ext cx="8458200" cy="1305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We generate random request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parallel</a:t>
            </a:r>
            <a:r>
              <a:rPr b="0" lang="en-US" sz="2800" spc="-1" strike="noStrike">
                <a:solidFill>
                  <a:srgbClr val="000000"/>
                </a:solidFill>
                <a:latin typeface="FuturaA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in IP network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late global requests to local requests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lculate its local requests independently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in Optical network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ate lightpaths independently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SWAP to communicate and coordinat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(if Sequential)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645400" cy="4579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se 100 global requests from IP net 1 to IP net 2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in IP network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 with requests one by on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800" y="4495680"/>
            <a:ext cx="7010280" cy="2057400"/>
            <a:chOff x="685800" y="4495680"/>
            <a:chExt cx="7010280" cy="2057400"/>
          </a:xfrm>
        </p:grpSpPr>
        <p:sp>
          <p:nvSpPr>
            <p:cNvPr id="495" name=""/>
            <p:cNvSpPr/>
            <p:nvPr/>
          </p:nvSpPr>
          <p:spPr>
            <a:xfrm>
              <a:off x="685800" y="4495680"/>
              <a:ext cx="2209680" cy="2057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6400" y="4495680"/>
              <a:ext cx="2209680" cy="2057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V="1">
            <a:off x="1295280" y="4495680"/>
            <a:ext cx="457200" cy="1447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48520" y="4572000"/>
            <a:ext cx="304560" cy="1371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4572000"/>
            <a:ext cx="228600" cy="1828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4572000"/>
            <a:ext cx="685800" cy="19051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44956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6781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6629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8120" y="3733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58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721720" cy="4579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se 100 global requests from IP net 1 to IP net 2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in IP layer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 with requests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572000"/>
            <a:ext cx="4191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85800" y="4495680"/>
            <a:ext cx="6477120" cy="2057400"/>
            <a:chOff x="685800" y="4495680"/>
            <a:chExt cx="6477120" cy="2057400"/>
          </a:xfrm>
        </p:grpSpPr>
        <p:sp>
          <p:nvSpPr>
            <p:cNvPr id="511" name=""/>
            <p:cNvSpPr/>
            <p:nvPr/>
          </p:nvSpPr>
          <p:spPr>
            <a:xfrm>
              <a:off x="4952880" y="4495680"/>
              <a:ext cx="2210040" cy="2057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4495680"/>
              <a:ext cx="2209680" cy="2057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319040" y="4495680"/>
            <a:ext cx="5462280" cy="1905120"/>
            <a:chOff x="1319040" y="4495680"/>
            <a:chExt cx="5462280" cy="1905120"/>
          </a:xfrm>
        </p:grpSpPr>
        <p:grpSp>
          <p:nvGrpSpPr>
            <p:cNvPr id="514" name=""/>
            <p:cNvGrpSpPr/>
            <p:nvPr/>
          </p:nvGrpSpPr>
          <p:grpSpPr>
            <a:xfrm>
              <a:off x="1319040" y="4495680"/>
              <a:ext cx="1043280" cy="1905120"/>
              <a:chOff x="1319040" y="4495680"/>
              <a:chExt cx="1043280" cy="1905120"/>
            </a:xfrm>
          </p:grpSpPr>
          <p:sp>
            <p:nvSpPr>
              <p:cNvPr id="515" name=""/>
              <p:cNvSpPr/>
              <p:nvPr/>
            </p:nvSpPr>
            <p:spPr>
              <a:xfrm>
                <a:off x="1752480" y="4572000"/>
                <a:ext cx="609840" cy="1523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319040" y="4495680"/>
                <a:ext cx="433440" cy="13716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52480" y="4572000"/>
                <a:ext cx="228600" cy="1828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5562360" y="4572000"/>
              <a:ext cx="1218960" cy="1752480"/>
              <a:chOff x="5562360" y="4572000"/>
              <a:chExt cx="1218960" cy="1752480"/>
            </a:xfrm>
          </p:grpSpPr>
          <p:sp>
            <p:nvSpPr>
              <p:cNvPr id="519" name=""/>
              <p:cNvSpPr/>
              <p:nvPr/>
            </p:nvSpPr>
            <p:spPr>
              <a:xfrm>
                <a:off x="6095880" y="4572000"/>
                <a:ext cx="0" cy="1371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562360" y="4572000"/>
                <a:ext cx="456840" cy="1447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71840" y="4572000"/>
                <a:ext cx="609480" cy="17524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457200" y="6781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6781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1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43200" y="3809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in parallel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route the IP requests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the global requests destination to according nodes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the global requests destination from other nodes and translate to local IP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lculates the routing path for local requests in parallel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645400" cy="381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ILP to solve routing problem in IP layer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P is more flexible than shortest path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get the optimal paths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645400" cy="4876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can be formulated as the following ILP problem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162160" cy="7621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358164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733920" y="5943600"/>
                <a:ext cx="990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645400" cy="4876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want to find one primary path and one backup path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FuturaA Bk B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1981080" cy="5904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3810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first, we want to use parallel ILP solver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ree parallel ILP solver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free sequential ILP solver(its author:Michel Berkelaar)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is ILP solver can’t run on every node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make the solver run on each node to calculate in paralle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645400" cy="381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9000"/>
          </a:bodyPr>
          <a:p>
            <a:pPr marL="282960" indent="-28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method to make ILP solver run on each  node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shell script like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#!/bin/sh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sh compute-0-0 ./lp_solve &lt; ./test0.lp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sh compute-0-1 ./lp_solve &lt; ./test1.lp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sh compute-0-2 ./lp_solve &lt; ./test2.lp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optical?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645400" cy="4275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ndle increase in IP traffic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ore’s law doesn’t apply her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84: 50Mbps, 2001: 6.4Tbps~10Tbps/fiber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duce cost of transmitting a bi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st/bit down by 99% in last 5 years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able new applications and services by pushing optics towards the edges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in IP network using IL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method to make ILP solver run on each  node: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 the source code of the ILP solver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the ILP solver as a module of our program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tunately, we succeed in this method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8580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36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901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WAP (Simple Wavelength Assignment Protocol)</a:t>
            </a:r>
            <a:endParaRPr b="0" lang="en-US" sz="36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 algn="ctr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 Keng Teck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A Md BT"/>
              </a:rPr>
              <a:t>Implementation Details: (</a:t>
            </a:r>
            <a:r>
              <a:rPr b="1" lang="en-US" sz="2800" spc="-1" strike="noStrike">
                <a:solidFill>
                  <a:srgbClr val="000000"/>
                </a:solidFill>
                <a:latin typeface="FuturaA Md BT"/>
                <a:ea typeface="Times New Roman"/>
              </a:rPr>
              <a:t>NSF network</a:t>
            </a:r>
            <a:r>
              <a:rPr b="1" lang="en-US" sz="2800" spc="-1" strike="noStrike">
                <a:solidFill>
                  <a:srgbClr val="000000"/>
                </a:solidFill>
                <a:latin typeface="FuturaA Md BT"/>
              </a:rPr>
              <a:t> topology)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49" name=""/>
          <p:cNvSpPr/>
          <p:nvPr/>
        </p:nvSpPr>
        <p:spPr>
          <a:xfrm>
            <a:off x="2343240" y="2495520"/>
            <a:ext cx="1017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33520" y="2133720"/>
          <a:ext cx="92199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9219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length-continuity Constraint</a:t>
            </a:r>
            <a:endParaRPr b="0" lang="en-US" sz="32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78000"/>
          </a:bodyPr>
          <a:p>
            <a:pPr marL="222840" indent="-222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absence of wavelength conversion devices (too expensive), a lightpath must occupy the same wavelength on each link in its route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22840" indent="-222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WA: Routing + Wavelength Assignmen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522360" indent="-150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522360" indent="-150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5223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5562720"/>
            <a:ext cx="9067680" cy="1218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Comic Sans MS"/>
              </a:rPr>
              <a:t>We applied dynamic lightpath establishment with parallel wavelength reserv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length Routing</a:t>
            </a:r>
            <a:endParaRPr b="0" lang="en-US" sz="32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7912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112760" y="2819520"/>
            <a:ext cx="4449960" cy="3123720"/>
            <a:chOff x="1112760" y="2819520"/>
            <a:chExt cx="4449960" cy="3123720"/>
          </a:xfrm>
        </p:grpSpPr>
        <p:sp>
          <p:nvSpPr>
            <p:cNvPr id="558" name=""/>
            <p:cNvSpPr/>
            <p:nvPr/>
          </p:nvSpPr>
          <p:spPr>
            <a:xfrm>
              <a:off x="5011560" y="3545640"/>
              <a:ext cx="0" cy="18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4960" y="2884320"/>
              <a:ext cx="3085560" cy="1514160"/>
            </a:xfrm>
            <a:custGeom>
              <a:avLst/>
              <a:gdLst/>
              <a:ahLst/>
              <a:rect l="l" t="t" r="r" b="b"/>
              <a:pathLst>
                <a:path w="2016" h="840">
                  <a:moveTo>
                    <a:pt x="0" y="840"/>
                  </a:moveTo>
                  <a:cubicBezTo>
                    <a:pt x="264" y="540"/>
                    <a:pt x="528" y="240"/>
                    <a:pt x="864" y="120"/>
                  </a:cubicBezTo>
                  <a:cubicBezTo>
                    <a:pt x="1200" y="0"/>
                    <a:pt x="1824" y="120"/>
                    <a:pt x="2016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704960" y="3511800"/>
              <a:ext cx="110232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27240" y="3511800"/>
              <a:ext cx="0" cy="18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13520" y="4809240"/>
              <a:ext cx="1193760" cy="7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90520" y="2949480"/>
              <a:ext cx="662040" cy="61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62360" y="3096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39320" y="3295080"/>
              <a:ext cx="2057400" cy="2034000"/>
            </a:xfrm>
            <a:custGeom>
              <a:avLst/>
              <a:gdLst/>
              <a:ahLst/>
              <a:rect l="l" t="t" r="r" b="b"/>
              <a:pathLst>
                <a:path w="1344" h="1128">
                  <a:moveTo>
                    <a:pt x="192" y="1128"/>
                  </a:moveTo>
                  <a:cubicBezTo>
                    <a:pt x="192" y="1068"/>
                    <a:pt x="192" y="1008"/>
                    <a:pt x="192" y="840"/>
                  </a:cubicBezTo>
                  <a:cubicBezTo>
                    <a:pt x="192" y="672"/>
                    <a:pt x="0" y="240"/>
                    <a:pt x="192" y="120"/>
                  </a:cubicBezTo>
                  <a:cubicBezTo>
                    <a:pt x="384" y="0"/>
                    <a:pt x="1152" y="120"/>
                    <a:pt x="1344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54160" y="351180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12760" y="4194720"/>
              <a:ext cx="660600" cy="614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86600" y="2911320"/>
              <a:ext cx="660960" cy="61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07280" y="5329080"/>
              <a:ext cx="660960" cy="614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90520" y="5329080"/>
              <a:ext cx="662040" cy="614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47920" y="3252240"/>
              <a:ext cx="154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68600" y="5588640"/>
              <a:ext cx="13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47920" y="2819520"/>
              <a:ext cx="2314800" cy="2422800"/>
            </a:xfrm>
            <a:custGeom>
              <a:avLst/>
              <a:gdLst/>
              <a:ahLst/>
              <a:rect l="l" t="t" r="r" b="b"/>
              <a:pathLst>
                <a:path w="1512" h="1344">
                  <a:moveTo>
                    <a:pt x="0" y="192"/>
                  </a:moveTo>
                  <a:cubicBezTo>
                    <a:pt x="540" y="96"/>
                    <a:pt x="1080" y="0"/>
                    <a:pt x="1296" y="192"/>
                  </a:cubicBezTo>
                  <a:cubicBezTo>
                    <a:pt x="1512" y="384"/>
                    <a:pt x="1296" y="1152"/>
                    <a:pt x="1296" y="13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32240" y="524232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603840" y="2925720"/>
            <a:ext cx="2159280" cy="3017520"/>
            <a:chOff x="6603840" y="2925720"/>
            <a:chExt cx="2159280" cy="3017520"/>
          </a:xfrm>
        </p:grpSpPr>
        <p:sp>
          <p:nvSpPr>
            <p:cNvPr id="576" name=""/>
            <p:cNvSpPr/>
            <p:nvPr/>
          </p:nvSpPr>
          <p:spPr>
            <a:xfrm>
              <a:off x="6603840" y="2925720"/>
              <a:ext cx="2159280" cy="30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ghtpath on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velenth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ghtpath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velenth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ghtpath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velenth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69800" y="315756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69800" y="402804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69800" y="518868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UP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5000"/>
          </a:bodyPr>
          <a:p>
            <a:pPr marL="271440" indent="-2714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phase protocol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71440" indent="-2714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hase: SETUP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36120" indent="-183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: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89280" indent="-1717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rved Free Wavelength Se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89280" indent="-1717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Reserved Wavelength Se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36120" indent="-183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: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89280" indent="-1717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’s Free Wavelength S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ceived Reserved Wavelength Se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89280" indent="-1717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rved new set of Wavelengths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89280" indent="-1717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the new set to next in rout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714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645400" cy="4808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89000"/>
          </a:bodyPr>
          <a:p>
            <a:pPr lvl="1" marL="596160" indent="-1720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 : 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1 wavelength from Received Free Wavelength Set 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COMMIT to previous node in route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54160" indent="-2541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hase: COMMI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596160" indent="-17208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y back committed Wavelength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 Reserved Wavelength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 Wavelength as COMMITED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596160" indent="-17208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-16092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, but can start sending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2" marL="926640" indent="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54160" indent="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y RELEASE Message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lvl="1" marL="669960" indent="-1936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ease COMMITTED Wavelengths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700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ded in MPI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700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PI to simulate control messages in network</a:t>
            </a: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0020600" cy="91440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phical User Interface</a:t>
            </a:r>
            <a:endParaRPr b="0" lang="en-US" sz="36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va Interface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municate via Unix Pipe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Reality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97" name=""/>
          <p:cNvSpPr/>
          <p:nvPr/>
        </p:nvSpPr>
        <p:spPr>
          <a:xfrm>
            <a:off x="863640" y="5070600"/>
            <a:ext cx="7920" cy="4680"/>
          </a:xfrm>
          <a:custGeom>
            <a:avLst/>
            <a:gdLst/>
            <a:ahLst/>
            <a:rect l="l" t="t" r="r" b="b"/>
            <a:pathLst>
              <a:path w="14" h="9">
                <a:moveTo>
                  <a:pt x="14" y="0"/>
                </a:moveTo>
                <a:lnTo>
                  <a:pt x="0" y="9"/>
                </a:lnTo>
                <a:lnTo>
                  <a:pt x="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34840" y="2742480"/>
            <a:ext cx="2445840" cy="3648960"/>
            <a:chOff x="4434840" y="2742480"/>
            <a:chExt cx="2445840" cy="3648960"/>
          </a:xfrm>
        </p:grpSpPr>
        <p:sp>
          <p:nvSpPr>
            <p:cNvPr id="99" name=""/>
            <p:cNvSpPr/>
            <p:nvPr/>
          </p:nvSpPr>
          <p:spPr>
            <a:xfrm rot="237000">
              <a:off x="4552920" y="2814120"/>
              <a:ext cx="2209680" cy="3504960"/>
            </a:xfrm>
            <a:custGeom>
              <a:avLst/>
              <a:gdLst/>
              <a:ahLst/>
              <a:rect l="l" t="t" r="r" b="b"/>
              <a:pathLst>
                <a:path w="732" h="352">
                  <a:moveTo>
                    <a:pt x="80" y="147"/>
                  </a:moveTo>
                  <a:lnTo>
                    <a:pt x="61" y="150"/>
                  </a:lnTo>
                  <a:lnTo>
                    <a:pt x="45" y="158"/>
                  </a:lnTo>
                  <a:lnTo>
                    <a:pt x="30" y="166"/>
                  </a:lnTo>
                  <a:lnTo>
                    <a:pt x="18" y="178"/>
                  </a:lnTo>
                  <a:lnTo>
                    <a:pt x="8" y="189"/>
                  </a:lnTo>
                  <a:lnTo>
                    <a:pt x="2" y="202"/>
                  </a:lnTo>
                  <a:lnTo>
                    <a:pt x="0" y="216"/>
                  </a:lnTo>
                  <a:lnTo>
                    <a:pt x="0" y="232"/>
                  </a:lnTo>
                  <a:lnTo>
                    <a:pt x="2" y="240"/>
                  </a:lnTo>
                  <a:lnTo>
                    <a:pt x="5" y="246"/>
                  </a:lnTo>
                  <a:lnTo>
                    <a:pt x="10" y="253"/>
                  </a:lnTo>
                  <a:lnTo>
                    <a:pt x="14" y="261"/>
                  </a:lnTo>
                  <a:lnTo>
                    <a:pt x="29" y="272"/>
                  </a:lnTo>
                  <a:lnTo>
                    <a:pt x="46" y="283"/>
                  </a:lnTo>
                  <a:lnTo>
                    <a:pt x="67" y="291"/>
                  </a:lnTo>
                  <a:lnTo>
                    <a:pt x="91" y="298"/>
                  </a:lnTo>
                  <a:lnTo>
                    <a:pt x="115" y="301"/>
                  </a:lnTo>
                  <a:lnTo>
                    <a:pt x="139" y="301"/>
                  </a:lnTo>
                  <a:lnTo>
                    <a:pt x="149" y="310"/>
                  </a:lnTo>
                  <a:lnTo>
                    <a:pt x="160" y="320"/>
                  </a:lnTo>
                  <a:lnTo>
                    <a:pt x="173" y="326"/>
                  </a:lnTo>
                  <a:lnTo>
                    <a:pt x="187" y="333"/>
                  </a:lnTo>
                  <a:lnTo>
                    <a:pt x="203" y="339"/>
                  </a:lnTo>
                  <a:lnTo>
                    <a:pt x="219" y="342"/>
                  </a:lnTo>
                  <a:lnTo>
                    <a:pt x="238" y="344"/>
                  </a:lnTo>
                  <a:lnTo>
                    <a:pt x="258" y="344"/>
                  </a:lnTo>
                  <a:lnTo>
                    <a:pt x="278" y="342"/>
                  </a:lnTo>
                  <a:lnTo>
                    <a:pt x="298" y="339"/>
                  </a:lnTo>
                  <a:lnTo>
                    <a:pt x="317" y="333"/>
                  </a:lnTo>
                  <a:lnTo>
                    <a:pt x="333" y="326"/>
                  </a:lnTo>
                  <a:lnTo>
                    <a:pt x="347" y="334"/>
                  </a:lnTo>
                  <a:lnTo>
                    <a:pt x="363" y="341"/>
                  </a:lnTo>
                  <a:lnTo>
                    <a:pt x="381" y="347"/>
                  </a:lnTo>
                  <a:lnTo>
                    <a:pt x="401" y="350"/>
                  </a:lnTo>
                  <a:lnTo>
                    <a:pt x="422" y="352"/>
                  </a:lnTo>
                  <a:lnTo>
                    <a:pt x="443" y="352"/>
                  </a:lnTo>
                  <a:lnTo>
                    <a:pt x="465" y="350"/>
                  </a:lnTo>
                  <a:lnTo>
                    <a:pt x="488" y="346"/>
                  </a:lnTo>
                  <a:lnTo>
                    <a:pt x="523" y="334"/>
                  </a:lnTo>
                  <a:lnTo>
                    <a:pt x="553" y="320"/>
                  </a:lnTo>
                  <a:lnTo>
                    <a:pt x="577" y="302"/>
                  </a:lnTo>
                  <a:lnTo>
                    <a:pt x="589" y="293"/>
                  </a:lnTo>
                  <a:lnTo>
                    <a:pt x="597" y="282"/>
                  </a:lnTo>
                  <a:lnTo>
                    <a:pt x="633" y="277"/>
                  </a:lnTo>
                  <a:lnTo>
                    <a:pt x="662" y="267"/>
                  </a:lnTo>
                  <a:lnTo>
                    <a:pt x="686" y="258"/>
                  </a:lnTo>
                  <a:lnTo>
                    <a:pt x="705" y="246"/>
                  </a:lnTo>
                  <a:lnTo>
                    <a:pt x="718" y="234"/>
                  </a:lnTo>
                  <a:lnTo>
                    <a:pt x="728" y="219"/>
                  </a:lnTo>
                  <a:lnTo>
                    <a:pt x="729" y="213"/>
                  </a:lnTo>
                  <a:lnTo>
                    <a:pt x="731" y="206"/>
                  </a:lnTo>
                  <a:lnTo>
                    <a:pt x="732" y="200"/>
                  </a:lnTo>
                  <a:lnTo>
                    <a:pt x="731" y="192"/>
                  </a:lnTo>
                  <a:lnTo>
                    <a:pt x="728" y="179"/>
                  </a:lnTo>
                  <a:lnTo>
                    <a:pt x="721" y="168"/>
                  </a:lnTo>
                  <a:lnTo>
                    <a:pt x="713" y="157"/>
                  </a:lnTo>
                  <a:lnTo>
                    <a:pt x="704" y="147"/>
                  </a:lnTo>
                  <a:lnTo>
                    <a:pt x="693" y="139"/>
                  </a:lnTo>
                  <a:lnTo>
                    <a:pt x="680" y="133"/>
                  </a:lnTo>
                  <a:lnTo>
                    <a:pt x="651" y="122"/>
                  </a:lnTo>
                  <a:lnTo>
                    <a:pt x="653" y="112"/>
                  </a:lnTo>
                  <a:lnTo>
                    <a:pt x="653" y="102"/>
                  </a:lnTo>
                  <a:lnTo>
                    <a:pt x="653" y="94"/>
                  </a:lnTo>
                  <a:lnTo>
                    <a:pt x="649" y="88"/>
                  </a:lnTo>
                  <a:lnTo>
                    <a:pt x="643" y="74"/>
                  </a:lnTo>
                  <a:lnTo>
                    <a:pt x="632" y="61"/>
                  </a:lnTo>
                  <a:lnTo>
                    <a:pt x="619" y="50"/>
                  </a:lnTo>
                  <a:lnTo>
                    <a:pt x="601" y="40"/>
                  </a:lnTo>
                  <a:lnTo>
                    <a:pt x="584" y="34"/>
                  </a:lnTo>
                  <a:lnTo>
                    <a:pt x="563" y="30"/>
                  </a:lnTo>
                  <a:lnTo>
                    <a:pt x="541" y="29"/>
                  </a:lnTo>
                  <a:lnTo>
                    <a:pt x="515" y="32"/>
                  </a:lnTo>
                  <a:lnTo>
                    <a:pt x="493" y="40"/>
                  </a:lnTo>
                  <a:lnTo>
                    <a:pt x="480" y="30"/>
                  </a:lnTo>
                  <a:lnTo>
                    <a:pt x="467" y="22"/>
                  </a:lnTo>
                  <a:lnTo>
                    <a:pt x="451" y="16"/>
                  </a:lnTo>
                  <a:lnTo>
                    <a:pt x="433" y="10"/>
                  </a:lnTo>
                  <a:lnTo>
                    <a:pt x="397" y="2"/>
                  </a:lnTo>
                  <a:lnTo>
                    <a:pt x="354" y="0"/>
                  </a:lnTo>
                  <a:lnTo>
                    <a:pt x="309" y="5"/>
                  </a:lnTo>
                  <a:lnTo>
                    <a:pt x="270" y="14"/>
                  </a:lnTo>
                  <a:lnTo>
                    <a:pt x="254" y="22"/>
                  </a:lnTo>
                  <a:lnTo>
                    <a:pt x="238" y="30"/>
                  </a:lnTo>
                  <a:lnTo>
                    <a:pt x="226" y="40"/>
                  </a:lnTo>
                  <a:lnTo>
                    <a:pt x="216" y="50"/>
                  </a:lnTo>
                  <a:lnTo>
                    <a:pt x="190" y="46"/>
                  </a:lnTo>
                  <a:lnTo>
                    <a:pt x="163" y="48"/>
                  </a:lnTo>
                  <a:lnTo>
                    <a:pt x="142" y="53"/>
                  </a:lnTo>
                  <a:lnTo>
                    <a:pt x="123" y="59"/>
                  </a:lnTo>
                  <a:lnTo>
                    <a:pt x="107" y="69"/>
                  </a:lnTo>
                  <a:lnTo>
                    <a:pt x="94" y="82"/>
                  </a:lnTo>
                  <a:lnTo>
                    <a:pt x="85" y="94"/>
                  </a:lnTo>
                  <a:lnTo>
                    <a:pt x="78" y="109"/>
                  </a:lnTo>
                  <a:lnTo>
                    <a:pt x="77" y="123"/>
                  </a:lnTo>
                  <a:lnTo>
                    <a:pt x="77" y="131"/>
                  </a:lnTo>
                  <a:lnTo>
                    <a:pt x="78" y="139"/>
                  </a:lnTo>
                  <a:lnTo>
                    <a:pt x="80" y="146"/>
                  </a:lnTo>
                  <a:lnTo>
                    <a:pt x="80" y="14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2be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18474600">
              <a:off x="4492800" y="4192560"/>
              <a:ext cx="669960" cy="74160"/>
            </a:xfrm>
            <a:prstGeom prst="rightArrow">
              <a:avLst>
                <a:gd name="adj1" fmla="val 50000"/>
                <a:gd name="adj2" fmla="val 22585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300800">
              <a:off x="4633200" y="4719240"/>
              <a:ext cx="1400040" cy="7632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847840" y="4947840"/>
              <a:ext cx="314280" cy="416160"/>
              <a:chOff x="5847840" y="4947840"/>
              <a:chExt cx="314280" cy="41616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48200" y="4947840"/>
                <a:ext cx="313920" cy="4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flipH="1" flipV="1">
                <a:off x="5847840" y="4989240"/>
                <a:ext cx="158760" cy="1803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5847840" y="5073480"/>
                <a:ext cx="158760" cy="10944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847840" y="5183280"/>
                <a:ext cx="158760" cy="838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5847840" y="5128560"/>
                <a:ext cx="158760" cy="54720"/>
              </a:xfrm>
              <a:prstGeom prst="line">
                <a:avLst/>
              </a:prstGeom>
              <a:ln w="7632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47840" y="5183280"/>
                <a:ext cx="158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48200" y="4947840"/>
                <a:ext cx="0" cy="3758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085720" y="5405040"/>
              <a:ext cx="314280" cy="417600"/>
              <a:chOff x="5085720" y="5405040"/>
              <a:chExt cx="314280" cy="417600"/>
            </a:xfrm>
          </p:grpSpPr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86080" y="5405040"/>
                <a:ext cx="313920" cy="4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flipH="1" flipV="1">
                <a:off x="5085720" y="5446440"/>
                <a:ext cx="158760" cy="1810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085720" y="5531040"/>
                <a:ext cx="158760" cy="11016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5085720" y="5641200"/>
                <a:ext cx="158760" cy="838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5085720" y="5586480"/>
                <a:ext cx="158760" cy="54720"/>
              </a:xfrm>
              <a:prstGeom prst="line">
                <a:avLst/>
              </a:prstGeom>
              <a:ln w="7632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5085720" y="5641200"/>
                <a:ext cx="158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86080" y="5405040"/>
                <a:ext cx="0" cy="376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47840" y="3576240"/>
              <a:ext cx="314280" cy="417600"/>
              <a:chOff x="5847840" y="3576240"/>
              <a:chExt cx="314280" cy="417600"/>
            </a:xfrm>
          </p:grpSpPr>
          <p:pic>
            <p:nvPicPr>
              <p:cNvPr id="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8200" y="3576240"/>
                <a:ext cx="313920" cy="4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flipH="1" flipV="1">
                <a:off x="5847840" y="3617640"/>
                <a:ext cx="158760" cy="1810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5847840" y="3702240"/>
                <a:ext cx="158760" cy="11016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847840" y="3812400"/>
                <a:ext cx="158760" cy="838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5847840" y="3757680"/>
                <a:ext cx="158760" cy="54720"/>
              </a:xfrm>
              <a:prstGeom prst="line">
                <a:avLst/>
              </a:prstGeom>
              <a:ln w="7632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847840" y="3812400"/>
                <a:ext cx="158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48200" y="3576240"/>
                <a:ext cx="0" cy="376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857120" y="3576240"/>
              <a:ext cx="314280" cy="417600"/>
              <a:chOff x="4857120" y="3576240"/>
              <a:chExt cx="314280" cy="417600"/>
            </a:xfrm>
          </p:grpSpPr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57480" y="3576240"/>
                <a:ext cx="313920" cy="4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flipH="1" flipV="1">
                <a:off x="4857120" y="3617640"/>
                <a:ext cx="158760" cy="1810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4857120" y="3702240"/>
                <a:ext cx="158760" cy="11016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857120" y="3812400"/>
                <a:ext cx="158760" cy="838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4857120" y="3757680"/>
                <a:ext cx="158760" cy="54720"/>
              </a:xfrm>
              <a:prstGeom prst="line">
                <a:avLst/>
              </a:prstGeom>
              <a:ln w="7632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857120" y="3812400"/>
                <a:ext cx="158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57480" y="3576240"/>
                <a:ext cx="0" cy="376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 rot="8240400">
              <a:off x="5903640" y="4924440"/>
              <a:ext cx="685440" cy="75960"/>
            </a:xfrm>
            <a:prstGeom prst="rightArrow">
              <a:avLst>
                <a:gd name="adj1" fmla="val 50000"/>
                <a:gd name="adj2" fmla="val 225592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1300800">
              <a:off x="5009760" y="4185360"/>
              <a:ext cx="1400040" cy="7596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3741600">
              <a:off x="4284360" y="5003280"/>
              <a:ext cx="1066680" cy="7560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21451200">
              <a:off x="5082840" y="3728520"/>
              <a:ext cx="761760" cy="8208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3741600">
              <a:off x="5886000" y="4070880"/>
              <a:ext cx="762120" cy="7596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7640600">
              <a:off x="4796280" y="4627800"/>
              <a:ext cx="1704960" cy="9000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 rot="19596600">
              <a:off x="5322240" y="5244480"/>
              <a:ext cx="669600" cy="74160"/>
            </a:xfrm>
            <a:prstGeom prst="rightArrow">
              <a:avLst>
                <a:gd name="adj1" fmla="val 50000"/>
                <a:gd name="adj2" fmla="val 225728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4990200">
              <a:off x="4376520" y="4641840"/>
              <a:ext cx="1447560" cy="75960"/>
            </a:xfrm>
            <a:prstGeom prst="rightArrow">
              <a:avLst>
                <a:gd name="adj1" fmla="val 100000"/>
                <a:gd name="adj2" fmla="val 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21537600">
            <a:off x="1961640" y="2128320"/>
            <a:ext cx="1390680" cy="4653000"/>
          </a:xfrm>
          <a:custGeom>
            <a:avLst/>
            <a:gdLst/>
            <a:ahLst/>
            <a:rect l="l" t="t" r="r" b="b"/>
            <a:pathLst>
              <a:path w="732" h="352">
                <a:moveTo>
                  <a:pt x="80" y="147"/>
                </a:moveTo>
                <a:lnTo>
                  <a:pt x="61" y="150"/>
                </a:lnTo>
                <a:lnTo>
                  <a:pt x="45" y="158"/>
                </a:lnTo>
                <a:lnTo>
                  <a:pt x="30" y="166"/>
                </a:lnTo>
                <a:lnTo>
                  <a:pt x="18" y="178"/>
                </a:lnTo>
                <a:lnTo>
                  <a:pt x="8" y="189"/>
                </a:lnTo>
                <a:lnTo>
                  <a:pt x="2" y="202"/>
                </a:lnTo>
                <a:lnTo>
                  <a:pt x="0" y="216"/>
                </a:lnTo>
                <a:lnTo>
                  <a:pt x="0" y="232"/>
                </a:lnTo>
                <a:lnTo>
                  <a:pt x="2" y="240"/>
                </a:lnTo>
                <a:lnTo>
                  <a:pt x="5" y="246"/>
                </a:lnTo>
                <a:lnTo>
                  <a:pt x="10" y="253"/>
                </a:lnTo>
                <a:lnTo>
                  <a:pt x="14" y="261"/>
                </a:lnTo>
                <a:lnTo>
                  <a:pt x="29" y="272"/>
                </a:lnTo>
                <a:lnTo>
                  <a:pt x="46" y="283"/>
                </a:lnTo>
                <a:lnTo>
                  <a:pt x="67" y="291"/>
                </a:lnTo>
                <a:lnTo>
                  <a:pt x="91" y="298"/>
                </a:lnTo>
                <a:lnTo>
                  <a:pt x="115" y="301"/>
                </a:lnTo>
                <a:lnTo>
                  <a:pt x="139" y="301"/>
                </a:lnTo>
                <a:lnTo>
                  <a:pt x="149" y="310"/>
                </a:lnTo>
                <a:lnTo>
                  <a:pt x="160" y="320"/>
                </a:lnTo>
                <a:lnTo>
                  <a:pt x="173" y="326"/>
                </a:lnTo>
                <a:lnTo>
                  <a:pt x="187" y="333"/>
                </a:lnTo>
                <a:lnTo>
                  <a:pt x="203" y="339"/>
                </a:lnTo>
                <a:lnTo>
                  <a:pt x="219" y="342"/>
                </a:lnTo>
                <a:lnTo>
                  <a:pt x="238" y="344"/>
                </a:lnTo>
                <a:lnTo>
                  <a:pt x="258" y="344"/>
                </a:lnTo>
                <a:lnTo>
                  <a:pt x="278" y="342"/>
                </a:lnTo>
                <a:lnTo>
                  <a:pt x="298" y="339"/>
                </a:lnTo>
                <a:lnTo>
                  <a:pt x="317" y="333"/>
                </a:lnTo>
                <a:lnTo>
                  <a:pt x="333" y="326"/>
                </a:lnTo>
                <a:lnTo>
                  <a:pt x="347" y="334"/>
                </a:lnTo>
                <a:lnTo>
                  <a:pt x="363" y="341"/>
                </a:lnTo>
                <a:lnTo>
                  <a:pt x="381" y="347"/>
                </a:lnTo>
                <a:lnTo>
                  <a:pt x="401" y="350"/>
                </a:lnTo>
                <a:lnTo>
                  <a:pt x="422" y="352"/>
                </a:lnTo>
                <a:lnTo>
                  <a:pt x="443" y="352"/>
                </a:lnTo>
                <a:lnTo>
                  <a:pt x="465" y="350"/>
                </a:lnTo>
                <a:lnTo>
                  <a:pt x="488" y="346"/>
                </a:lnTo>
                <a:lnTo>
                  <a:pt x="523" y="334"/>
                </a:lnTo>
                <a:lnTo>
                  <a:pt x="553" y="320"/>
                </a:lnTo>
                <a:lnTo>
                  <a:pt x="577" y="302"/>
                </a:lnTo>
                <a:lnTo>
                  <a:pt x="589" y="293"/>
                </a:lnTo>
                <a:lnTo>
                  <a:pt x="597" y="282"/>
                </a:lnTo>
                <a:lnTo>
                  <a:pt x="633" y="277"/>
                </a:lnTo>
                <a:lnTo>
                  <a:pt x="662" y="267"/>
                </a:lnTo>
                <a:lnTo>
                  <a:pt x="686" y="258"/>
                </a:lnTo>
                <a:lnTo>
                  <a:pt x="705" y="246"/>
                </a:lnTo>
                <a:lnTo>
                  <a:pt x="718" y="234"/>
                </a:lnTo>
                <a:lnTo>
                  <a:pt x="728" y="219"/>
                </a:lnTo>
                <a:lnTo>
                  <a:pt x="729" y="213"/>
                </a:lnTo>
                <a:lnTo>
                  <a:pt x="731" y="206"/>
                </a:lnTo>
                <a:lnTo>
                  <a:pt x="732" y="200"/>
                </a:lnTo>
                <a:lnTo>
                  <a:pt x="731" y="192"/>
                </a:lnTo>
                <a:lnTo>
                  <a:pt x="728" y="179"/>
                </a:lnTo>
                <a:lnTo>
                  <a:pt x="721" y="168"/>
                </a:lnTo>
                <a:lnTo>
                  <a:pt x="713" y="157"/>
                </a:lnTo>
                <a:lnTo>
                  <a:pt x="704" y="147"/>
                </a:lnTo>
                <a:lnTo>
                  <a:pt x="693" y="139"/>
                </a:lnTo>
                <a:lnTo>
                  <a:pt x="680" y="133"/>
                </a:lnTo>
                <a:lnTo>
                  <a:pt x="651" y="122"/>
                </a:lnTo>
                <a:lnTo>
                  <a:pt x="653" y="112"/>
                </a:lnTo>
                <a:lnTo>
                  <a:pt x="653" y="102"/>
                </a:lnTo>
                <a:lnTo>
                  <a:pt x="653" y="94"/>
                </a:lnTo>
                <a:lnTo>
                  <a:pt x="649" y="88"/>
                </a:lnTo>
                <a:lnTo>
                  <a:pt x="643" y="74"/>
                </a:lnTo>
                <a:lnTo>
                  <a:pt x="632" y="61"/>
                </a:lnTo>
                <a:lnTo>
                  <a:pt x="619" y="50"/>
                </a:lnTo>
                <a:lnTo>
                  <a:pt x="601" y="40"/>
                </a:lnTo>
                <a:lnTo>
                  <a:pt x="584" y="34"/>
                </a:lnTo>
                <a:lnTo>
                  <a:pt x="563" y="30"/>
                </a:lnTo>
                <a:lnTo>
                  <a:pt x="541" y="29"/>
                </a:lnTo>
                <a:lnTo>
                  <a:pt x="515" y="32"/>
                </a:lnTo>
                <a:lnTo>
                  <a:pt x="493" y="40"/>
                </a:lnTo>
                <a:lnTo>
                  <a:pt x="480" y="30"/>
                </a:lnTo>
                <a:lnTo>
                  <a:pt x="467" y="22"/>
                </a:lnTo>
                <a:lnTo>
                  <a:pt x="451" y="16"/>
                </a:lnTo>
                <a:lnTo>
                  <a:pt x="433" y="10"/>
                </a:lnTo>
                <a:lnTo>
                  <a:pt x="397" y="2"/>
                </a:lnTo>
                <a:lnTo>
                  <a:pt x="354" y="0"/>
                </a:lnTo>
                <a:lnTo>
                  <a:pt x="309" y="5"/>
                </a:lnTo>
                <a:lnTo>
                  <a:pt x="270" y="14"/>
                </a:lnTo>
                <a:lnTo>
                  <a:pt x="254" y="22"/>
                </a:lnTo>
                <a:lnTo>
                  <a:pt x="238" y="30"/>
                </a:lnTo>
                <a:lnTo>
                  <a:pt x="226" y="40"/>
                </a:lnTo>
                <a:lnTo>
                  <a:pt x="216" y="50"/>
                </a:lnTo>
                <a:lnTo>
                  <a:pt x="190" y="46"/>
                </a:lnTo>
                <a:lnTo>
                  <a:pt x="163" y="48"/>
                </a:lnTo>
                <a:lnTo>
                  <a:pt x="142" y="53"/>
                </a:lnTo>
                <a:lnTo>
                  <a:pt x="123" y="59"/>
                </a:lnTo>
                <a:lnTo>
                  <a:pt x="107" y="69"/>
                </a:lnTo>
                <a:lnTo>
                  <a:pt x="94" y="82"/>
                </a:lnTo>
                <a:lnTo>
                  <a:pt x="85" y="94"/>
                </a:lnTo>
                <a:lnTo>
                  <a:pt x="78" y="109"/>
                </a:lnTo>
                <a:lnTo>
                  <a:pt x="77" y="123"/>
                </a:lnTo>
                <a:lnTo>
                  <a:pt x="77" y="131"/>
                </a:lnTo>
                <a:lnTo>
                  <a:pt x="78" y="139"/>
                </a:lnTo>
                <a:lnTo>
                  <a:pt x="80" y="146"/>
                </a:lnTo>
                <a:lnTo>
                  <a:pt x="80" y="14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ae5f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2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537600">
            <a:off x="7752960" y="2280960"/>
            <a:ext cx="1390680" cy="4653000"/>
          </a:xfrm>
          <a:custGeom>
            <a:avLst/>
            <a:gdLst/>
            <a:ahLst/>
            <a:rect l="l" t="t" r="r" b="b"/>
            <a:pathLst>
              <a:path w="732" h="352">
                <a:moveTo>
                  <a:pt x="80" y="147"/>
                </a:moveTo>
                <a:lnTo>
                  <a:pt x="61" y="150"/>
                </a:lnTo>
                <a:lnTo>
                  <a:pt x="45" y="158"/>
                </a:lnTo>
                <a:lnTo>
                  <a:pt x="30" y="166"/>
                </a:lnTo>
                <a:lnTo>
                  <a:pt x="18" y="178"/>
                </a:lnTo>
                <a:lnTo>
                  <a:pt x="8" y="189"/>
                </a:lnTo>
                <a:lnTo>
                  <a:pt x="2" y="202"/>
                </a:lnTo>
                <a:lnTo>
                  <a:pt x="0" y="216"/>
                </a:lnTo>
                <a:lnTo>
                  <a:pt x="0" y="232"/>
                </a:lnTo>
                <a:lnTo>
                  <a:pt x="2" y="240"/>
                </a:lnTo>
                <a:lnTo>
                  <a:pt x="5" y="246"/>
                </a:lnTo>
                <a:lnTo>
                  <a:pt x="10" y="253"/>
                </a:lnTo>
                <a:lnTo>
                  <a:pt x="14" y="261"/>
                </a:lnTo>
                <a:lnTo>
                  <a:pt x="29" y="272"/>
                </a:lnTo>
                <a:lnTo>
                  <a:pt x="46" y="283"/>
                </a:lnTo>
                <a:lnTo>
                  <a:pt x="67" y="291"/>
                </a:lnTo>
                <a:lnTo>
                  <a:pt x="91" y="298"/>
                </a:lnTo>
                <a:lnTo>
                  <a:pt x="115" y="301"/>
                </a:lnTo>
                <a:lnTo>
                  <a:pt x="139" y="301"/>
                </a:lnTo>
                <a:lnTo>
                  <a:pt x="149" y="310"/>
                </a:lnTo>
                <a:lnTo>
                  <a:pt x="160" y="320"/>
                </a:lnTo>
                <a:lnTo>
                  <a:pt x="173" y="326"/>
                </a:lnTo>
                <a:lnTo>
                  <a:pt x="187" y="333"/>
                </a:lnTo>
                <a:lnTo>
                  <a:pt x="203" y="339"/>
                </a:lnTo>
                <a:lnTo>
                  <a:pt x="219" y="342"/>
                </a:lnTo>
                <a:lnTo>
                  <a:pt x="238" y="344"/>
                </a:lnTo>
                <a:lnTo>
                  <a:pt x="258" y="344"/>
                </a:lnTo>
                <a:lnTo>
                  <a:pt x="278" y="342"/>
                </a:lnTo>
                <a:lnTo>
                  <a:pt x="298" y="339"/>
                </a:lnTo>
                <a:lnTo>
                  <a:pt x="317" y="333"/>
                </a:lnTo>
                <a:lnTo>
                  <a:pt x="333" y="326"/>
                </a:lnTo>
                <a:lnTo>
                  <a:pt x="347" y="334"/>
                </a:lnTo>
                <a:lnTo>
                  <a:pt x="363" y="341"/>
                </a:lnTo>
                <a:lnTo>
                  <a:pt x="381" y="347"/>
                </a:lnTo>
                <a:lnTo>
                  <a:pt x="401" y="350"/>
                </a:lnTo>
                <a:lnTo>
                  <a:pt x="422" y="352"/>
                </a:lnTo>
                <a:lnTo>
                  <a:pt x="443" y="352"/>
                </a:lnTo>
                <a:lnTo>
                  <a:pt x="465" y="350"/>
                </a:lnTo>
                <a:lnTo>
                  <a:pt x="488" y="346"/>
                </a:lnTo>
                <a:lnTo>
                  <a:pt x="523" y="334"/>
                </a:lnTo>
                <a:lnTo>
                  <a:pt x="553" y="320"/>
                </a:lnTo>
                <a:lnTo>
                  <a:pt x="577" y="302"/>
                </a:lnTo>
                <a:lnTo>
                  <a:pt x="589" y="293"/>
                </a:lnTo>
                <a:lnTo>
                  <a:pt x="597" y="282"/>
                </a:lnTo>
                <a:lnTo>
                  <a:pt x="633" y="277"/>
                </a:lnTo>
                <a:lnTo>
                  <a:pt x="662" y="267"/>
                </a:lnTo>
                <a:lnTo>
                  <a:pt x="686" y="258"/>
                </a:lnTo>
                <a:lnTo>
                  <a:pt x="705" y="246"/>
                </a:lnTo>
                <a:lnTo>
                  <a:pt x="718" y="234"/>
                </a:lnTo>
                <a:lnTo>
                  <a:pt x="728" y="219"/>
                </a:lnTo>
                <a:lnTo>
                  <a:pt x="729" y="213"/>
                </a:lnTo>
                <a:lnTo>
                  <a:pt x="731" y="206"/>
                </a:lnTo>
                <a:lnTo>
                  <a:pt x="732" y="200"/>
                </a:lnTo>
                <a:lnTo>
                  <a:pt x="731" y="192"/>
                </a:lnTo>
                <a:lnTo>
                  <a:pt x="728" y="179"/>
                </a:lnTo>
                <a:lnTo>
                  <a:pt x="721" y="168"/>
                </a:lnTo>
                <a:lnTo>
                  <a:pt x="713" y="157"/>
                </a:lnTo>
                <a:lnTo>
                  <a:pt x="704" y="147"/>
                </a:lnTo>
                <a:lnTo>
                  <a:pt x="693" y="139"/>
                </a:lnTo>
                <a:lnTo>
                  <a:pt x="680" y="133"/>
                </a:lnTo>
                <a:lnTo>
                  <a:pt x="651" y="122"/>
                </a:lnTo>
                <a:lnTo>
                  <a:pt x="653" y="112"/>
                </a:lnTo>
                <a:lnTo>
                  <a:pt x="653" y="102"/>
                </a:lnTo>
                <a:lnTo>
                  <a:pt x="653" y="94"/>
                </a:lnTo>
                <a:lnTo>
                  <a:pt x="649" y="88"/>
                </a:lnTo>
                <a:lnTo>
                  <a:pt x="643" y="74"/>
                </a:lnTo>
                <a:lnTo>
                  <a:pt x="632" y="61"/>
                </a:lnTo>
                <a:lnTo>
                  <a:pt x="619" y="50"/>
                </a:lnTo>
                <a:lnTo>
                  <a:pt x="601" y="40"/>
                </a:lnTo>
                <a:lnTo>
                  <a:pt x="584" y="34"/>
                </a:lnTo>
                <a:lnTo>
                  <a:pt x="563" y="30"/>
                </a:lnTo>
                <a:lnTo>
                  <a:pt x="541" y="29"/>
                </a:lnTo>
                <a:lnTo>
                  <a:pt x="515" y="32"/>
                </a:lnTo>
                <a:lnTo>
                  <a:pt x="493" y="40"/>
                </a:lnTo>
                <a:lnTo>
                  <a:pt x="480" y="30"/>
                </a:lnTo>
                <a:lnTo>
                  <a:pt x="467" y="22"/>
                </a:lnTo>
                <a:lnTo>
                  <a:pt x="451" y="16"/>
                </a:lnTo>
                <a:lnTo>
                  <a:pt x="433" y="10"/>
                </a:lnTo>
                <a:lnTo>
                  <a:pt x="397" y="2"/>
                </a:lnTo>
                <a:lnTo>
                  <a:pt x="354" y="0"/>
                </a:lnTo>
                <a:lnTo>
                  <a:pt x="309" y="5"/>
                </a:lnTo>
                <a:lnTo>
                  <a:pt x="270" y="14"/>
                </a:lnTo>
                <a:lnTo>
                  <a:pt x="254" y="22"/>
                </a:lnTo>
                <a:lnTo>
                  <a:pt x="238" y="30"/>
                </a:lnTo>
                <a:lnTo>
                  <a:pt x="226" y="40"/>
                </a:lnTo>
                <a:lnTo>
                  <a:pt x="216" y="50"/>
                </a:lnTo>
                <a:lnTo>
                  <a:pt x="190" y="46"/>
                </a:lnTo>
                <a:lnTo>
                  <a:pt x="163" y="48"/>
                </a:lnTo>
                <a:lnTo>
                  <a:pt x="142" y="53"/>
                </a:lnTo>
                <a:lnTo>
                  <a:pt x="123" y="59"/>
                </a:lnTo>
                <a:lnTo>
                  <a:pt x="107" y="69"/>
                </a:lnTo>
                <a:lnTo>
                  <a:pt x="94" y="82"/>
                </a:lnTo>
                <a:lnTo>
                  <a:pt x="85" y="94"/>
                </a:lnTo>
                <a:lnTo>
                  <a:pt x="78" y="109"/>
                </a:lnTo>
                <a:lnTo>
                  <a:pt x="77" y="123"/>
                </a:lnTo>
                <a:lnTo>
                  <a:pt x="77" y="131"/>
                </a:lnTo>
                <a:lnTo>
                  <a:pt x="78" y="139"/>
                </a:lnTo>
                <a:lnTo>
                  <a:pt x="80" y="146"/>
                </a:lnTo>
                <a:lnTo>
                  <a:pt x="80" y="14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ae5f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2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33440" y="2576520"/>
          <a:ext cx="292320" cy="33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3440" y="2576520"/>
                    <a:ext cx="2923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160640" y="4917960"/>
            <a:ext cx="7920" cy="5040"/>
          </a:xfrm>
          <a:custGeom>
            <a:avLst/>
            <a:gdLst/>
            <a:ahLst/>
            <a:rect l="l" t="t" r="r" b="b"/>
            <a:pathLst>
              <a:path w="14" h="9">
                <a:moveTo>
                  <a:pt x="14" y="0"/>
                </a:moveTo>
                <a:lnTo>
                  <a:pt x="0" y="9"/>
                </a:lnTo>
                <a:lnTo>
                  <a:pt x="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14640" y="3043080"/>
            <a:ext cx="1371600" cy="838080"/>
            <a:chOff x="2114640" y="3043080"/>
            <a:chExt cx="1371600" cy="838080"/>
          </a:xfrm>
        </p:grpSpPr>
        <p:pic>
          <p:nvPicPr>
            <p:cNvPr id="148" name="Big_Cloud" descr=""/>
            <p:cNvPicPr/>
            <p:nvPr/>
          </p:nvPicPr>
          <p:blipFill>
            <a:blip r:embed="rId8"/>
            <a:stretch/>
          </p:blipFill>
          <p:spPr>
            <a:xfrm>
              <a:off x="2114640" y="3120840"/>
              <a:ext cx="13716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439360" y="3224160"/>
              <a:ext cx="830160" cy="4492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283200"/>
              <a:ext cx="1126080" cy="39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SO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2742480" y="357012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3175560" y="332892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1"/>
            <a:stretch/>
          </p:blipFill>
          <p:spPr>
            <a:xfrm>
              <a:off x="2742480" y="3043080"/>
              <a:ext cx="20232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2"/>
            <a:stretch/>
          </p:blipFill>
          <p:spPr>
            <a:xfrm>
              <a:off x="2259000" y="3328920"/>
              <a:ext cx="202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914400" y="2895480"/>
            <a:ext cx="855720" cy="65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building" descr=""/>
          <p:cNvPicPr/>
          <p:nvPr/>
        </p:nvPicPr>
        <p:blipFill>
          <a:blip r:embed="rId13"/>
          <a:stretch/>
        </p:blipFill>
        <p:spPr>
          <a:xfrm>
            <a:off x="946080" y="5454720"/>
            <a:ext cx="955800" cy="115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21583200">
            <a:off x="1409760" y="6341760"/>
            <a:ext cx="493560" cy="712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28600" y="6343560"/>
            <a:ext cx="269640" cy="263160"/>
            <a:chOff x="1128600" y="6343560"/>
            <a:chExt cx="269640" cy="263160"/>
          </a:xfrm>
        </p:grpSpPr>
        <p:sp>
          <p:nvSpPr>
            <p:cNvPr id="159" name=""/>
            <p:cNvSpPr/>
            <p:nvPr/>
          </p:nvSpPr>
          <p:spPr>
            <a:xfrm>
              <a:off x="1129680" y="6344640"/>
              <a:ext cx="268560" cy="262080"/>
            </a:xfrm>
            <a:prstGeom prst="rect">
              <a:avLst/>
            </a:prstGeom>
            <a:solidFill>
              <a:srgbClr val="9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8600" y="6343560"/>
              <a:ext cx="268560" cy="26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11840" y="653040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06000" y="640368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11" y="305"/>
                  </a:moveTo>
                  <a:lnTo>
                    <a:pt x="240" y="282"/>
                  </a:lnTo>
                  <a:lnTo>
                    <a:pt x="28" y="0"/>
                  </a:lnTo>
                  <a:lnTo>
                    <a:pt x="0" y="23"/>
                  </a:lnTo>
                  <a:lnTo>
                    <a:pt x="211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4640" y="6530400"/>
              <a:ext cx="14400" cy="176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7"/>
                  </a:moveTo>
                  <a:lnTo>
                    <a:pt x="0" y="32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9200" y="639936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06000" y="6399360"/>
              <a:ext cx="12960" cy="172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9"/>
                  </a:moveTo>
                  <a:lnTo>
                    <a:pt x="14" y="0"/>
                  </a:lnTo>
                  <a:lnTo>
                    <a:pt x="0" y="32"/>
                  </a:lnTo>
                  <a:lnTo>
                    <a:pt x="14" y="3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11840" y="639936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6000" y="640368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40" y="23"/>
                  </a:moveTo>
                  <a:lnTo>
                    <a:pt x="211" y="0"/>
                  </a:lnTo>
                  <a:lnTo>
                    <a:pt x="0" y="282"/>
                  </a:lnTo>
                  <a:lnTo>
                    <a:pt x="28" y="305"/>
                  </a:lnTo>
                  <a:lnTo>
                    <a:pt x="2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04640" y="6399360"/>
              <a:ext cx="14400" cy="172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0"/>
                  </a:moveTo>
                  <a:lnTo>
                    <a:pt x="0" y="9"/>
                  </a:lnTo>
                  <a:lnTo>
                    <a:pt x="14" y="37"/>
                  </a:lnTo>
                  <a:lnTo>
                    <a:pt x="29" y="3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59200" y="653040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6000" y="6530400"/>
              <a:ext cx="12960" cy="176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2"/>
                  </a:moveTo>
                  <a:lnTo>
                    <a:pt x="14" y="37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7320" y="6403680"/>
              <a:ext cx="529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7320" y="6366960"/>
              <a:ext cx="529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44440" y="6403680"/>
              <a:ext cx="288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7320" y="6403680"/>
              <a:ext cx="1440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7320" y="6534720"/>
              <a:ext cx="5292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7320" y="6498000"/>
              <a:ext cx="5292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5160" y="640368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5160" y="636696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3320" y="6403680"/>
              <a:ext cx="1296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5160" y="6534720"/>
              <a:ext cx="5112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5160" y="6498000"/>
              <a:ext cx="5112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849800">
            <a:off x="1274760" y="5987880"/>
            <a:ext cx="493560" cy="716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1692360" y="6008760"/>
            <a:ext cx="403200" cy="4255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149480" y="5757840"/>
            <a:ext cx="269280" cy="263160"/>
            <a:chOff x="1149480" y="5757840"/>
            <a:chExt cx="269280" cy="263160"/>
          </a:xfrm>
        </p:grpSpPr>
        <p:sp>
          <p:nvSpPr>
            <p:cNvPr id="185" name=""/>
            <p:cNvSpPr/>
            <p:nvPr/>
          </p:nvSpPr>
          <p:spPr>
            <a:xfrm>
              <a:off x="1150560" y="5758920"/>
              <a:ext cx="268200" cy="262080"/>
            </a:xfrm>
            <a:prstGeom prst="rect">
              <a:avLst/>
            </a:prstGeom>
            <a:solidFill>
              <a:srgbClr val="9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9480" y="5757840"/>
              <a:ext cx="268200" cy="26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360" y="594468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26880" y="581796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11" y="305"/>
                  </a:moveTo>
                  <a:lnTo>
                    <a:pt x="240" y="282"/>
                  </a:lnTo>
                  <a:lnTo>
                    <a:pt x="28" y="0"/>
                  </a:lnTo>
                  <a:lnTo>
                    <a:pt x="0" y="23"/>
                  </a:lnTo>
                  <a:lnTo>
                    <a:pt x="211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5160" y="5944680"/>
              <a:ext cx="14400" cy="176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7"/>
                  </a:moveTo>
                  <a:lnTo>
                    <a:pt x="0" y="32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79720" y="581364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6880" y="5813640"/>
              <a:ext cx="12960" cy="172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9"/>
                  </a:moveTo>
                  <a:lnTo>
                    <a:pt x="14" y="0"/>
                  </a:lnTo>
                  <a:lnTo>
                    <a:pt x="0" y="32"/>
                  </a:lnTo>
                  <a:lnTo>
                    <a:pt x="14" y="3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360" y="581364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6880" y="581796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40" y="23"/>
                  </a:moveTo>
                  <a:lnTo>
                    <a:pt x="211" y="0"/>
                  </a:lnTo>
                  <a:lnTo>
                    <a:pt x="0" y="282"/>
                  </a:lnTo>
                  <a:lnTo>
                    <a:pt x="28" y="305"/>
                  </a:lnTo>
                  <a:lnTo>
                    <a:pt x="2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25160" y="5813640"/>
              <a:ext cx="14400" cy="172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0"/>
                  </a:moveTo>
                  <a:lnTo>
                    <a:pt x="0" y="9"/>
                  </a:lnTo>
                  <a:lnTo>
                    <a:pt x="14" y="37"/>
                  </a:lnTo>
                  <a:lnTo>
                    <a:pt x="29" y="3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79720" y="594468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6880" y="5944680"/>
              <a:ext cx="12960" cy="176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2"/>
                  </a:moveTo>
                  <a:lnTo>
                    <a:pt x="14" y="37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8200" y="5817960"/>
              <a:ext cx="5256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200" y="5781240"/>
              <a:ext cx="5256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5320" y="5817960"/>
              <a:ext cx="288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8200" y="5817960"/>
              <a:ext cx="1440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68200" y="5949000"/>
              <a:ext cx="5256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68200" y="5912280"/>
              <a:ext cx="5256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45680" y="581796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45680" y="578124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83840" y="5817960"/>
              <a:ext cx="1296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5680" y="5949000"/>
              <a:ext cx="5112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45680" y="5912280"/>
              <a:ext cx="5112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524720" y="2814480"/>
            <a:ext cx="1371600" cy="838080"/>
            <a:chOff x="7524720" y="2814480"/>
            <a:chExt cx="1371600" cy="838080"/>
          </a:xfrm>
        </p:grpSpPr>
        <p:pic>
          <p:nvPicPr>
            <p:cNvPr id="209" name="Big_Cloud" descr=""/>
            <p:cNvPicPr/>
            <p:nvPr/>
          </p:nvPicPr>
          <p:blipFill>
            <a:blip r:embed="rId15"/>
            <a:stretch/>
          </p:blipFill>
          <p:spPr>
            <a:xfrm>
              <a:off x="7524720" y="2892240"/>
              <a:ext cx="13716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849440" y="2995560"/>
              <a:ext cx="830160" cy="4492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8240" y="3054600"/>
              <a:ext cx="1126080" cy="39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SO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6"/>
            <a:stretch/>
          </p:blipFill>
          <p:spPr>
            <a:xfrm>
              <a:off x="8152560" y="334152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8585640" y="310032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8152560" y="2814480"/>
              <a:ext cx="20232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7669080" y="3100320"/>
              <a:ext cx="2023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1886040" y="5176800"/>
            <a:ext cx="1371600" cy="838080"/>
            <a:chOff x="1886040" y="5176800"/>
            <a:chExt cx="1371600" cy="838080"/>
          </a:xfrm>
        </p:grpSpPr>
        <p:pic>
          <p:nvPicPr>
            <p:cNvPr id="217" name="Big_Cloud" descr=""/>
            <p:cNvPicPr/>
            <p:nvPr/>
          </p:nvPicPr>
          <p:blipFill>
            <a:blip r:embed="rId20"/>
            <a:stretch/>
          </p:blipFill>
          <p:spPr>
            <a:xfrm>
              <a:off x="1886040" y="5254560"/>
              <a:ext cx="1371600" cy="7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210760" y="5357880"/>
              <a:ext cx="830160" cy="4489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9560" y="5416920"/>
              <a:ext cx="1126080" cy="39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SO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1"/>
            <a:stretch/>
          </p:blipFill>
          <p:spPr>
            <a:xfrm>
              <a:off x="2513880" y="570384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2"/>
            <a:stretch/>
          </p:blipFill>
          <p:spPr>
            <a:xfrm>
              <a:off x="2946960" y="546264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3"/>
            <a:stretch/>
          </p:blipFill>
          <p:spPr>
            <a:xfrm>
              <a:off x="2513880" y="517680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4"/>
            <a:stretch/>
          </p:blipFill>
          <p:spPr>
            <a:xfrm>
              <a:off x="2030400" y="5462640"/>
              <a:ext cx="2023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7601040" y="5405400"/>
            <a:ext cx="1371600" cy="838080"/>
            <a:chOff x="7601040" y="5405400"/>
            <a:chExt cx="1371600" cy="838080"/>
          </a:xfrm>
        </p:grpSpPr>
        <p:pic>
          <p:nvPicPr>
            <p:cNvPr id="225" name="Big_Cloud" descr=""/>
            <p:cNvPicPr/>
            <p:nvPr/>
          </p:nvPicPr>
          <p:blipFill>
            <a:blip r:embed="rId25"/>
            <a:stretch/>
          </p:blipFill>
          <p:spPr>
            <a:xfrm>
              <a:off x="7601040" y="5483160"/>
              <a:ext cx="1371600" cy="7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925760" y="5586480"/>
              <a:ext cx="830160" cy="4489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4560" y="5645520"/>
              <a:ext cx="1126080" cy="39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SO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26"/>
            <a:stretch/>
          </p:blipFill>
          <p:spPr>
            <a:xfrm>
              <a:off x="8228880" y="593244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7"/>
            <a:stretch/>
          </p:blipFill>
          <p:spPr>
            <a:xfrm>
              <a:off x="8661960" y="569124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8"/>
            <a:stretch/>
          </p:blipFill>
          <p:spPr>
            <a:xfrm>
              <a:off x="8228880" y="5405400"/>
              <a:ext cx="2023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9"/>
            <a:stretch/>
          </p:blipFill>
          <p:spPr>
            <a:xfrm>
              <a:off x="7745400" y="5691240"/>
              <a:ext cx="202320" cy="3110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32" name=""/>
          <p:cNvCxnSpPr>
            <a:stCxn id="222" idx="3"/>
            <a:endCxn id="233" idx="1"/>
          </p:cNvCxnSpPr>
          <p:nvPr/>
        </p:nvCxnSpPr>
        <p:spPr>
          <a:xfrm flipV="1">
            <a:off x="2716200" y="5326920"/>
            <a:ext cx="4658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51" idx="3"/>
            <a:endCxn id="235" idx="1"/>
          </p:cNvCxnSpPr>
          <p:nvPr/>
        </p:nvCxnSpPr>
        <p:spPr>
          <a:xfrm>
            <a:off x="2944800" y="3726000"/>
            <a:ext cx="46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36" name=""/>
          <p:cNvGrpSpPr/>
          <p:nvPr/>
        </p:nvGrpSpPr>
        <p:grpSpPr>
          <a:xfrm>
            <a:off x="3172680" y="2810880"/>
            <a:ext cx="1558080" cy="3512160"/>
            <a:chOff x="3172680" y="2810880"/>
            <a:chExt cx="1558080" cy="3512160"/>
          </a:xfrm>
        </p:grpSpPr>
        <p:sp>
          <p:nvSpPr>
            <p:cNvPr id="237" name=""/>
            <p:cNvSpPr/>
            <p:nvPr/>
          </p:nvSpPr>
          <p:spPr>
            <a:xfrm rot="16800">
              <a:off x="3181320" y="2814120"/>
              <a:ext cx="1451160" cy="3504960"/>
            </a:xfrm>
            <a:custGeom>
              <a:avLst/>
              <a:gdLst/>
              <a:ahLst/>
              <a:rect l="l" t="t" r="r" b="b"/>
              <a:pathLst>
                <a:path w="732" h="352">
                  <a:moveTo>
                    <a:pt x="80" y="147"/>
                  </a:moveTo>
                  <a:lnTo>
                    <a:pt x="61" y="150"/>
                  </a:lnTo>
                  <a:lnTo>
                    <a:pt x="45" y="158"/>
                  </a:lnTo>
                  <a:lnTo>
                    <a:pt x="30" y="166"/>
                  </a:lnTo>
                  <a:lnTo>
                    <a:pt x="18" y="178"/>
                  </a:lnTo>
                  <a:lnTo>
                    <a:pt x="8" y="189"/>
                  </a:lnTo>
                  <a:lnTo>
                    <a:pt x="2" y="202"/>
                  </a:lnTo>
                  <a:lnTo>
                    <a:pt x="0" y="216"/>
                  </a:lnTo>
                  <a:lnTo>
                    <a:pt x="0" y="232"/>
                  </a:lnTo>
                  <a:lnTo>
                    <a:pt x="2" y="240"/>
                  </a:lnTo>
                  <a:lnTo>
                    <a:pt x="5" y="246"/>
                  </a:lnTo>
                  <a:lnTo>
                    <a:pt x="10" y="253"/>
                  </a:lnTo>
                  <a:lnTo>
                    <a:pt x="14" y="261"/>
                  </a:lnTo>
                  <a:lnTo>
                    <a:pt x="29" y="272"/>
                  </a:lnTo>
                  <a:lnTo>
                    <a:pt x="46" y="283"/>
                  </a:lnTo>
                  <a:lnTo>
                    <a:pt x="67" y="291"/>
                  </a:lnTo>
                  <a:lnTo>
                    <a:pt x="91" y="298"/>
                  </a:lnTo>
                  <a:lnTo>
                    <a:pt x="115" y="301"/>
                  </a:lnTo>
                  <a:lnTo>
                    <a:pt x="139" y="301"/>
                  </a:lnTo>
                  <a:lnTo>
                    <a:pt x="149" y="310"/>
                  </a:lnTo>
                  <a:lnTo>
                    <a:pt x="160" y="320"/>
                  </a:lnTo>
                  <a:lnTo>
                    <a:pt x="173" y="326"/>
                  </a:lnTo>
                  <a:lnTo>
                    <a:pt x="187" y="333"/>
                  </a:lnTo>
                  <a:lnTo>
                    <a:pt x="203" y="339"/>
                  </a:lnTo>
                  <a:lnTo>
                    <a:pt x="219" y="342"/>
                  </a:lnTo>
                  <a:lnTo>
                    <a:pt x="238" y="344"/>
                  </a:lnTo>
                  <a:lnTo>
                    <a:pt x="258" y="344"/>
                  </a:lnTo>
                  <a:lnTo>
                    <a:pt x="278" y="342"/>
                  </a:lnTo>
                  <a:lnTo>
                    <a:pt x="298" y="339"/>
                  </a:lnTo>
                  <a:lnTo>
                    <a:pt x="317" y="333"/>
                  </a:lnTo>
                  <a:lnTo>
                    <a:pt x="333" y="326"/>
                  </a:lnTo>
                  <a:lnTo>
                    <a:pt x="347" y="334"/>
                  </a:lnTo>
                  <a:lnTo>
                    <a:pt x="363" y="341"/>
                  </a:lnTo>
                  <a:lnTo>
                    <a:pt x="381" y="347"/>
                  </a:lnTo>
                  <a:lnTo>
                    <a:pt x="401" y="350"/>
                  </a:lnTo>
                  <a:lnTo>
                    <a:pt x="422" y="352"/>
                  </a:lnTo>
                  <a:lnTo>
                    <a:pt x="443" y="352"/>
                  </a:lnTo>
                  <a:lnTo>
                    <a:pt x="465" y="350"/>
                  </a:lnTo>
                  <a:lnTo>
                    <a:pt x="488" y="346"/>
                  </a:lnTo>
                  <a:lnTo>
                    <a:pt x="523" y="334"/>
                  </a:lnTo>
                  <a:lnTo>
                    <a:pt x="553" y="320"/>
                  </a:lnTo>
                  <a:lnTo>
                    <a:pt x="577" y="302"/>
                  </a:lnTo>
                  <a:lnTo>
                    <a:pt x="589" y="293"/>
                  </a:lnTo>
                  <a:lnTo>
                    <a:pt x="597" y="282"/>
                  </a:lnTo>
                  <a:lnTo>
                    <a:pt x="633" y="277"/>
                  </a:lnTo>
                  <a:lnTo>
                    <a:pt x="662" y="267"/>
                  </a:lnTo>
                  <a:lnTo>
                    <a:pt x="686" y="258"/>
                  </a:lnTo>
                  <a:lnTo>
                    <a:pt x="705" y="246"/>
                  </a:lnTo>
                  <a:lnTo>
                    <a:pt x="718" y="234"/>
                  </a:lnTo>
                  <a:lnTo>
                    <a:pt x="728" y="219"/>
                  </a:lnTo>
                  <a:lnTo>
                    <a:pt x="729" y="213"/>
                  </a:lnTo>
                  <a:lnTo>
                    <a:pt x="731" y="206"/>
                  </a:lnTo>
                  <a:lnTo>
                    <a:pt x="732" y="200"/>
                  </a:lnTo>
                  <a:lnTo>
                    <a:pt x="731" y="192"/>
                  </a:lnTo>
                  <a:lnTo>
                    <a:pt x="728" y="179"/>
                  </a:lnTo>
                  <a:lnTo>
                    <a:pt x="721" y="168"/>
                  </a:lnTo>
                  <a:lnTo>
                    <a:pt x="713" y="157"/>
                  </a:lnTo>
                  <a:lnTo>
                    <a:pt x="704" y="147"/>
                  </a:lnTo>
                  <a:lnTo>
                    <a:pt x="693" y="139"/>
                  </a:lnTo>
                  <a:lnTo>
                    <a:pt x="680" y="133"/>
                  </a:lnTo>
                  <a:lnTo>
                    <a:pt x="651" y="122"/>
                  </a:lnTo>
                  <a:lnTo>
                    <a:pt x="653" y="112"/>
                  </a:lnTo>
                  <a:lnTo>
                    <a:pt x="653" y="102"/>
                  </a:lnTo>
                  <a:lnTo>
                    <a:pt x="653" y="94"/>
                  </a:lnTo>
                  <a:lnTo>
                    <a:pt x="649" y="88"/>
                  </a:lnTo>
                  <a:lnTo>
                    <a:pt x="643" y="74"/>
                  </a:lnTo>
                  <a:lnTo>
                    <a:pt x="632" y="61"/>
                  </a:lnTo>
                  <a:lnTo>
                    <a:pt x="619" y="50"/>
                  </a:lnTo>
                  <a:lnTo>
                    <a:pt x="601" y="40"/>
                  </a:lnTo>
                  <a:lnTo>
                    <a:pt x="584" y="34"/>
                  </a:lnTo>
                  <a:lnTo>
                    <a:pt x="563" y="30"/>
                  </a:lnTo>
                  <a:lnTo>
                    <a:pt x="541" y="29"/>
                  </a:lnTo>
                  <a:lnTo>
                    <a:pt x="515" y="32"/>
                  </a:lnTo>
                  <a:lnTo>
                    <a:pt x="493" y="40"/>
                  </a:lnTo>
                  <a:lnTo>
                    <a:pt x="480" y="30"/>
                  </a:lnTo>
                  <a:lnTo>
                    <a:pt x="467" y="22"/>
                  </a:lnTo>
                  <a:lnTo>
                    <a:pt x="451" y="16"/>
                  </a:lnTo>
                  <a:lnTo>
                    <a:pt x="433" y="10"/>
                  </a:lnTo>
                  <a:lnTo>
                    <a:pt x="397" y="2"/>
                  </a:lnTo>
                  <a:lnTo>
                    <a:pt x="354" y="0"/>
                  </a:lnTo>
                  <a:lnTo>
                    <a:pt x="309" y="5"/>
                  </a:lnTo>
                  <a:lnTo>
                    <a:pt x="270" y="14"/>
                  </a:lnTo>
                  <a:lnTo>
                    <a:pt x="254" y="22"/>
                  </a:lnTo>
                  <a:lnTo>
                    <a:pt x="238" y="30"/>
                  </a:lnTo>
                  <a:lnTo>
                    <a:pt x="226" y="40"/>
                  </a:lnTo>
                  <a:lnTo>
                    <a:pt x="216" y="50"/>
                  </a:lnTo>
                  <a:lnTo>
                    <a:pt x="190" y="46"/>
                  </a:lnTo>
                  <a:lnTo>
                    <a:pt x="163" y="48"/>
                  </a:lnTo>
                  <a:lnTo>
                    <a:pt x="142" y="53"/>
                  </a:lnTo>
                  <a:lnTo>
                    <a:pt x="123" y="59"/>
                  </a:lnTo>
                  <a:lnTo>
                    <a:pt x="107" y="69"/>
                  </a:lnTo>
                  <a:lnTo>
                    <a:pt x="94" y="82"/>
                  </a:lnTo>
                  <a:lnTo>
                    <a:pt x="85" y="94"/>
                  </a:lnTo>
                  <a:lnTo>
                    <a:pt x="78" y="109"/>
                  </a:lnTo>
                  <a:lnTo>
                    <a:pt x="77" y="123"/>
                  </a:lnTo>
                  <a:lnTo>
                    <a:pt x="77" y="131"/>
                  </a:lnTo>
                  <a:lnTo>
                    <a:pt x="78" y="139"/>
                  </a:lnTo>
                  <a:lnTo>
                    <a:pt x="80" y="146"/>
                  </a:lnTo>
                  <a:lnTo>
                    <a:pt x="80" y="147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38160">
              <a:solidFill>
                <a:srgbClr val="82be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181320" y="3804840"/>
              <a:ext cx="1549440" cy="1352160"/>
              <a:chOff x="3181320" y="3804840"/>
              <a:chExt cx="1549440" cy="135216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338280" y="4028760"/>
                <a:ext cx="1276560" cy="863280"/>
                <a:chOff x="3338280" y="4028760"/>
                <a:chExt cx="1276560" cy="863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338280" y="4028760"/>
                  <a:ext cx="1276560" cy="86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05600" y="4095000"/>
                  <a:ext cx="1141920" cy="75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81320" y="4258080"/>
                <a:ext cx="314280" cy="417240"/>
                <a:chOff x="3181320" y="4258080"/>
                <a:chExt cx="314280" cy="417240"/>
              </a:xfrm>
            </p:grpSpPr>
            <p:pic>
              <p:nvPicPr>
                <p:cNvPr id="243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181320" y="425808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 flipH="1" flipV="1">
                  <a:off x="3181320" y="429984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3181320" y="438372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3181320" y="449424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3181320" y="443916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3181320" y="449424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181320" y="425808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899520" y="3804840"/>
                <a:ext cx="314280" cy="417240"/>
                <a:chOff x="3899520" y="3804840"/>
                <a:chExt cx="314280" cy="41724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899520" y="380484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flipH="1" flipV="1">
                  <a:off x="3899520" y="384660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3899520" y="393048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3899520" y="404100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>
                  <a:off x="3899520" y="398592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3899520" y="404100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99520" y="380484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416480" y="4338000"/>
                <a:ext cx="314280" cy="417240"/>
                <a:chOff x="4416480" y="4338000"/>
                <a:chExt cx="314280" cy="417240"/>
              </a:xfrm>
            </p:grpSpPr>
            <p:pic>
              <p:nvPicPr>
                <p:cNvPr id="259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16480" y="433800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 flipH="1" flipV="1">
                  <a:off x="4416480" y="437976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4416480" y="446364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4416480" y="457416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4416480" y="451908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4416480" y="457416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16480" y="433800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615120" y="4739760"/>
                <a:ext cx="314280" cy="417240"/>
                <a:chOff x="3615120" y="4739760"/>
                <a:chExt cx="314280" cy="417240"/>
              </a:xfrm>
            </p:grpSpPr>
            <p:pic>
              <p:nvPicPr>
                <p:cNvPr id="267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615120" y="473976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 flipH="1" flipV="1">
                  <a:off x="3615120" y="478152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3615120" y="486540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3615120" y="497592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3615120" y="492084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3615120" y="497592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615120" y="473976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3501720" y="4262040"/>
                <a:ext cx="916200" cy="648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Arial"/>
                  </a:rPr>
                  <a:t>DWD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5" name="" descr=""/>
            <p:cNvPicPr/>
            <p:nvPr/>
          </p:nvPicPr>
          <p:blipFill>
            <a:blip r:embed="rId35"/>
            <a:stretch/>
          </p:blipFill>
          <p:spPr>
            <a:xfrm>
              <a:off x="3181320" y="5176440"/>
              <a:ext cx="4240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6"/>
            <a:stretch/>
          </p:blipFill>
          <p:spPr>
            <a:xfrm>
              <a:off x="3409920" y="3576240"/>
              <a:ext cx="424080" cy="300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77" name=""/>
            <p:cNvCxnSpPr>
              <a:stCxn id="275" idx="0"/>
              <a:endCxn id="270" idx="0"/>
            </p:cNvCxnSpPr>
            <p:nvPr/>
          </p:nvCxnSpPr>
          <p:spPr>
            <a:xfrm flipV="1">
              <a:off x="3393720" y="5096880"/>
              <a:ext cx="221400" cy="7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8" name=""/>
            <p:cNvCxnSpPr>
              <a:stCxn id="276" idx="2"/>
              <a:endCxn id="253" idx="0"/>
            </p:cNvCxnSpPr>
            <p:nvPr/>
          </p:nvCxnSpPr>
          <p:spPr>
            <a:xfrm>
              <a:off x="3622680" y="3876480"/>
              <a:ext cx="277200" cy="1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279" name=""/>
          <p:cNvCxnSpPr>
            <a:stCxn id="280" idx="0"/>
            <a:endCxn id="212" idx="1"/>
          </p:cNvCxnSpPr>
          <p:nvPr/>
        </p:nvCxnSpPr>
        <p:spPr>
          <a:xfrm flipV="1">
            <a:off x="7585200" y="3497040"/>
            <a:ext cx="56880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82" idx="2"/>
            <a:endCxn id="283" idx="0"/>
          </p:cNvCxnSpPr>
          <p:nvPr/>
        </p:nvCxnSpPr>
        <p:spPr>
          <a:xfrm>
            <a:off x="7773840" y="4908600"/>
            <a:ext cx="19296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4" name=""/>
          <p:cNvGrpSpPr/>
          <p:nvPr/>
        </p:nvGrpSpPr>
        <p:grpSpPr>
          <a:xfrm>
            <a:off x="6381720" y="2887200"/>
            <a:ext cx="1612080" cy="3512520"/>
            <a:chOff x="6381720" y="2887200"/>
            <a:chExt cx="1612080" cy="3512520"/>
          </a:xfrm>
        </p:grpSpPr>
        <p:sp>
          <p:nvSpPr>
            <p:cNvPr id="285" name=""/>
            <p:cNvSpPr/>
            <p:nvPr/>
          </p:nvSpPr>
          <p:spPr>
            <a:xfrm rot="16800">
              <a:off x="6534360" y="2890440"/>
              <a:ext cx="1450800" cy="3505320"/>
            </a:xfrm>
            <a:custGeom>
              <a:avLst/>
              <a:gdLst/>
              <a:ahLst/>
              <a:rect l="l" t="t" r="r" b="b"/>
              <a:pathLst>
                <a:path w="732" h="352">
                  <a:moveTo>
                    <a:pt x="80" y="147"/>
                  </a:moveTo>
                  <a:lnTo>
                    <a:pt x="61" y="150"/>
                  </a:lnTo>
                  <a:lnTo>
                    <a:pt x="45" y="158"/>
                  </a:lnTo>
                  <a:lnTo>
                    <a:pt x="30" y="166"/>
                  </a:lnTo>
                  <a:lnTo>
                    <a:pt x="18" y="178"/>
                  </a:lnTo>
                  <a:lnTo>
                    <a:pt x="8" y="189"/>
                  </a:lnTo>
                  <a:lnTo>
                    <a:pt x="2" y="202"/>
                  </a:lnTo>
                  <a:lnTo>
                    <a:pt x="0" y="216"/>
                  </a:lnTo>
                  <a:lnTo>
                    <a:pt x="0" y="232"/>
                  </a:lnTo>
                  <a:lnTo>
                    <a:pt x="2" y="240"/>
                  </a:lnTo>
                  <a:lnTo>
                    <a:pt x="5" y="246"/>
                  </a:lnTo>
                  <a:lnTo>
                    <a:pt x="10" y="253"/>
                  </a:lnTo>
                  <a:lnTo>
                    <a:pt x="14" y="261"/>
                  </a:lnTo>
                  <a:lnTo>
                    <a:pt x="29" y="272"/>
                  </a:lnTo>
                  <a:lnTo>
                    <a:pt x="46" y="283"/>
                  </a:lnTo>
                  <a:lnTo>
                    <a:pt x="67" y="291"/>
                  </a:lnTo>
                  <a:lnTo>
                    <a:pt x="91" y="298"/>
                  </a:lnTo>
                  <a:lnTo>
                    <a:pt x="115" y="301"/>
                  </a:lnTo>
                  <a:lnTo>
                    <a:pt x="139" y="301"/>
                  </a:lnTo>
                  <a:lnTo>
                    <a:pt x="149" y="310"/>
                  </a:lnTo>
                  <a:lnTo>
                    <a:pt x="160" y="320"/>
                  </a:lnTo>
                  <a:lnTo>
                    <a:pt x="173" y="326"/>
                  </a:lnTo>
                  <a:lnTo>
                    <a:pt x="187" y="333"/>
                  </a:lnTo>
                  <a:lnTo>
                    <a:pt x="203" y="339"/>
                  </a:lnTo>
                  <a:lnTo>
                    <a:pt x="219" y="342"/>
                  </a:lnTo>
                  <a:lnTo>
                    <a:pt x="238" y="344"/>
                  </a:lnTo>
                  <a:lnTo>
                    <a:pt x="258" y="344"/>
                  </a:lnTo>
                  <a:lnTo>
                    <a:pt x="278" y="342"/>
                  </a:lnTo>
                  <a:lnTo>
                    <a:pt x="298" y="339"/>
                  </a:lnTo>
                  <a:lnTo>
                    <a:pt x="317" y="333"/>
                  </a:lnTo>
                  <a:lnTo>
                    <a:pt x="333" y="326"/>
                  </a:lnTo>
                  <a:lnTo>
                    <a:pt x="347" y="334"/>
                  </a:lnTo>
                  <a:lnTo>
                    <a:pt x="363" y="341"/>
                  </a:lnTo>
                  <a:lnTo>
                    <a:pt x="381" y="347"/>
                  </a:lnTo>
                  <a:lnTo>
                    <a:pt x="401" y="350"/>
                  </a:lnTo>
                  <a:lnTo>
                    <a:pt x="422" y="352"/>
                  </a:lnTo>
                  <a:lnTo>
                    <a:pt x="443" y="352"/>
                  </a:lnTo>
                  <a:lnTo>
                    <a:pt x="465" y="350"/>
                  </a:lnTo>
                  <a:lnTo>
                    <a:pt x="488" y="346"/>
                  </a:lnTo>
                  <a:lnTo>
                    <a:pt x="523" y="334"/>
                  </a:lnTo>
                  <a:lnTo>
                    <a:pt x="553" y="320"/>
                  </a:lnTo>
                  <a:lnTo>
                    <a:pt x="577" y="302"/>
                  </a:lnTo>
                  <a:lnTo>
                    <a:pt x="589" y="293"/>
                  </a:lnTo>
                  <a:lnTo>
                    <a:pt x="597" y="282"/>
                  </a:lnTo>
                  <a:lnTo>
                    <a:pt x="633" y="277"/>
                  </a:lnTo>
                  <a:lnTo>
                    <a:pt x="662" y="267"/>
                  </a:lnTo>
                  <a:lnTo>
                    <a:pt x="686" y="258"/>
                  </a:lnTo>
                  <a:lnTo>
                    <a:pt x="705" y="246"/>
                  </a:lnTo>
                  <a:lnTo>
                    <a:pt x="718" y="234"/>
                  </a:lnTo>
                  <a:lnTo>
                    <a:pt x="728" y="219"/>
                  </a:lnTo>
                  <a:lnTo>
                    <a:pt x="729" y="213"/>
                  </a:lnTo>
                  <a:lnTo>
                    <a:pt x="731" y="206"/>
                  </a:lnTo>
                  <a:lnTo>
                    <a:pt x="732" y="200"/>
                  </a:lnTo>
                  <a:lnTo>
                    <a:pt x="731" y="192"/>
                  </a:lnTo>
                  <a:lnTo>
                    <a:pt x="728" y="179"/>
                  </a:lnTo>
                  <a:lnTo>
                    <a:pt x="721" y="168"/>
                  </a:lnTo>
                  <a:lnTo>
                    <a:pt x="713" y="157"/>
                  </a:lnTo>
                  <a:lnTo>
                    <a:pt x="704" y="147"/>
                  </a:lnTo>
                  <a:lnTo>
                    <a:pt x="693" y="139"/>
                  </a:lnTo>
                  <a:lnTo>
                    <a:pt x="680" y="133"/>
                  </a:lnTo>
                  <a:lnTo>
                    <a:pt x="651" y="122"/>
                  </a:lnTo>
                  <a:lnTo>
                    <a:pt x="653" y="112"/>
                  </a:lnTo>
                  <a:lnTo>
                    <a:pt x="653" y="102"/>
                  </a:lnTo>
                  <a:lnTo>
                    <a:pt x="653" y="94"/>
                  </a:lnTo>
                  <a:lnTo>
                    <a:pt x="649" y="88"/>
                  </a:lnTo>
                  <a:lnTo>
                    <a:pt x="643" y="74"/>
                  </a:lnTo>
                  <a:lnTo>
                    <a:pt x="632" y="61"/>
                  </a:lnTo>
                  <a:lnTo>
                    <a:pt x="619" y="50"/>
                  </a:lnTo>
                  <a:lnTo>
                    <a:pt x="601" y="40"/>
                  </a:lnTo>
                  <a:lnTo>
                    <a:pt x="584" y="34"/>
                  </a:lnTo>
                  <a:lnTo>
                    <a:pt x="563" y="30"/>
                  </a:lnTo>
                  <a:lnTo>
                    <a:pt x="541" y="29"/>
                  </a:lnTo>
                  <a:lnTo>
                    <a:pt x="515" y="32"/>
                  </a:lnTo>
                  <a:lnTo>
                    <a:pt x="493" y="40"/>
                  </a:lnTo>
                  <a:lnTo>
                    <a:pt x="480" y="30"/>
                  </a:lnTo>
                  <a:lnTo>
                    <a:pt x="467" y="22"/>
                  </a:lnTo>
                  <a:lnTo>
                    <a:pt x="451" y="16"/>
                  </a:lnTo>
                  <a:lnTo>
                    <a:pt x="433" y="10"/>
                  </a:lnTo>
                  <a:lnTo>
                    <a:pt x="397" y="2"/>
                  </a:lnTo>
                  <a:lnTo>
                    <a:pt x="354" y="0"/>
                  </a:lnTo>
                  <a:lnTo>
                    <a:pt x="309" y="5"/>
                  </a:lnTo>
                  <a:lnTo>
                    <a:pt x="270" y="14"/>
                  </a:lnTo>
                  <a:lnTo>
                    <a:pt x="254" y="22"/>
                  </a:lnTo>
                  <a:lnTo>
                    <a:pt x="238" y="30"/>
                  </a:lnTo>
                  <a:lnTo>
                    <a:pt x="226" y="40"/>
                  </a:lnTo>
                  <a:lnTo>
                    <a:pt x="216" y="50"/>
                  </a:lnTo>
                  <a:lnTo>
                    <a:pt x="190" y="46"/>
                  </a:lnTo>
                  <a:lnTo>
                    <a:pt x="163" y="48"/>
                  </a:lnTo>
                  <a:lnTo>
                    <a:pt x="142" y="53"/>
                  </a:lnTo>
                  <a:lnTo>
                    <a:pt x="123" y="59"/>
                  </a:lnTo>
                  <a:lnTo>
                    <a:pt x="107" y="69"/>
                  </a:lnTo>
                  <a:lnTo>
                    <a:pt x="94" y="82"/>
                  </a:lnTo>
                  <a:lnTo>
                    <a:pt x="85" y="94"/>
                  </a:lnTo>
                  <a:lnTo>
                    <a:pt x="78" y="109"/>
                  </a:lnTo>
                  <a:lnTo>
                    <a:pt x="77" y="123"/>
                  </a:lnTo>
                  <a:lnTo>
                    <a:pt x="77" y="131"/>
                  </a:lnTo>
                  <a:lnTo>
                    <a:pt x="78" y="139"/>
                  </a:lnTo>
                  <a:lnTo>
                    <a:pt x="80" y="146"/>
                  </a:lnTo>
                  <a:lnTo>
                    <a:pt x="80" y="147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38160">
              <a:solidFill>
                <a:srgbClr val="82be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381720" y="3957840"/>
              <a:ext cx="1549440" cy="1352160"/>
              <a:chOff x="6381720" y="3957840"/>
              <a:chExt cx="1549440" cy="135216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6538680" y="4181760"/>
                <a:ext cx="1276560" cy="863280"/>
                <a:chOff x="6538680" y="4181760"/>
                <a:chExt cx="1276560" cy="8632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538680" y="4181760"/>
                  <a:ext cx="1276560" cy="86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06000" y="4248000"/>
                  <a:ext cx="1141920" cy="75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381720" y="4411080"/>
                <a:ext cx="314280" cy="417240"/>
                <a:chOff x="6381720" y="4411080"/>
                <a:chExt cx="314280" cy="417240"/>
              </a:xfrm>
            </p:grpSpPr>
            <p:pic>
              <p:nvPicPr>
                <p:cNvPr id="291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6381720" y="441108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flipH="1" flipV="1">
                  <a:off x="6381720" y="445284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6381720" y="453672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6381720" y="464724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6381720" y="459216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6381720" y="464724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381720" y="441108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099920" y="3957840"/>
                <a:ext cx="314280" cy="417240"/>
                <a:chOff x="7099920" y="3957840"/>
                <a:chExt cx="314280" cy="417240"/>
              </a:xfrm>
            </p:grpSpPr>
            <p:pic>
              <p:nvPicPr>
                <p:cNvPr id="299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7099920" y="395784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"/>
                <p:cNvSpPr/>
                <p:nvPr/>
              </p:nvSpPr>
              <p:spPr>
                <a:xfrm flipH="1" flipV="1">
                  <a:off x="7099920" y="399960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>
                  <a:off x="7099920" y="408348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7099920" y="419400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>
                  <a:off x="7099920" y="413892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7099920" y="419400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099920" y="395784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616880" y="4491000"/>
                <a:ext cx="314280" cy="417240"/>
                <a:chOff x="7616880" y="4491000"/>
                <a:chExt cx="314280" cy="417240"/>
              </a:xfrm>
            </p:grpSpPr>
            <p:pic>
              <p:nvPicPr>
                <p:cNvPr id="307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7616880" y="449100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flipH="1" flipV="1">
                  <a:off x="7616880" y="453276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>
                  <a:off x="7616880" y="461664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7616880" y="472716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>
                  <a:off x="7616880" y="467208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7616880" y="472716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616880" y="449100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815520" y="4892760"/>
                <a:ext cx="314280" cy="417240"/>
                <a:chOff x="6815520" y="4892760"/>
                <a:chExt cx="314280" cy="417240"/>
              </a:xfrm>
            </p:grpSpPr>
            <p:pic>
              <p:nvPicPr>
                <p:cNvPr id="315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6815520" y="4892760"/>
                  <a:ext cx="31428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6" name=""/>
                <p:cNvSpPr/>
                <p:nvPr/>
              </p:nvSpPr>
              <p:spPr>
                <a:xfrm flipH="1" flipV="1">
                  <a:off x="6815520" y="4934520"/>
                  <a:ext cx="159120" cy="1807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6815520" y="5018400"/>
                  <a:ext cx="159120" cy="109800"/>
                </a:xfrm>
                <a:prstGeom prst="line">
                  <a:avLst/>
                </a:prstGeom>
                <a:ln w="76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6815520" y="5128920"/>
                  <a:ext cx="159120" cy="838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6815520" y="5073840"/>
                  <a:ext cx="159120" cy="54720"/>
                </a:xfrm>
                <a:prstGeom prst="line">
                  <a:avLst/>
                </a:prstGeom>
                <a:ln w="7632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6815520" y="5128920"/>
                  <a:ext cx="15912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15520" y="4892760"/>
                  <a:ext cx="0" cy="3765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702120" y="4415040"/>
                <a:ext cx="916200" cy="648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Arial"/>
                  </a:rPr>
                  <a:t>DWD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3" name="" descr=""/>
            <p:cNvPicPr/>
            <p:nvPr/>
          </p:nvPicPr>
          <p:blipFill>
            <a:blip r:embed="rId42"/>
            <a:stretch/>
          </p:blipFill>
          <p:spPr>
            <a:xfrm>
              <a:off x="7372440" y="3576600"/>
              <a:ext cx="423720" cy="300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4" name=""/>
            <p:cNvCxnSpPr>
              <a:stCxn id="299" idx="0"/>
              <a:endCxn id="323" idx="2"/>
            </p:cNvCxnSpPr>
            <p:nvPr/>
          </p:nvCxnSpPr>
          <p:spPr>
            <a:xfrm flipV="1">
              <a:off x="7256160" y="3876480"/>
              <a:ext cx="32904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25" name=""/>
          <p:cNvCxnSpPr>
            <a:stCxn id="183" idx="0"/>
            <a:endCxn id="223" idx="2"/>
          </p:cNvCxnSpPr>
          <p:nvPr/>
        </p:nvCxnSpPr>
        <p:spPr>
          <a:xfrm flipV="1">
            <a:off x="1893600" y="5772960"/>
            <a:ext cx="2386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7" idx="2"/>
            <a:endCxn id="154" idx="1"/>
          </p:cNvCxnSpPr>
          <p:nvPr/>
        </p:nvCxnSpPr>
        <p:spPr>
          <a:xfrm>
            <a:off x="1945800" y="3267000"/>
            <a:ext cx="3135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230" idx="0"/>
            <a:endCxn id="283" idx="3"/>
          </p:cNvCxnSpPr>
          <p:nvPr/>
        </p:nvCxnSpPr>
        <p:spPr>
          <a:xfrm flipH="1" flipV="1">
            <a:off x="8176680" y="5174640"/>
            <a:ext cx="15480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29" name="" descr=""/>
          <p:cNvPicPr/>
          <p:nvPr/>
        </p:nvPicPr>
        <p:blipFill>
          <a:blip r:embed="rId43"/>
          <a:stretch/>
        </p:blipFill>
        <p:spPr>
          <a:xfrm>
            <a:off x="1733400" y="2967120"/>
            <a:ext cx="424080" cy="299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4"/>
          <a:stretch/>
        </p:blipFill>
        <p:spPr>
          <a:xfrm>
            <a:off x="7753320" y="502452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5"/>
          <a:stretch/>
        </p:blipFill>
        <p:spPr>
          <a:xfrm>
            <a:off x="6762600" y="5253120"/>
            <a:ext cx="424080" cy="299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6"/>
          <a:stretch/>
        </p:blipFill>
        <p:spPr>
          <a:xfrm>
            <a:off x="7905600" y="4491000"/>
            <a:ext cx="424080" cy="3002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7"/>
          <a:stretch/>
        </p:blipFill>
        <p:spPr>
          <a:xfrm>
            <a:off x="8439120" y="365292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8"/>
          <a:stretch/>
        </p:blipFill>
        <p:spPr>
          <a:xfrm>
            <a:off x="4324320" y="5100480"/>
            <a:ext cx="423720" cy="300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9"/>
          <a:stretch/>
        </p:blipFill>
        <p:spPr>
          <a:xfrm>
            <a:off x="2190600" y="4186080"/>
            <a:ext cx="424080" cy="300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0"/>
          <a:stretch/>
        </p:blipFill>
        <p:spPr>
          <a:xfrm>
            <a:off x="6381720" y="3576600"/>
            <a:ext cx="423720" cy="300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1"/>
          <a:stretch/>
        </p:blipFill>
        <p:spPr>
          <a:xfrm>
            <a:off x="4400640" y="365292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2"/>
          <a:stretch/>
        </p:blipFill>
        <p:spPr>
          <a:xfrm>
            <a:off x="4781520" y="5634000"/>
            <a:ext cx="423720" cy="3002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3"/>
          <a:stretch/>
        </p:blipFill>
        <p:spPr>
          <a:xfrm>
            <a:off x="2724120" y="433872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4"/>
          <a:stretch/>
        </p:blipFill>
        <p:spPr>
          <a:xfrm>
            <a:off x="3029040" y="3805200"/>
            <a:ext cx="423720" cy="300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067680" y="2743200"/>
            <a:ext cx="855720" cy="65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5"/>
          <a:stretch/>
        </p:blipFill>
        <p:spPr>
          <a:xfrm>
            <a:off x="8686800" y="297180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343" name="Lbuilding" descr=""/>
          <p:cNvPicPr/>
          <p:nvPr/>
        </p:nvPicPr>
        <p:blipFill>
          <a:blip r:embed="rId56"/>
          <a:stretch/>
        </p:blipFill>
        <p:spPr>
          <a:xfrm>
            <a:off x="9217080" y="5638680"/>
            <a:ext cx="955800" cy="1152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7"/>
          <a:stretch/>
        </p:blipFill>
        <p:spPr>
          <a:xfrm>
            <a:off x="8839080" y="5867280"/>
            <a:ext cx="403200" cy="42552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296280" y="5943600"/>
            <a:ext cx="304560" cy="304560"/>
            <a:chOff x="9296280" y="5943600"/>
            <a:chExt cx="304560" cy="304560"/>
          </a:xfrm>
        </p:grpSpPr>
        <p:sp>
          <p:nvSpPr>
            <p:cNvPr id="346" name=""/>
            <p:cNvSpPr/>
            <p:nvPr/>
          </p:nvSpPr>
          <p:spPr>
            <a:xfrm>
              <a:off x="9297720" y="5945040"/>
              <a:ext cx="303120" cy="303120"/>
            </a:xfrm>
            <a:prstGeom prst="rect">
              <a:avLst/>
            </a:prstGeom>
            <a:solidFill>
              <a:srgbClr val="9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96280" y="5943600"/>
              <a:ext cx="303120" cy="303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503280" y="6159960"/>
              <a:ext cx="612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83760" y="6013440"/>
              <a:ext cx="127800" cy="16344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11" y="305"/>
                  </a:moveTo>
                  <a:lnTo>
                    <a:pt x="240" y="282"/>
                  </a:lnTo>
                  <a:lnTo>
                    <a:pt x="28" y="0"/>
                  </a:lnTo>
                  <a:lnTo>
                    <a:pt x="0" y="23"/>
                  </a:lnTo>
                  <a:lnTo>
                    <a:pt x="211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495000" y="6159960"/>
              <a:ext cx="16200" cy="201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7"/>
                  </a:moveTo>
                  <a:lnTo>
                    <a:pt x="0" y="32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30840" y="6008400"/>
              <a:ext cx="61200" cy="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83760" y="6008400"/>
              <a:ext cx="14760" cy="1980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9"/>
                  </a:moveTo>
                  <a:lnTo>
                    <a:pt x="14" y="0"/>
                  </a:lnTo>
                  <a:lnTo>
                    <a:pt x="0" y="32"/>
                  </a:lnTo>
                  <a:lnTo>
                    <a:pt x="14" y="3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503280" y="6008400"/>
              <a:ext cx="61200" cy="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383760" y="6013440"/>
              <a:ext cx="127800" cy="16344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40" y="23"/>
                  </a:moveTo>
                  <a:lnTo>
                    <a:pt x="211" y="0"/>
                  </a:lnTo>
                  <a:lnTo>
                    <a:pt x="0" y="282"/>
                  </a:lnTo>
                  <a:lnTo>
                    <a:pt x="28" y="305"/>
                  </a:lnTo>
                  <a:lnTo>
                    <a:pt x="2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495000" y="6008400"/>
              <a:ext cx="16200" cy="1980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0"/>
                  </a:moveTo>
                  <a:lnTo>
                    <a:pt x="0" y="9"/>
                  </a:lnTo>
                  <a:lnTo>
                    <a:pt x="14" y="37"/>
                  </a:lnTo>
                  <a:lnTo>
                    <a:pt x="29" y="3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330840" y="6159960"/>
              <a:ext cx="612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383760" y="6159960"/>
              <a:ext cx="14760" cy="2016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2"/>
                  </a:moveTo>
                  <a:lnTo>
                    <a:pt x="14" y="37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17520" y="6013440"/>
              <a:ext cx="59760" cy="55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317520" y="5970960"/>
              <a:ext cx="59760" cy="55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314280" y="6013440"/>
              <a:ext cx="3240" cy="133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317520" y="6013440"/>
              <a:ext cx="1620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17520" y="6165000"/>
              <a:ext cx="59760" cy="561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17520" y="6122160"/>
              <a:ext cx="59760" cy="54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518400" y="6013440"/>
              <a:ext cx="57600" cy="55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18400" y="5970960"/>
              <a:ext cx="57600" cy="55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561240" y="6013440"/>
              <a:ext cx="147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518400" y="6165000"/>
              <a:ext cx="57600" cy="561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518400" y="6122160"/>
              <a:ext cx="57600" cy="54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067680" y="6400800"/>
            <a:ext cx="269640" cy="263160"/>
            <a:chOff x="9067680" y="6400800"/>
            <a:chExt cx="269640" cy="263160"/>
          </a:xfrm>
        </p:grpSpPr>
        <p:sp>
          <p:nvSpPr>
            <p:cNvPr id="370" name=""/>
            <p:cNvSpPr/>
            <p:nvPr/>
          </p:nvSpPr>
          <p:spPr>
            <a:xfrm>
              <a:off x="9068760" y="6401880"/>
              <a:ext cx="268560" cy="262080"/>
            </a:xfrm>
            <a:prstGeom prst="rect">
              <a:avLst/>
            </a:prstGeom>
            <a:solidFill>
              <a:srgbClr val="9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67680" y="6400800"/>
              <a:ext cx="268560" cy="26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250920" y="658764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45080" y="646092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11" y="305"/>
                  </a:moveTo>
                  <a:lnTo>
                    <a:pt x="240" y="282"/>
                  </a:lnTo>
                  <a:lnTo>
                    <a:pt x="28" y="0"/>
                  </a:lnTo>
                  <a:lnTo>
                    <a:pt x="0" y="23"/>
                  </a:lnTo>
                  <a:lnTo>
                    <a:pt x="211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243720" y="6587640"/>
              <a:ext cx="14400" cy="176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7"/>
                  </a:moveTo>
                  <a:lnTo>
                    <a:pt x="0" y="32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8280" y="645660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145080" y="6456600"/>
              <a:ext cx="12960" cy="172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9"/>
                  </a:moveTo>
                  <a:lnTo>
                    <a:pt x="14" y="0"/>
                  </a:lnTo>
                  <a:lnTo>
                    <a:pt x="0" y="32"/>
                  </a:lnTo>
                  <a:lnTo>
                    <a:pt x="14" y="3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250920" y="6456600"/>
              <a:ext cx="540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145080" y="6460920"/>
              <a:ext cx="113040" cy="141120"/>
            </a:xfrm>
            <a:custGeom>
              <a:avLst/>
              <a:gdLst/>
              <a:ahLst/>
              <a:rect l="l" t="t" r="r" b="b"/>
              <a:pathLst>
                <a:path w="240" h="305">
                  <a:moveTo>
                    <a:pt x="240" y="23"/>
                  </a:moveTo>
                  <a:lnTo>
                    <a:pt x="211" y="0"/>
                  </a:lnTo>
                  <a:lnTo>
                    <a:pt x="0" y="282"/>
                  </a:lnTo>
                  <a:lnTo>
                    <a:pt x="28" y="305"/>
                  </a:lnTo>
                  <a:lnTo>
                    <a:pt x="2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43720" y="6456600"/>
              <a:ext cx="14400" cy="172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0"/>
                  </a:moveTo>
                  <a:lnTo>
                    <a:pt x="0" y="9"/>
                  </a:lnTo>
                  <a:lnTo>
                    <a:pt x="14" y="37"/>
                  </a:lnTo>
                  <a:lnTo>
                    <a:pt x="29" y="3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98280" y="6587640"/>
              <a:ext cx="540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5080" y="6587640"/>
              <a:ext cx="12960" cy="176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2"/>
                  </a:moveTo>
                  <a:lnTo>
                    <a:pt x="14" y="37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86400" y="6460920"/>
              <a:ext cx="529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086400" y="6424200"/>
              <a:ext cx="529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83520" y="6460920"/>
              <a:ext cx="2880" cy="115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23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86400" y="6460920"/>
              <a:ext cx="1440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86400" y="6591960"/>
              <a:ext cx="5292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1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81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86400" y="6555240"/>
              <a:ext cx="5292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4"/>
                  </a:lnTo>
                  <a:lnTo>
                    <a:pt x="8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64240" y="646092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264240" y="6424200"/>
              <a:ext cx="51120" cy="482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02400" y="6460920"/>
              <a:ext cx="12960" cy="1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64240" y="6591960"/>
              <a:ext cx="51120" cy="486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80"/>
                  </a:moveTo>
                  <a:lnTo>
                    <a:pt x="29" y="103"/>
                  </a:lnTo>
                  <a:lnTo>
                    <a:pt x="110" y="23"/>
                  </a:lnTo>
                  <a:lnTo>
                    <a:pt x="8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64240" y="6555240"/>
              <a:ext cx="51120" cy="468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82" y="103"/>
                  </a:moveTo>
                  <a:lnTo>
                    <a:pt x="110" y="8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8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645400" cy="4579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er capabilities/DWDM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81480" y="2286000"/>
            <a:ext cx="4592880" cy="4656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velengths can be time-division multiplexed into a series of aggregated connection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s of wavelengths can be spaced into waveband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itching can be done by wavebands or wavelength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Cable can do multi terabits/sec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1905120"/>
          <a:ext cx="396252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396252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10020600" cy="99072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Our Competitor: WDM GURU, OPNET Technology, Inc (Nasdaq OPN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33520" y="2362320"/>
            <a:ext cx="9296280" cy="4721400"/>
            <a:chOff x="533520" y="2362320"/>
            <a:chExt cx="9296280" cy="4721400"/>
          </a:xfrm>
        </p:grpSpPr>
        <p:sp>
          <p:nvSpPr>
            <p:cNvPr id="399" name=""/>
            <p:cNvSpPr/>
            <p:nvPr/>
          </p:nvSpPr>
          <p:spPr>
            <a:xfrm>
              <a:off x="533520" y="2362320"/>
              <a:ext cx="9296280" cy="47214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33520" y="2362320"/>
              <a:ext cx="9296280" cy="4718520"/>
              <a:chOff x="533520" y="2362320"/>
              <a:chExt cx="9296280" cy="4718520"/>
            </a:xfrm>
          </p:grpSpPr>
          <p:sp>
            <p:nvSpPr>
              <p:cNvPr id="401" name=""/>
              <p:cNvSpPr/>
              <p:nvPr/>
            </p:nvSpPr>
            <p:spPr>
              <a:xfrm>
                <a:off x="533520" y="2362320"/>
                <a:ext cx="9296280" cy="36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3520" y="2362320"/>
                <a:ext cx="9296280" cy="471852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logo_a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5333760" cy="1218960"/>
          </a:xfrm>
          <a:prstGeom prst="rect">
            <a:avLst/>
          </a:prstGeom>
          <a:ln w="0">
            <a:noFill/>
          </a:ln>
        </p:spPr>
      </p:pic>
      <p:pic>
        <p:nvPicPr>
          <p:cNvPr id="404" name="wdmguru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51055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1940040" y="2655720"/>
            <a:ext cx="6294240" cy="2193840"/>
            <a:chOff x="1940040" y="2655720"/>
            <a:chExt cx="6294240" cy="2193840"/>
          </a:xfrm>
        </p:grpSpPr>
        <p:sp>
          <p:nvSpPr>
            <p:cNvPr id="406" name=""/>
            <p:cNvSpPr/>
            <p:nvPr/>
          </p:nvSpPr>
          <p:spPr>
            <a:xfrm>
              <a:off x="1940040" y="2655720"/>
              <a:ext cx="629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40040" y="2655720"/>
              <a:ext cx="629424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8" name="wdm_guru_icon" descr=""/>
          <p:cNvPicPr/>
          <p:nvPr/>
        </p:nvPicPr>
        <p:blipFill>
          <a:blip r:embed="rId3"/>
          <a:stretch/>
        </p:blipFill>
        <p:spPr>
          <a:xfrm>
            <a:off x="6248520" y="2514600"/>
            <a:ext cx="2739960" cy="3112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7760" y="6400800"/>
            <a:ext cx="8783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ttp://www.opnet.com/products/wdmguru/ho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b02206"/>
                </a:solidFill>
                <a:latin typeface="Comic Sans MS"/>
              </a:rPr>
              <a:t>WDM GURU, OPNET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2133720"/>
            <a:ext cx="9296280" cy="4721400"/>
            <a:chOff x="457200" y="2133720"/>
            <a:chExt cx="9296280" cy="4721400"/>
          </a:xfrm>
        </p:grpSpPr>
        <p:sp>
          <p:nvSpPr>
            <p:cNvPr id="412" name=""/>
            <p:cNvSpPr/>
            <p:nvPr/>
          </p:nvSpPr>
          <p:spPr>
            <a:xfrm>
              <a:off x="457200" y="2133720"/>
              <a:ext cx="9296280" cy="47214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57200" y="2133720"/>
              <a:ext cx="9296280" cy="4718520"/>
              <a:chOff x="457200" y="2133720"/>
              <a:chExt cx="9296280" cy="4718520"/>
            </a:xfrm>
          </p:grpSpPr>
          <p:sp>
            <p:nvSpPr>
              <p:cNvPr id="414" name=""/>
              <p:cNvSpPr/>
              <p:nvPr/>
            </p:nvSpPr>
            <p:spPr>
              <a:xfrm>
                <a:off x="457200" y="2133720"/>
                <a:ext cx="9296280" cy="36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7200" y="2133720"/>
                <a:ext cx="9296280" cy="471852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762120" y="3048120"/>
            <a:ext cx="365760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Generating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Optimizing Capit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Reducing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.Reducing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4648320"/>
            <a:ext cx="15242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95680" y="5105520"/>
            <a:ext cx="15242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4464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ur goal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2286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able service providers and network equipment manufacturers to design resilient, cost-effective optic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Our Approach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8645760" cy="3741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parallel machine to simulate the routing behavior about 70,000 routers. (This limit is actually given by the machine memory we have)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port LINUX and UNIX, while OPNET supports Windows NT/2000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10020600" cy="609840"/>
          </a:xfrm>
          <a:prstGeom prst="rect">
            <a:avLst/>
          </a:prstGeom>
          <a:noFill/>
          <a:ln w="0">
            <a:noFill/>
          </a:ln>
        </p:spPr>
        <p:txBody>
          <a:bodyPr lIns="100800" rIns="136800" tIns="86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Our Approach (cont.)</a:t>
            </a:r>
            <a:endParaRPr b="0" lang="en-US" sz="2800" spc="-1" strike="noStrike">
              <a:solidFill>
                <a:srgbClr val="000000"/>
              </a:solidFill>
              <a:latin typeface="FuturaA Md B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645400" cy="419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e routes covering IP networks and Optical Network, while WDM GURU supports Optical Network only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have similar GUI with OPNET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simulation considers communication cost, while sequential versions don’t.</a:t>
            </a: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7:50:58Z</dcterms:created>
  <dc:creator>NUS</dc:creator>
  <dc:description/>
  <dc:language>en-US</dc:language>
  <cp:lastModifiedBy>NUS</cp:lastModifiedBy>
  <cp:lastPrinted>1999-12-03T23:09:02Z</cp:lastPrinted>
  <dcterms:modified xsi:type="dcterms:W3CDTF">2002-05-16T00:28:40Z</dcterms:modified>
  <cp:revision>20</cp:revision>
  <dc:subject/>
  <dc:title>PowerPoint Presentation</dc:title>
</cp:coreProperties>
</file>