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800-B37D-460E-9715-ECD8C910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3D5-CBC1-429A-97C6-7A07D31B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F03-E96E-4AC3-92BE-D606F64E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718-BAC8-44BA-BB58-8B7ADC91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D5E8-BED1-4359-8740-26FC0136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BBA4-C797-45D7-9A57-A7155538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AD13-142D-4584-A991-2EF9F7F1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5D86-58BD-47A0-A08B-98C9209E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4520-2737-414C-A539-BEF0B73A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4BF2-9424-457E-B8E6-8EC17A3C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4D34-A3F1-4838-BABE-8218DC7F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457-4124-4567-A68D-DEC39C01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85C3-9B21-471D-B69E-18F8270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1791-11A9-4E2B-B8D5-4FF3FE9A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CFA5-07D1-4B0E-8DED-953B8ECF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8C3E-FA10-414A-B394-0AA25F7C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F911-331B-4FB9-924F-8E21380A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0C9-584B-45C2-8350-EBE401BC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834-D5E8-4280-9939-18B13687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CFB-47D2-49ED-AD29-F1B3180C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5CF-6C41-4948-9B9F-1DD37377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84F-7CCA-4DE0-B06B-1638EF73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A9D-4852-46EF-9C7D-DD7A0197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8BB-ED31-4EB6-BB47-31D469C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0D69-68B2-4415-BF0B-9893AEA1D1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794F-D642-4CEA-AC1F-DB3B95D06E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-unix.mcs.anl.gov/dbpp/text/node117.html#eqrand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leph0.clarku.edu/~djoyce/julia/explorer.html" TargetMode="External"/><Relationship Id="rId2" Type="http://schemas.openxmlformats.org/officeDocument/2006/relationships/hyperlink" Target="http://www.math.utah.edu/~alfeld/math/mandelbrot/title.gif" TargetMode="External"/><Relationship Id="rId3" Type="http://schemas.openxmlformats.org/officeDocument/2006/relationships/hyperlink" Target="http://www.math.utah.edu/~alfeld/math/mandelbrot/title.gif" TargetMode="External"/><Relationship Id="rId4" Type="http://schemas.openxmlformats.org/officeDocument/2006/relationships/hyperlink" Target="http://www.math.utah.edu/~alfeld/math/mandelbrot/No1.gif" TargetMode="External"/><Relationship Id="rId5" Type="http://schemas.openxmlformats.org/officeDocument/2006/relationships/hyperlink" Target="file:///Applied%20Parallel%20Computing/spiral.gif" TargetMode="External"/><Relationship Id="rId6" Type="http://schemas.openxmlformats.org/officeDocument/2006/relationships/hyperlink" Target="file:///Applied%20Parallel%20Computing/spiral.gif" TargetMode="Externa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nfo.acm.org/crossroads/xrds6-3/lsv_oct.html" TargetMode="External"/><Relationship Id="rId2" Type="http://schemas.openxmlformats.org/officeDocument/2006/relationships/hyperlink" Target="http://www-users.informatik.rwth-aachen.de/~roberts/octree.html" TargetMode="External"/><Relationship Id="rId3" Type="http://schemas.openxmlformats.org/officeDocument/2006/relationships/hyperlink" Target="http://www-users.informatik.rwth-aachen.de/~roberts/octree.html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MA 5505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ed Parallel Compu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F7A6-A7D4-4CAE-BA5C-0C6C878F7D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main decomposi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EXAMPL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(1D decomposition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35160" y="5715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94480" y="60040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16840" y="5715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28000" y="55627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52360" y="5721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03360" y="5715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01400" y="5721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43040" y="5715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590920"/>
            <a:ext cx="6248160" cy="3124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020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872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7800" y="5410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10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2940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BE0-0468-43FA-9829-337F133576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EXAMPL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(2D decomposition)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which is better? In what sense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35160" y="5715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94480" y="60040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16840" y="5715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28000" y="55627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52360" y="5721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3360" y="5715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01400" y="57214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43040" y="5715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590920"/>
            <a:ext cx="6248160" cy="3124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020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340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872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7800" y="5410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E10-7086-4AEE-9A5A-50CF43D750B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EXAMPL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(2D decomposition)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which is better? In what sense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35160" y="5715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4480" y="60040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16840" y="5715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28000" y="55627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52360" y="5721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43040" y="5715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2590920"/>
            <a:ext cx="6248160" cy="3124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020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4952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412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47800" y="5410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38098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7716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8080" y="47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0608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14760" y="567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53600" y="567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C2A-3F8F-4E09-8EF4-313BCA85A1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EXAMPL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which is better? In what sense?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pending on nature of problem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k distribu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8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rk depends only on domain siz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8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ork ~ #point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munication: amount &amp; patter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8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communication (Embarrassingly parallel) e.g. geometric transformation on image points; Mandelbrot set; Monte Carlo metho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ular, e.g. nearest neighbors: e.g. matrix, solution of PDEs, many other examples in numerical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bitrary, irregular patterns: e.g. circuit simulation, semantic networks, (headaches till this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967-FA3B-45AB-BB77-830F09B56E6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onte Carlo Method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 computing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266688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2666880"/>
            <a:ext cx="21337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69000" y="2819520"/>
            <a:ext cx="590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oints in circle/# points in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 *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just consider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d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3080" y="3290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7080" y="3672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7652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9D5-0BF0-4001-899C-53498325A1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onte Carlo Method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 Decomposition can be arbitrary—that is, as long as the workload is even &amp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ivis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es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oes not entail too much tim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4038480"/>
            <a:ext cx="21333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4038480"/>
            <a:ext cx="21333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403848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29000" y="4038480"/>
            <a:ext cx="21337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50292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403848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4038480"/>
            <a:ext cx="21337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171840" y="4038480"/>
            <a:ext cx="21337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4038480"/>
            <a:ext cx="21337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50292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54864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50292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238520" y="4724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371-7301-4B79-99F5-870C8D3FAC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onte Carlo Method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btle issue: parallel generation of random numb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ing one random number generator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implementations not thread-safe: results unpredictable, non-repea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(centralized server): sequential access (bottleneck--still less of a 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different seeds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ame number may appear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sequence repea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959-4F97-4F7E-9DB4-8E868B22FB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onte Carlo Method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rallel generation of random number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e different generators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ame number m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ar more often than others in combined sequ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s not really rand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arallelize? </a:t>
            </a:r>
            <a:r>
              <a:rPr b="0" lang="en-US" sz="1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-unix.mcs.anl.gov/dbpp/text/node117.html#eq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88A-22ED-4CF8-A1F8-D7E2C3887F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onte Carlo Method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tial: Linear congru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(i+1) = (a * x(i) +c )  (mod m)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normally large prim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e.g. a=16807; m= 2^32-1 a Fermat prime; c=0; period = 2^32-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(i+1) = (A * x(i) +C)  (mod m), 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= 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mod 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 = c * (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Arial"/>
              </a:rPr>
              <a:t>k-2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+1) mod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“jump”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large enough &gt;# pro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EBE-E852-4614-81AD-50C86E52CE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onte Carlo Method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p processor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rst p numbers are generated sequentiall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or apply parallel prefix?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sequent numbers can be generated independently and concurre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5257800"/>
            <a:ext cx="762120" cy="6858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5257800"/>
            <a:ext cx="761760" cy="6858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5257800"/>
            <a:ext cx="761760" cy="6858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38480" y="5257800"/>
            <a:ext cx="762120" cy="6858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p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5257800"/>
            <a:ext cx="761760" cy="6858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p+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5257800"/>
            <a:ext cx="761760" cy="6858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2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4724280"/>
            <a:ext cx="3124080" cy="533520"/>
          </a:xfrm>
          <a:custGeom>
            <a:avLst/>
            <a:gdLst/>
            <a:ahLst/>
            <a:rect l="l" t="t" r="r" b="b"/>
            <a:pathLst>
              <a:path w="1968" h="336">
                <a:moveTo>
                  <a:pt x="0" y="336"/>
                </a:moveTo>
                <a:cubicBezTo>
                  <a:pt x="388" y="168"/>
                  <a:pt x="776" y="0"/>
                  <a:pt x="1104" y="0"/>
                </a:cubicBezTo>
                <a:cubicBezTo>
                  <a:pt x="1432" y="0"/>
                  <a:pt x="1824" y="280"/>
                  <a:pt x="1968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33720" y="4724280"/>
            <a:ext cx="3124080" cy="533520"/>
          </a:xfrm>
          <a:custGeom>
            <a:avLst/>
            <a:gdLst/>
            <a:ahLst/>
            <a:rect l="l" t="t" r="r" b="b"/>
            <a:pathLst>
              <a:path w="1968" h="336">
                <a:moveTo>
                  <a:pt x="0" y="336"/>
                </a:moveTo>
                <a:cubicBezTo>
                  <a:pt x="388" y="168"/>
                  <a:pt x="776" y="0"/>
                  <a:pt x="1104" y="0"/>
                </a:cubicBezTo>
                <a:cubicBezTo>
                  <a:pt x="1432" y="0"/>
                  <a:pt x="1824" y="280"/>
                  <a:pt x="1968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4724280"/>
            <a:ext cx="3124080" cy="533520"/>
          </a:xfrm>
          <a:custGeom>
            <a:avLst/>
            <a:gdLst/>
            <a:ahLst/>
            <a:rect l="l" t="t" r="r" b="b"/>
            <a:pathLst>
              <a:path w="1968" h="336">
                <a:moveTo>
                  <a:pt x="0" y="336"/>
                </a:moveTo>
                <a:cubicBezTo>
                  <a:pt x="388" y="168"/>
                  <a:pt x="776" y="0"/>
                  <a:pt x="1104" y="0"/>
                </a:cubicBezTo>
                <a:cubicBezTo>
                  <a:pt x="1432" y="0"/>
                  <a:pt x="1824" y="280"/>
                  <a:pt x="1968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638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4191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83400" y="62085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92560" y="62085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4832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48640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85800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9BA-9112-4964-8DC6-E6F34E7DF8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Plan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llel compu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llel 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ssage-pa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ared-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llel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meri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-numer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per reading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6320" y="174960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6320" y="263520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387-5C69-47D3-8FC8-8BD3AB13D3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andelbrot se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r an arbitrary complex number c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= 0;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+ c  for k&gt;=0 until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||Z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||&gt; 2  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“failed the test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# iterations &gt; upper bound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“passed the set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Mandelbrot set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={ c | c passes the test}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4C9-A565-46B3-AC41-A404AEFBA6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andelbrot se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M-se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{ c | c passes the test}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lotting M-s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z denote # iterations for c = x+y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color(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color(z) on (x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of course, we can only do so for finite set of points)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see diagra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EE9-332F-4601-9C7B-EF8B2F3B0D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andelbrot se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aleph0.clarku.edu/~djoyce/julia/explorer.htm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www.math.utah.edu/~alfeld/math/mandelbrot/title.g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tp://www.math.utah.edu/~alfeld/math/mandelbrot/No1.g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www.olympus.net/personal/dewey/spiral.gi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azing that so much could be encoded with so littl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auty == Simplic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63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81640" y="3678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62D-47DF-4234-8221-4370AA94C4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andelbrot se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divide—equal parts or unequal par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al p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iterations/point vary widely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equal worklo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area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nproduc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contains little variation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equal parts: h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k of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inf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87D-BA2D-4026-B746-96DDF517DA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andelbrot se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solution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p domain into small equal pi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 workers pieces of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ive work: Each piece is taken as “productive” if samples are non-uniform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wise discar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4CC-BA71-4B15-BCFE-A4B7C6E9F4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andelbrot set: Master-slave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1447920"/>
            <a:ext cx="563904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5200" y="23004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o be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6002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581280" y="27432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562360" y="266688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419112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41148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962160" y="41911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5105520"/>
            <a:ext cx="563904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39600" y="56754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91120" y="1905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5680" y="19051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1905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1905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2057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20574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43400" y="2057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2057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4816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53000" y="4379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3429000"/>
            <a:ext cx="15238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3429000"/>
            <a:ext cx="1447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3429000"/>
            <a:ext cx="1447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52680" y="55627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0532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760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3809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3809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0400" y="3657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3657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3920" y="3657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8120" y="3809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3657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10080" y="3657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3657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3657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3809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7D7-AFB2-4A74-87F3-61CDFC6E53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andelbrot se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ic assignment: uneven work is still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 assignmen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p domain into small pi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 each worker a piece of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 workers come back for more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585-9857-4B4D-8A43-7FB5459C84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andelbrot set: Master-slave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23880" y="1447920"/>
            <a:ext cx="563904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55200" y="230040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o be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143000" y="259092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200400" y="28195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409720" y="2743200"/>
            <a:ext cx="381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43434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00400" y="426708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4120" y="441972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5105520"/>
            <a:ext cx="563904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39600" y="56754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1905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19051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1905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48320" y="1905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2057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95680" y="20574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057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91120" y="2057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600200" y="2666520"/>
            <a:ext cx="99072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581280" y="2819520"/>
            <a:ext cx="60984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86728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86160" y="30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10080" y="45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9680" y="38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3886200"/>
            <a:ext cx="685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8080" y="40384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3886200"/>
            <a:ext cx="685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40384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52880" y="3962520"/>
            <a:ext cx="6858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4114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0040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812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5268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812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52578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52578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7E9-4798-4C91-B6BE-ED51E1FEAA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Verdana"/>
              </a:rPr>
              <a:t>Mandelbrot se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ic decomposition; static 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nd sublists to al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ceive from al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de (cf. p. 91 Wilkinson’s tex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ic decomposition; dynamic 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d one to eac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eive from a slave: &amp;sl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d to the sl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de (cf. p. 93 Wilkinson’s tex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289-B641-42C2-BDAF-72DF3A34B6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andelbrot se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 decomposition, dynamic 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daptive sche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ly: chop the domain into equal pieces, put into p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 workers get pieces of work until all are consum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ers recursively decompose assigned area if it is “informative”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ain one piece to work on; return the rest into the common pool   (ask for help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0DA-3C5E-4F5A-8DEF-3C63F9039B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Verdana"/>
              </a:rPr>
              <a:t>Summary of previous lectur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: What is parallel computing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: Part of nature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: Why go parallel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veral measures of speedu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dahl’s law &amp; its correct interpret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: How different are parallel computers from sequential computers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dose of parallel architectures useful for efficient use of parallel computer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976-32A4-4630-9BB9-855685D2FF0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andelbrot set: master-slave or </a:t>
            </a:r>
            <a:br>
              <a:rPr sz="3100"/>
            </a:b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    all peers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600200" y="1447920"/>
            <a:ext cx="56386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400" y="23763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o be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914040" y="2590920"/>
            <a:ext cx="1676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504960" y="281952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91320" y="2743200"/>
            <a:ext cx="3045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90720" y="411480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4343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866920" y="419112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105520"/>
            <a:ext cx="56386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39600" y="56754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266688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0" y="720"/>
                </a:moveTo>
                <a:cubicBezTo>
                  <a:pt x="312" y="684"/>
                  <a:pt x="624" y="648"/>
                  <a:pt x="816" y="528"/>
                </a:cubicBezTo>
                <a:cubicBezTo>
                  <a:pt x="1008" y="408"/>
                  <a:pt x="1080" y="204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9880" y="2819520"/>
            <a:ext cx="711360" cy="1218960"/>
          </a:xfrm>
          <a:custGeom>
            <a:avLst/>
            <a:gdLst/>
            <a:ahLst/>
            <a:rect l="l" t="t" r="r" b="b"/>
            <a:pathLst>
              <a:path w="592" h="816">
                <a:moveTo>
                  <a:pt x="0" y="816"/>
                </a:moveTo>
                <a:cubicBezTo>
                  <a:pt x="232" y="716"/>
                  <a:pt x="464" y="616"/>
                  <a:pt x="528" y="480"/>
                </a:cubicBezTo>
                <a:cubicBezTo>
                  <a:pt x="592" y="344"/>
                  <a:pt x="408" y="80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5880" y="2743200"/>
            <a:ext cx="914400" cy="1295280"/>
          </a:xfrm>
          <a:custGeom>
            <a:avLst/>
            <a:gdLst/>
            <a:ahLst/>
            <a:rect l="l" t="t" r="r" b="b"/>
            <a:pathLst>
              <a:path w="384" h="816">
                <a:moveTo>
                  <a:pt x="0" y="816"/>
                </a:moveTo>
                <a:cubicBezTo>
                  <a:pt x="192" y="644"/>
                  <a:pt x="384" y="472"/>
                  <a:pt x="384" y="336"/>
                </a:cubicBezTo>
                <a:cubicBezTo>
                  <a:pt x="384" y="200"/>
                  <a:pt x="72" y="6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09680" y="19051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91120" y="20574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2057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1752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62720" y="2057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62720" y="2209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15000" y="2209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0528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6740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4400" y="4379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3809880"/>
            <a:ext cx="9907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3886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1800" y="2209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71800" y="1905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2209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3886200"/>
            <a:ext cx="9907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004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86400" y="4038480"/>
            <a:ext cx="9907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67280" y="41911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86400" y="54864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86400" y="57913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91320" y="57913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EF4-E47D-4BAC-9C73-693AC1A7CC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andelbrot se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 decomposition, dynamic 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ly: chop the domain into equal pie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case: Quad-tree decom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benefit: integers vs floats; adapt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038480" y="4495680"/>
            <a:ext cx="4572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38480" y="4038480"/>
            <a:ext cx="4572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4038480"/>
            <a:ext cx="4572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95680" y="4495680"/>
            <a:ext cx="4572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16000" y="5486400"/>
            <a:ext cx="4572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60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446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83560" y="542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02360" y="542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602360" y="571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383560" y="571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87600" y="5486400"/>
            <a:ext cx="4572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876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162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55160" y="542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973960" y="542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73960" y="5638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5160" y="5638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16400" y="5486400"/>
            <a:ext cx="4572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164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450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83960" y="542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2760" y="542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02760" y="571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83960" y="571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88000" y="5486400"/>
            <a:ext cx="457200" cy="4572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880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166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55560" y="5410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4360" y="5410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4360" y="571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955560" y="571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437920" y="49528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114440" y="4952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49528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2880" y="495288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3240" y="4708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67120" y="4937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4320" y="4952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695920" y="47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971800" y="59436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429000" y="5943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59436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81280" y="594360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85C-1956-474B-9367-E7DD95ABE9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main decomposi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EXAM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39440" y="2082960"/>
            <a:ext cx="39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domain:3D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29000" y="3276720"/>
            <a:ext cx="2057400" cy="198108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429000" y="31237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6576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57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862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34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3434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45720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8006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1148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3276720"/>
            <a:ext cx="2057400" cy="198108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85800" y="31237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9144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3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71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28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574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430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6002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8288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0574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3716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3392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429000" y="3962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2900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2900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2900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29000" y="487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8148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34120" y="3429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02920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029200" y="3733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02920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0292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502920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029200" y="4648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3276720"/>
            <a:ext cx="2057400" cy="1981080"/>
          </a:xfrm>
          <a:prstGeom prst="cube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7220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6172200" y="31237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4008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00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086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43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70866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75438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685800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172200" y="4267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696080" y="37335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696080" y="4038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7712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77320" y="3429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2600" y="557676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along 1 dim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41520" y="552276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ong all 3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04880" y="55227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egular c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4840" y="25909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weather forecasting,</a:t>
            </a: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 aircraft modeling,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52E-3849-4BCE-BE85-DADC0A528FA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main decomposition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atic decomposition, static allo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atic decomposition, dynamic allo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ynamic decomposition, dynamic allo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D Special case: Octree e.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info.acm.org/crossroads/xrds6-3/lsv_oc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-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users.informatik.rwth-aachen.de/~roberts/octre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691-2CEB-46DC-B25A-230E43FB8F4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EXAMPLE: Jacobi’s iterative method for Poisson problem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= f(x, y) ----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(x, y) = g(x, y) ---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und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 (n+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+2) grid on the domain, s.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 / (n+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 = 0, 1, …, n+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 / (n+1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 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0, 1, …, n+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1828800"/>
            <a:ext cx="304920" cy="4572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26040" y="15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DFD-6F44-4755-B53E-F78B8E15E3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Jacobi’s iterative method for PDE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143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23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3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0512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4300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2388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0512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0512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66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4812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812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429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9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09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4812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6880" y="2590920"/>
            <a:ext cx="228600" cy="2286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0988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4300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2388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143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86000" y="2895480"/>
            <a:ext cx="228600" cy="2286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143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43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0512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66880" y="2895480"/>
            <a:ext cx="228600" cy="228600"/>
          </a:xfrm>
          <a:prstGeom prst="ellipse">
            <a:avLst/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48120" y="2895480"/>
            <a:ext cx="228600" cy="2286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3200400"/>
            <a:ext cx="228600" cy="2286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900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0988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09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666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04812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6680" y="4191120"/>
            <a:ext cx="94345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[ u(i-1,j)+u(i,j+1)+u(i,j-1)+u(i+1,j)–4u(i,j) ] / h</a:t>
            </a:r>
            <a:r>
              <a:rPr b="0" lang="en-US" sz="2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=  f(i,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u(i,j) = ¼*[ u(i-1,j)+u(i,j+1)+u(i,j-1)+u(i+1,j)–h</a:t>
            </a:r>
            <a:r>
              <a:rPr b="0" lang="en-US" sz="2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(i, j)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0" lang="en-US" sz="2800" spc="-1" strike="noStrike" baseline="30000">
                <a:solidFill>
                  <a:srgbClr val="cc3300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i,j)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=¼*[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u</a:t>
            </a:r>
            <a:r>
              <a:rPr b="0" lang="en-US" sz="2800" spc="-1" strike="noStrike" baseline="30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i-1,j)+u</a:t>
            </a:r>
            <a:r>
              <a:rPr b="0" lang="en-US" sz="2800" spc="-1" strike="noStrike" baseline="30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i,j+1)+u</a:t>
            </a:r>
            <a:r>
              <a:rPr b="0" lang="en-US" sz="2800" spc="-1" strike="noStrike" baseline="30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i,j-1)+u</a:t>
            </a:r>
            <a:r>
              <a:rPr b="0" lang="en-US" sz="2800" spc="-1" strike="noStrike" baseline="30000">
                <a:solidFill>
                  <a:srgbClr val="cc33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(i+1,j)–h</a:t>
            </a:r>
            <a:r>
              <a:rPr b="0" lang="en-US" sz="2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f(i, j)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92520" y="35305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et   h= 1/(n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6600" y="5943600"/>
            <a:ext cx="228600" cy="2286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705720" y="6248520"/>
            <a:ext cx="228600" cy="2286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86600" y="6248520"/>
            <a:ext cx="228600" cy="228600"/>
          </a:xfrm>
          <a:prstGeom prst="ellipse">
            <a:avLst/>
          </a:pr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86600" y="6553080"/>
            <a:ext cx="228600" cy="2286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6248520"/>
            <a:ext cx="228600" cy="2286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1CD-3EAC-4D45-95D0-22983DA20E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Jacobi’s iterative method for PDE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143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523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512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512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86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23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4300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2388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0512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0512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812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4812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429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09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9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666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4812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66688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812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09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2900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988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4300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43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523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90512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0512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86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143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143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23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0512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66688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812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66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42900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0988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666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4812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666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29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14400" y="3200400"/>
            <a:ext cx="3352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14400" y="2286000"/>
            <a:ext cx="335268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914400" y="1295280"/>
            <a:ext cx="3352680" cy="914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904280" y="346536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04280" y="25909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 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04280" y="16765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 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4343400" y="1905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190760" y="2743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343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5920" y="4191120"/>
            <a:ext cx="91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 i, j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precision u(0:n+1, s:e), unew(0:n+1, s: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10 j=s,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10 i=1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w(i, j) = 0.25*(u(i-1, j)+u(I,j+1)+u(I, j-1)+u(i+1,j)) – h*h*f(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2388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0512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8600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04812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42900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8B5-02C4-4E77-AE1A-89B1627445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Jacobi’s iterative method for PDE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3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523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0512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0512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523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52388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0512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90512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28600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666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4812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812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9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809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66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04812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66688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04812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09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42900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80988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14300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388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143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23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28600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0512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286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143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43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23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90512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86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6688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04812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666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0988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09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666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04812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04812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3200400" y="266652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2120" y="3200400"/>
            <a:ext cx="3581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2120" y="2286000"/>
            <a:ext cx="358128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2120" y="1295280"/>
            <a:ext cx="3581280" cy="914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743200" y="3048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98720" y="216216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fortunately, out of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276360" y="2743200"/>
            <a:ext cx="2895480" cy="6094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68200" y="4191120"/>
            <a:ext cx="872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i, j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precision u(0:n+1, s:e), unew(0:n+1, s: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10 j=s,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10 i=1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w(i, j) = 0.25*(u(i-1, j)+u(I,j+1)+u(I, j-1)+u(i+1,j)) – h*h*f(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14300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52388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0512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8600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4812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42900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62320" y="2362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819520" y="198072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2971800" y="2057040"/>
            <a:ext cx="2743200" cy="1522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DF2-4327-43AE-AD92-F3D3EDDB7B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Jacobi’s iterative method for PDE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43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23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23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0512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0512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523880" y="2286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43000" y="25909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523880" y="25909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05120" y="2286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05120" y="25909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86000" y="25909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666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04812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04812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42900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809880" y="16765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809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2286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48120" y="2286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25909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48120" y="25909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22860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429000" y="25909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09880" y="25909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143000" y="2895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523880" y="2895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43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23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905120" y="2895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286000" y="2895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90512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86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143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143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523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90512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86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666880" y="2895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048120" y="2895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666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429000" y="2895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09880" y="2895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09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666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04812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666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04812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429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124080" y="205704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743200" y="2438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14400" y="2286000"/>
            <a:ext cx="335268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68200" y="4191120"/>
            <a:ext cx="872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precision  u(0:n+1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: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unew(0:n+1, s:e)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precision  u(0:n+1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-1: e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unew(0:n+1, s: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10  j= s, e   (still doing the same r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10 i =1, 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14300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28600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66688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04812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42900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57200" y="1905120"/>
            <a:ext cx="41911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331960" y="205740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host data: to hol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4114440" y="213336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114440" y="236232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E84-890A-4D66-AFF5-148875A6F2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Jacobi’s: process mapping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seem easy to assig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(0) to the lowest strip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(1) to second lowest stripe, et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mapp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O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elay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terferen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ong communicating pairs may be a problem when sending large amount of 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828800" y="5029200"/>
            <a:ext cx="30492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819520" y="5029200"/>
            <a:ext cx="30456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809880" y="5029200"/>
            <a:ext cx="30492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477120" y="5029200"/>
            <a:ext cx="30456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1337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2408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7913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86400" y="5029200"/>
            <a:ext cx="30492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114800" y="51814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679040" y="54468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987440" y="5410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282360" y="5410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431520" y="5410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981080" y="57913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981080" y="59436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62520" y="6095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D8B-FEE7-480F-9CF1-166DF15F09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Verdana"/>
              </a:rPr>
              <a:t>Outlines for today’s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Q: How to go parallel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: divide+ communicate+ synchroniz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417-0229-4253-ACCB-DFB0C69AD6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Jacobi’s: process mapping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 (logical) topologie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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hysical) interconnection topolog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MPI Topolog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l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ick specification of common patterns: grids &amp;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pology-aware mapping by 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905120" y="4952880"/>
            <a:ext cx="30456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95480" y="4952880"/>
            <a:ext cx="30492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86200" y="4952880"/>
            <a:ext cx="30492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53080" y="4952880"/>
            <a:ext cx="30492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09680" y="5105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5105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867280" y="5105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562720" y="4952880"/>
            <a:ext cx="304560" cy="3049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191120" y="51055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0440" y="53704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17120" y="53341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83800" y="533412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981080" y="5867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124080" y="5867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5867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A0A-8200-49B0-A617-3DA68894A4B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PI Topology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4920" y="168444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dim  =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ms(1) = 4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ms(2) =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iods(1) = .fal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iods(2) = .fal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order     = .tr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l MPI_CART_CREATE(MPI_COMM_WORLD, ndim, dims, periods, re-order, comm2d, ier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es a Cartesian grid communicator comm2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iods: whether there is end-to-end connection (torus—useful for, e.g.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weather simulation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order: allow the OS to map as it sees fit to the physical top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419720" y="152388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4120" y="152388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248520" y="152388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162920" y="152388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213372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334120" y="213372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48520" y="213372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162920" y="213372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19720" y="274320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34120" y="274320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48520" y="274320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162920" y="2743200"/>
            <a:ext cx="685800" cy="45720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03840" y="95400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91120" y="327672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4191120" y="914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417-0C1D-4F00-B8BF-618B33EDF2A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MPI Topology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find own position in Cartesian grid, use MPI_Cart_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l MPI_CART_GE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mm1d, 2, dims, periods, coords, ier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turns in array “coord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ternatively, u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l MPI_COMM_RANK(comm1d, myrank, ierr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l MPI_CART_COORDS(comm1d, myrank, 2, coords, ie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327-480B-45A8-8EFF-4CFC370F09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Communication in MPI Topology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76320" y="1676520"/>
            <a:ext cx="91440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exchange data with 1D neighbo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28840" y="3200400"/>
            <a:ext cx="1905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28840" y="4724280"/>
            <a:ext cx="1905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31956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31956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28840" y="3809880"/>
            <a:ext cx="1905120" cy="152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328840" y="3200400"/>
            <a:ext cx="190512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328840" y="4724280"/>
            <a:ext cx="1905120" cy="152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328840" y="5334120"/>
            <a:ext cx="190512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331956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3319560" y="5486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160" y="2717640"/>
            <a:ext cx="40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own data to neighbor on t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-33120" y="4165560"/>
            <a:ext cx="45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ghost from neighbor at 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14840" y="3048120"/>
            <a:ext cx="1905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4840" y="4572000"/>
            <a:ext cx="1905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60556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614840" y="3657600"/>
            <a:ext cx="190512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14840" y="3048120"/>
            <a:ext cx="190512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14840" y="4572000"/>
            <a:ext cx="190512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14840" y="5181480"/>
            <a:ext cx="1905120" cy="152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605560" y="3809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60556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605560" y="5334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328840" y="3200400"/>
            <a:ext cx="419112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55320" y="401328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to neighbor at bott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709240" y="2641680"/>
            <a:ext cx="35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from neighbor on t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328840" y="4724280"/>
            <a:ext cx="4191120" cy="609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286000" y="3048120"/>
            <a:ext cx="1905120" cy="914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72000" y="3048120"/>
            <a:ext cx="1905120" cy="914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4FD-4B18-411D-96C1-A7A2BC3AA9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Communication in MPI Topology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76320" y="1676520"/>
            <a:ext cx="91440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xchange data with 1D neighbo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444760" y="3200400"/>
            <a:ext cx="1905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444760" y="4724280"/>
            <a:ext cx="1905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4354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435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444760" y="3809880"/>
            <a:ext cx="1905120" cy="152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444760" y="3200400"/>
            <a:ext cx="190512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444760" y="4724280"/>
            <a:ext cx="1905120" cy="152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444760" y="5334120"/>
            <a:ext cx="190512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3548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435480" y="5486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11960" y="274320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 own data to neighbor on t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92880" y="41148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Receive ghost from neighbor at bot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730760" y="3048120"/>
            <a:ext cx="19051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730760" y="4572000"/>
            <a:ext cx="1905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7214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730760" y="3657600"/>
            <a:ext cx="190512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30760" y="3048120"/>
            <a:ext cx="190512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730760" y="4572000"/>
            <a:ext cx="1905120" cy="152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730760" y="5181480"/>
            <a:ext cx="1905120" cy="152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721480" y="3809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72148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721480" y="5334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444760" y="3200400"/>
            <a:ext cx="419112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67120" y="40384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end to neighbor at bott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42640" y="266688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ceive from neighbor on t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444760" y="4724280"/>
            <a:ext cx="4191120" cy="609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818-CFCD-4E4A-AA10-0B62A24808D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Communication in MPI Topology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2280" y="1531440"/>
            <a:ext cx="91440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change data with 1D neighb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routine exchng1(a, nx, s, e, comm1d, nbrbottom, nbr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“mpi.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nx, s,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precision a(0:nx+1, s-1:e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comm1d, nbrbottom, nbr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status(MPI_STATUS_SIZE), i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l MPI_SEND(a(1, e), nx, MPI_DOUBLE_PRECISION, nbrtop, 0, comm1d, ier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l MPI_RECV( a(1, s-1), nx, MPI_DOUBLE_PRECISION, nbrbottom, 0, comm1d, status, ier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l MPI_SEND(a(1, e), nx, MPI_DOUBLE_PRECISION, nbrbottom, 0, comm1d, ier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l MPI_RECV( a(1, s-1), nx, MPI_DOUBLE_PRECISION, nbrtop, 0, comm1d, status, ier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158-670E-4F8F-98DB-529C8C67E0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Everyone sends, who receives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se a). system buffer is provid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different from user buffers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mantics of “send”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p completed as soon as data is placed in buffer. Everyone can complete and proceed with receive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K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with caveat—see below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se b). no system buffer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nnot assume that the operation is complete. When is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send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let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219-2C74-4806-9111-B7B1C5BA21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Everyone sends, who receives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ven with system buffers, the size of buffer (available resource) is still an issu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each process has only one buffer available for the send/receive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no space for “receive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one can complete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deadlock!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ssuming existence of system buffer is reasonable but not safe (not portabl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97D-5651-40B0-867C-1FDD6DFA40A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Everyone sends, who receives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safe solu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possible solu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d ones send; even ones rece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EE7-3185-42EA-9CA7-346010E22F8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Everyone sends, who receives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safe solutio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 MPI_Sendrecv(void * sendbuf, int sendcount, MPI_Datatype sendtype, int dest, int sendtag, void * recevbuf, int recvcount, MPI_Datatype recvtype, int source, int recvtag, MPI_Comm comm, MPI_Status * status) ---MPI will ensure that there is no deadlock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exchang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 MPI_Sendrecv_replace(  void * buf, int count, MPI_Datatype datatype, int dest, int sendtag, int source, int recvtag, MPI_Comm comm, MPI_Status *statu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E42-09C8-4352-BA7A-5F34FB2F196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Verdana"/>
              </a:rPr>
              <a:t>Parallel Programming (issues)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762120" indent="-7621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blem decomposition: schemes to divide into sub-tasks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even workload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longer execu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al: balanced workl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ro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a) domain decomposition: spli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b) functional decomposition: split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c) hyb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79B-3103-473B-99A5-D2F7194ADBB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Jacobi’s iterative method for PDE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523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90512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286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523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52388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90512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0512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28600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666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812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809880" y="19810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666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04812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66688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4812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809880" y="22860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2900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09880" y="25909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388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523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0512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8600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90512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286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523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523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0512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286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66688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04812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666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09880" y="28954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2900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809880" y="3200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666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04812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666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04812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42900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09880" y="350532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42900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666880" y="2895480"/>
            <a:ext cx="1676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447920" y="2819520"/>
            <a:ext cx="1523880" cy="12189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590920" y="1828800"/>
            <a:ext cx="16761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904280" y="346536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 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90428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 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37400" y="4419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 flipV="1">
            <a:off x="1828800" y="40384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2670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43434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371600" y="1905120"/>
            <a:ext cx="152388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30760" y="228600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2BE-0C69-4762-AE4E-9AAFEE7E2B2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EXAMPLE: Jacobi’s Method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2824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ing MP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s(1) = .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s(2) = .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order      = .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MPI_CART_CREATE( MPI_COMM_WORLD, 2, dims, periods, reorder, comm2d, ie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et left and right (and up and down) neighb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MPI_CART_SHIFT(COMM2D, 0, 1, nbrleft, nbrright, ie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MPI_CART_SHIFT(COMM2D, 1, 1, nbrbottom, nbrtop, ie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3A3-4C41-4DF8-9564-56D36969B1D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EXAMPLE: Jacobi’s Method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5228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MP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weep func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er i, j,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precision u(sx-1:ex+1, sy-1:ey+1),  unew(sx-1:ex+1, sy-1:ey+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10   j=sy, 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10   i= sx, 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ew(i,j)=0.25*(u(i-1,j)+u(i,j+1)+u(i, j-1)+u(i+1,j))–h*h*f(I, 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 contin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0E9-3B3F-4C71-978A-6546BADA03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roach (b). Functional decomposition: split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alogy: assembly line operations; immigration checking-cust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Pipelined stages (e.g. compiler); task graphs (e.g. “make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E52-1DB8-49CC-834A-13DB33C7036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nctional decom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971800" y="2590920"/>
            <a:ext cx="2362320" cy="6858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971800" y="3809880"/>
            <a:ext cx="2362320" cy="6858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971800" y="5029200"/>
            <a:ext cx="2362320" cy="6858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114800" y="3276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114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11480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250880" y="32878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272840" y="456084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pped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28280" y="5802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F76-76D5-452E-8C9E-06EB45E6F8B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roach (c). mixture of the two approach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ultiple assembly lines; multiple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migration coun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mpilation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divide into stag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se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syntax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semantics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timization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de g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each stage can be paralleliz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525-AF9C-4A6B-BE66-F17B9837A6E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roach (c). mixture of the two approache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ur brain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ft: reasoning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ght: art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each ha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al regions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ion, taste, smel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functional region is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23B-2C54-47A9-B252-5AF43038FF8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Verdana"/>
              </a:rPr>
              <a:t>Problem decomposition:  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. Approach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main decomposition exploits data parallel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ction decomposition exploits control parallel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=========================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ta parallelism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scal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better with increased problem size (amount of data); less constrained by Amdahl’s law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parallelism bounded by identified concurrent functions; more subject to Amdahl’s law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6EB-BF31-4A41-9DFD-122F4DC041C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Verdana"/>
              </a:rPr>
              <a:t>Problem decomposition: 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 Load balanc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ic: decompose into fixed sets that leads to approximately equal workload. Retain the same size during exec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ynamic: balance workload among processors during execution; normally done by chopping into suitable chunk size and swap chunks actively or on-deman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dap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83B-0E75-44C0-8D9B-4CF8CA4B2C6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Verdana"/>
              </a:rPr>
              <a:t>Problem decomposition:</a:t>
            </a:r>
            <a:br>
              <a:rPr sz="3600"/>
            </a:br>
            <a:r>
              <a:rPr b="0" lang="en-US" sz="3600" spc="-1" strike="noStrike">
                <a:solidFill>
                  <a:srgbClr val="330066"/>
                </a:solidFill>
                <a:latin typeface="Verdana"/>
              </a:rPr>
              <a:t>summar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 Logical topology vs physical top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PI topologies are useful too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s could be subt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90F-CC21-4EAA-A292-D1022EE9F43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roach (a). domain decomposition: spli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alogy: super market check-out coun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stomers ~ data;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erks ~ processo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B6E-82EE-43FC-BC76-EBD071460B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vide-&amp;-conquer: e.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rgeSort; Quicksor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merical integration (diagra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073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473280"/>
            <a:ext cx="6095880" cy="838440"/>
          </a:xfrm>
          <a:custGeom>
            <a:avLst/>
            <a:gdLst/>
            <a:ahLst/>
            <a:rect l="l" t="t" r="r" b="b"/>
            <a:pathLst>
              <a:path w="3840" h="728">
                <a:moveTo>
                  <a:pt x="0" y="528"/>
                </a:moveTo>
                <a:cubicBezTo>
                  <a:pt x="196" y="388"/>
                  <a:pt x="392" y="248"/>
                  <a:pt x="528" y="192"/>
                </a:cubicBezTo>
                <a:cubicBezTo>
                  <a:pt x="664" y="136"/>
                  <a:pt x="680" y="160"/>
                  <a:pt x="816" y="192"/>
                </a:cubicBezTo>
                <a:cubicBezTo>
                  <a:pt x="952" y="224"/>
                  <a:pt x="1200" y="304"/>
                  <a:pt x="1344" y="384"/>
                </a:cubicBezTo>
                <a:cubicBezTo>
                  <a:pt x="1488" y="464"/>
                  <a:pt x="1384" y="728"/>
                  <a:pt x="1680" y="672"/>
                </a:cubicBezTo>
                <a:cubicBezTo>
                  <a:pt x="1976" y="616"/>
                  <a:pt x="2760" y="96"/>
                  <a:pt x="3120" y="48"/>
                </a:cubicBezTo>
                <a:cubicBezTo>
                  <a:pt x="3480" y="0"/>
                  <a:pt x="3720" y="328"/>
                  <a:pt x="3840" y="384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3321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321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00680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218960" y="400680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393048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371240" y="39304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3854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385452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523880" y="3854160"/>
            <a:ext cx="0" cy="7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3048120"/>
            <a:ext cx="16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78640" y="536256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01000" y="5073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12160" y="49212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219320" y="3244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88840" y="297180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36520" y="507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29440" y="5073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B92-0D44-48BA-BB82-5326B037F7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main decomposi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073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3473280"/>
            <a:ext cx="6095880" cy="838440"/>
          </a:xfrm>
          <a:custGeom>
            <a:avLst/>
            <a:gdLst/>
            <a:ahLst/>
            <a:rect l="l" t="t" r="r" b="b"/>
            <a:pathLst>
              <a:path w="3840" h="728">
                <a:moveTo>
                  <a:pt x="0" y="528"/>
                </a:moveTo>
                <a:cubicBezTo>
                  <a:pt x="196" y="388"/>
                  <a:pt x="392" y="248"/>
                  <a:pt x="528" y="192"/>
                </a:cubicBezTo>
                <a:cubicBezTo>
                  <a:pt x="664" y="136"/>
                  <a:pt x="680" y="160"/>
                  <a:pt x="816" y="192"/>
                </a:cubicBezTo>
                <a:cubicBezTo>
                  <a:pt x="952" y="224"/>
                  <a:pt x="1200" y="304"/>
                  <a:pt x="1344" y="384"/>
                </a:cubicBezTo>
                <a:cubicBezTo>
                  <a:pt x="1488" y="464"/>
                  <a:pt x="1384" y="728"/>
                  <a:pt x="1680" y="672"/>
                </a:cubicBezTo>
                <a:cubicBezTo>
                  <a:pt x="1976" y="616"/>
                  <a:pt x="2760" y="96"/>
                  <a:pt x="3120" y="48"/>
                </a:cubicBezTo>
                <a:cubicBezTo>
                  <a:pt x="3480" y="0"/>
                  <a:pt x="3720" y="328"/>
                  <a:pt x="3840" y="384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321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321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3321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3321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3321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3321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00680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218960" y="400680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393048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371240" y="393048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3854520"/>
            <a:ext cx="0" cy="1218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3854520"/>
            <a:ext cx="152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523880" y="3854160"/>
            <a:ext cx="0" cy="75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3048120"/>
            <a:ext cx="16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78640" y="536256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01000" y="5073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12160" y="49212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19320" y="3244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88840" y="297180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36520" y="507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38200" y="5073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30440" y="50799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90800" y="5073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10120" y="5073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9440" y="5073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DC5-759C-4F3F-AB7E-D0ED55D71AB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0066"/>
                </a:solidFill>
                <a:latin typeface="Verdana"/>
              </a:rPr>
              <a:t>I. Problem decomposition: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main decomposi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EXAMPL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(image processing- 2D domain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35160" y="5715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94480" y="60040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16840" y="5715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28000" y="556272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52360" y="5721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43040" y="57150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2590920"/>
            <a:ext cx="6248160" cy="3124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020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7800" y="5410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A55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F15-07A6-4CEA-BE17-C805A3E367F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S</cp:lastModifiedBy>
  <dcterms:modified xsi:type="dcterms:W3CDTF">2002-03-07T02:51:29Z</dcterms:modified>
  <cp:revision>90</cp:revision>
  <dc:subject/>
  <dc:title>PowerPoint Presentation</dc:title>
</cp:coreProperties>
</file>