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524-858E-4FF0-9A0B-CBF09678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D4A-4B72-43FB-B48A-7BA3FAB6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4CB-719C-41B7-AA2D-58519A37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A32-BADE-412C-B19E-6674E301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B30E-BC9B-4B3E-B014-A1299A96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192F-4524-463E-9ACE-E3253739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7AF4-73D6-40A9-A8C1-1BCF3732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014C-C348-4E1F-B2D4-B20CE970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1286-5EA8-44DE-ADDD-BECCD30F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EC3B-5A0E-480E-80D8-14A73EAF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1EDF-DE93-40B1-85A0-DD00C86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76B-EE21-4F06-BE3C-6F06EEDF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2B2B-75A0-48D2-85E5-C570598C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168C-A237-4F71-9B95-9CF673A5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D491-9570-4EBD-9EEF-8ADD5172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32EC-A32D-4AC1-B954-E0A3B4E9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7662-7661-4958-BCE0-D7C8F62B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0B5-ACCF-49D4-B1EA-18AC99C4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876-DEF5-405F-9BB7-6112F5B5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64F-9DE5-450B-A870-0FA45D4F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B53-FA31-4094-B725-63383D02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CE8-05AE-4BFD-9005-556038B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1D0-D994-46DD-B6E4-C6D31707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45C-68F3-46F0-B24C-A9E883E0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B925-B54C-4C1C-BD90-AB7B1C9990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3B94-FE72-4920-8B8D-905082ABA6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research.microsoft.com/users/GBell/SCphotos_files/frame.htm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MA 5505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ed Parallel Compu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23E5-0AB2-4494-9135-2CEA0E95E4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D with replicated functional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3200400"/>
            <a:ext cx="990360" cy="1295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352680"/>
            <a:ext cx="990720" cy="1295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3505320"/>
            <a:ext cx="990720" cy="1295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657600"/>
            <a:ext cx="990360" cy="1295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3809880"/>
            <a:ext cx="990720" cy="1295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962520"/>
            <a:ext cx="990720" cy="1295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438280"/>
            <a:ext cx="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590920"/>
            <a:ext cx="0" cy="76176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743200"/>
            <a:ext cx="0" cy="76212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2895480"/>
            <a:ext cx="0" cy="76212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048120"/>
            <a:ext cx="0" cy="76176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200400"/>
            <a:ext cx="0" cy="76212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0240" y="21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438280"/>
            <a:ext cx="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590920"/>
            <a:ext cx="0" cy="76176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743200"/>
            <a:ext cx="0" cy="76212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2895480"/>
            <a:ext cx="0" cy="76212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2880" y="2286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516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7440" y="259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50080" y="274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2360" y="29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604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8680" y="21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30960" y="2286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324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5880" y="259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8160" y="274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438280"/>
            <a:ext cx="0" cy="76212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3048120"/>
            <a:ext cx="0" cy="76176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3200400"/>
            <a:ext cx="0" cy="76212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5105520"/>
            <a:ext cx="0" cy="30456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5105520"/>
            <a:ext cx="0" cy="45720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5257800"/>
            <a:ext cx="0" cy="45720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5257800"/>
            <a:ext cx="0" cy="60948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5257800"/>
            <a:ext cx="0" cy="76212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952880"/>
            <a:ext cx="0" cy="304920"/>
          </a:xfrm>
          <a:prstGeom prst="line">
            <a:avLst/>
          </a:prstGeom>
          <a:ln w="93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8480" y="5348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10000" y="5958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47880" y="5181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04812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A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657600"/>
            <a:ext cx="16002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8080" y="306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362320" y="3809880"/>
            <a:ext cx="761760" cy="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74480" y="3962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3429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21120" y="5500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3400" y="5653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5680" y="58053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514240" y="3962520"/>
            <a:ext cx="762120" cy="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590920" y="4114800"/>
            <a:ext cx="838080" cy="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514240" y="4267080"/>
            <a:ext cx="1066680" cy="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590560" y="4419720"/>
            <a:ext cx="1143000" cy="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514600" y="4572000"/>
            <a:ext cx="1371600" cy="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3809880"/>
            <a:ext cx="762120" cy="7621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04960" y="4191120"/>
            <a:ext cx="1523880" cy="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563-1AD5-41D4-A9B7-2639F8C57C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S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processors working on the same data str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w but inter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pipelined processing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strea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special-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 be useful when processors are easily reconfigu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521-A9B1-4563-A3AD-961CD9624E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M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91680" indent="-3916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Multiple instruction processo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ultiple instructions may be executed /clock cycl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1680" indent="-3916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ach processor executes independently on own data element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10640" indent="-372960">
              <a:spcBef>
                <a:spcPts val="624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ple SIMD: asyn among multiple SIMDs, syn. within a SIMD (Fujitsu VP, Cray 2); MFL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10640" indent="-372960">
              <a:spcBef>
                <a:spcPts val="624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ple SISD: asyn. at processor level ; MIPS &amp; MFL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1680" indent="-3916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 500: All ASCI machines, Intel Paragon, IBM SP2, CM5, et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827-BDF0-4D4E-BAA8-B379DAE258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ltiple SIMDs </a:t>
            </a:r>
            <a:r>
              <a:rPr b="1" lang="en-US" sz="3900" spc="-1" strike="noStrike">
                <a:solidFill>
                  <a:srgbClr val="330066"/>
                </a:solidFill>
                <a:latin typeface="Wingdings"/>
                <a:ea typeface="Wingdings"/>
              </a:rPr>
              <a:t>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MIM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1" name="" descr="http://www.mhpcc.edu/training/workshop/parallel_intro/gif/vector.gif"/>
          <p:cNvPicPr/>
          <p:nvPr/>
        </p:nvPicPr>
        <p:blipFill>
          <a:blip r:embed="rId1"/>
          <a:stretch/>
        </p:blipFill>
        <p:spPr>
          <a:xfrm>
            <a:off x="3581280" y="2133720"/>
            <a:ext cx="1828800" cy="3733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http://www.mhpcc.edu/training/workshop/parallel_intro/gif/vector.gif"/>
          <p:cNvPicPr/>
          <p:nvPr/>
        </p:nvPicPr>
        <p:blipFill>
          <a:blip r:embed="rId2"/>
          <a:stretch/>
        </p:blipFill>
        <p:spPr>
          <a:xfrm>
            <a:off x="762120" y="2133720"/>
            <a:ext cx="1904760" cy="3733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http://www.mhpcc.edu/training/workshop/parallel_intro/gif/vector.gif"/>
          <p:cNvPicPr/>
          <p:nvPr/>
        </p:nvPicPr>
        <p:blipFill>
          <a:blip r:embed="rId3"/>
          <a:stretch/>
        </p:blipFill>
        <p:spPr>
          <a:xfrm>
            <a:off x="6400800" y="2133720"/>
            <a:ext cx="182880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D9E-EF71-43D2-835E-96BF0F0D03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ltiple SISD </a:t>
            </a:r>
            <a:r>
              <a:rPr b="1" lang="en-US" sz="3900" spc="-1" strike="noStrike">
                <a:solidFill>
                  <a:srgbClr val="330066"/>
                </a:solidFill>
                <a:latin typeface="Wingdings"/>
                <a:ea typeface="Wingdings"/>
              </a:rPr>
              <a:t>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MIM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209680"/>
            <a:ext cx="18288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840" y="2627280"/>
            <a:ext cx="1401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3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 x*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(z,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2209680"/>
            <a:ext cx="18288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20960" y="2286000"/>
            <a:ext cx="132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3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 x*y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A(z,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2209680"/>
            <a:ext cx="18288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262728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5  I =1,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209680"/>
            <a:ext cx="18288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7320" y="3124080"/>
            <a:ext cx="98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= a+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1880" y="586728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execute different program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executing same program, may work at different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794-04ED-49CE-B88F-5EEA47D1A8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Verdana"/>
              </a:rPr>
              <a:t>Architecture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dified Classif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981080" y="4043520"/>
          <a:ext cx="4419720" cy="1825560"/>
        </p:xfrm>
        <a:graphic>
          <a:graphicData uri="http://schemas.openxmlformats.org/drawingml/2006/table">
            <a:tbl>
              <a:tblPr/>
              <a:tblGrid>
                <a:gridCol w="2286000"/>
                <a:gridCol w="2133720"/>
              </a:tblGrid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 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r pipel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1889280" y="290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495288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98640" y="426708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1760" y="312408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35760" y="311292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data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66D-7599-4576-ABF7-BB7E0956778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Arial"/>
              </a:rPr>
              <a:t>Architecture of Processors for Parallel Computers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ifferent is a parallel processor from a sequential process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hort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-mad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ery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d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667-4826-4664-9BE2-1A582ADB51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Economics:</a:t>
            </a:r>
            <a:br>
              <a:rPr sz="3900"/>
            </a:b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Commodity vs custom-mad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514600" y="363492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6226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77160" y="6186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8080" y="320040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/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5867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5388120"/>
            <a:ext cx="0" cy="47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5388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52680" y="5006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5006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4473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676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made: always has higher performance,                   but also high cos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ies nic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44737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47760" y="3048120"/>
            <a:ext cx="190476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160" y="2743200"/>
            <a:ext cx="63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jumps caused by innovativ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657240" y="3124080"/>
            <a:ext cx="1219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343040" y="304812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6A7-53ED-4833-B9D0-38CF63189B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Commodity vs custom-mad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" y="37112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3025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19760" y="6262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1600" y="327672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/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066680" y="3200040"/>
            <a:ext cx="2743200" cy="256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360" y="1600200"/>
            <a:ext cx="70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dity: started after successful marke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st, low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mproves steadily with volum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584532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4000" y="4419720"/>
            <a:ext cx="56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urve relatively smoo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u smaller but continuous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y grow faster than line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81040" y="3902040"/>
            <a:ext cx="392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popular dema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BD5-38CD-4DF6-A400-24DECB77F6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Economics:</a:t>
            </a:r>
            <a:br>
              <a:rPr sz="3900"/>
            </a:b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Commodity vs custom-mad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143000" y="266652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52578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5200" y="4890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1600" y="20210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/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4038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480060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3505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752480" y="1447560"/>
            <a:ext cx="3581640" cy="32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447920" y="1523880"/>
            <a:ext cx="419076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259092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403848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4440" y="544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2160" y="5446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50640" y="544680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29920" y="4923000"/>
            <a:ext cx="410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here quantity win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with quali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s of technolog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8840" y="4038480"/>
            <a:ext cx="41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Quantity wins over Qual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yranny of the m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61240" y="542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2787480"/>
            <a:ext cx="44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e of increase of commodity goods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ly greater for the size of mar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28B-A692-442B-81AC-FFEB245D4C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Pla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llel compu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llel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ssage-pa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ared-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llel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meri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-numer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per reading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6320" y="174960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A75-E0A9-4979-B67C-47E581347E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Verdana"/>
              </a:rPr>
              <a:t>Rest In Peace:   </a:t>
            </a:r>
            <a:r>
              <a:rPr b="0" lang="en-US" sz="2300" spc="-1" strike="noStrike">
                <a:solidFill>
                  <a:srgbClr val="330066"/>
                </a:solidFill>
                <a:latin typeface="Verdana"/>
              </a:rPr>
              <a:t>(source: Gordon Bell)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541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FE6-08A8-428F-A641-48D1FC6325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Verdana"/>
              </a:rPr>
              <a:t>Beowulf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st price perform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$28 per sustained MFL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$11 per peak MFLOPS            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how do you beat this?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pid response to technology tren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ingle-point ven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just-in-place configu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al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erages large software development invest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ture, robust, access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 empower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ets low expectations created by MPPs</a:t>
            </a:r>
            <a:br>
              <a:rPr sz="2100"/>
            </a:b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Thomas Sterl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374-58E7-4827-99C5-E04DF6001F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Do we have a choice? </a:t>
            </a:r>
            <a:br>
              <a:rPr sz="3500"/>
            </a:b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AOL Server Farm </a:t>
            </a:r>
            <a:r>
              <a:rPr b="0" lang="en-US" sz="2300" spc="-1" strike="noStrike">
                <a:solidFill>
                  <a:srgbClr val="330066"/>
                </a:solidFill>
                <a:latin typeface="Arial"/>
              </a:rPr>
              <a:t>(source: Gordon Bell)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D3C-8F58-48A4-A0AC-63EEB41570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A commodity PC (Parallel Computer)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(source: Gordon Bell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81480" y="5562720"/>
            <a:ext cx="699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s are not a probl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s the problem?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o connect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530-8916-4B48-8442-620F2EAAB8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Verdana"/>
              </a:rPr>
              <a:t>Processors:</a:t>
            </a:r>
            <a:r>
              <a:rPr b="1" lang="en-US" sz="3900" spc="-1" strike="noStrike">
                <a:solidFill>
                  <a:srgbClr val="330066"/>
                </a:solidFill>
                <a:latin typeface="Verdana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zoom into custom-made supers if time allow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-cost ratio: moving towards commodity processor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modity processors (= SISD processors!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parallel processing, major improvements neede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s-related operations: instruction processor design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nchmarking of parallel applic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sources to devo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AE1-8BAB-4C2E-A796-BE660EB9FD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Architecture for Communications (hardware)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2666880"/>
            <a:ext cx="121932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. Shared Memory: common address spa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666880"/>
            <a:ext cx="121932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666880"/>
            <a:ext cx="121896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3352680"/>
            <a:ext cx="472428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connection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3886200"/>
            <a:ext cx="83808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3886200"/>
            <a:ext cx="83808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3886200"/>
            <a:ext cx="83808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3886200"/>
            <a:ext cx="83844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2971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2971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2971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3657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3657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4120" y="36432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4572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mmo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mory locations equally accessi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reduced to accessing commo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earn programm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2971800"/>
            <a:ext cx="6858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91320" y="2971800"/>
            <a:ext cx="6858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2971800"/>
            <a:ext cx="6858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8CD-9877-4AAE-9EA8-F3DBA2784D2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Communications Architecture (hardware)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. Shared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2438280"/>
            <a:ext cx="83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A: All memory locations equally accessi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iculty in building large int. network   &lt;= 32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A: Non-uniform acces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er to scale  (larger shared-memory systems- SG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2B9-2115-4F61-8BF3-A9561E932AA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Communications Architecture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3186000"/>
            <a:ext cx="121932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. Distributed Memory: share noth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3186000"/>
            <a:ext cx="121932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3186000"/>
            <a:ext cx="121896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3871800"/>
            <a:ext cx="4724280" cy="304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connection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2652840"/>
            <a:ext cx="83808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652840"/>
            <a:ext cx="83808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2652840"/>
            <a:ext cx="83808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34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34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34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2957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2957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957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110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7692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1320" y="349092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9520" y="34909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4191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and remote memory mod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uniform cost of access: easier for hardwar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communications: Processors   send/receive data vi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abstraction: Message Pa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3033720"/>
            <a:ext cx="6858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57600" y="3033720"/>
            <a:ext cx="6858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62320" y="3033720"/>
            <a:ext cx="6858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B95-A591-4DAE-B6FA-9799DA95864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nfrastructures for communications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connection netw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Commodity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wer Performanc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heaper: e.g. Beowul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.g. bus, Ethernet, ATM switch, Fast Ethernet, Giga-bit network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2.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Custom-made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igh perform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pensive (most supers: CM5; SP2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witched, multi-stage network: cross-bar, Omega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irect-connection networks: linear, mesh, hypercube, et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C97-AFC4-4519-B73B-9ADAEBF8584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nterconnection networks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EXAM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modity network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thernet/Fast Ethernet/Gbps Etherne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it work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st: sending O(1)-sized data on a fixed net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int-to-point: O(1) on average (worst is O(p)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roadcast: O(1)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2A5-3C2B-4C9E-92AA-34DDB884812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Verdana"/>
              </a:rPr>
              <a:t>Summary of previous lectur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: What is parallel computing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: Part of nature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: Why go parallel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: No choice– as we approach the limits of sequential processing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ral measures of speed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dahl’s law &amp; its correct interpret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856-6FF8-4247-A5D8-844642B7273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cost vs Compute c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terday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MBp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00 Mbps Ether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20 MBps tcp/ip saturates 2 cp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nd-trip latency ~250 µ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res are 10x faster </a:t>
            </a:r>
            <a:br>
              <a:rPr sz="2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yrinet, Gbps Ethernet, ServerNet,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 user-level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cp/ip ~  100 MBps 10% cp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round-trip latency is 15 us   &gt;&gt; time for a compute op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6 Gbps demoed on a W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96D-9295-484F-83DD-D00473786A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Verdana"/>
              </a:rPr>
              <a:t>Custom-made networks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EXAM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witched networks (Multi-stage Networks) (Indirect networks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3581280"/>
            <a:ext cx="533160" cy="10670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4419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4419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6640" y="5918040"/>
            <a:ext cx="74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ommunication can be accounted from number of s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36576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36576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36576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91520" y="36576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0600" y="37339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37339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91320" y="37339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45720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45720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3080" y="45720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45720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4648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05720" y="4648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4648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4648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24280" y="54864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15000" y="54864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53080" y="54864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391520" y="5486400"/>
            <a:ext cx="22860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3733920"/>
            <a:ext cx="182880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15000" y="3733920"/>
            <a:ext cx="182880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00600" y="3733920"/>
            <a:ext cx="182880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715000" y="3733920"/>
            <a:ext cx="182880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4648320"/>
            <a:ext cx="9907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9400" y="4648320"/>
            <a:ext cx="9907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876920" y="4648320"/>
            <a:ext cx="91440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629400" y="4648320"/>
            <a:ext cx="91440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59640" y="313524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terfly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0560" y="484020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F99-C7AA-4D0E-BA56-BA5C73CE049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Verdana"/>
              </a:rPr>
              <a:t>Custom-made networks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EXAM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rect networks (Interconnection topolog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73000" y="3581280"/>
            <a:ext cx="1143000" cy="762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73000" y="4419720"/>
            <a:ext cx="1143000" cy="3045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73000" y="4800600"/>
            <a:ext cx="1067040" cy="16002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97040" y="3429000"/>
            <a:ext cx="12952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52680" y="3505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3520" y="4724280"/>
            <a:ext cx="15228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3505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1480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0" y="3505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2428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81480" y="3505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91320" y="3505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00800" y="3505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5308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10280" y="3505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365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0120" y="3505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72160" y="40384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52680" y="51055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5105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5105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51055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412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91320" y="5105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436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5105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10280" y="51055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16292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105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71880" y="4991040"/>
            <a:ext cx="6781680" cy="266760"/>
          </a:xfrm>
          <a:custGeom>
            <a:avLst/>
            <a:gdLst/>
            <a:ahLst/>
            <a:rect l="l" t="t" r="r" b="b"/>
            <a:pathLst>
              <a:path w="4272" h="168">
                <a:moveTo>
                  <a:pt x="744" y="168"/>
                </a:moveTo>
                <a:cubicBezTo>
                  <a:pt x="372" y="108"/>
                  <a:pt x="0" y="48"/>
                  <a:pt x="504" y="24"/>
                </a:cubicBezTo>
                <a:cubicBezTo>
                  <a:pt x="1008" y="0"/>
                  <a:pt x="3264" y="0"/>
                  <a:pt x="3768" y="24"/>
                </a:cubicBezTo>
                <a:cubicBezTo>
                  <a:pt x="4272" y="48"/>
                  <a:pt x="3568" y="152"/>
                  <a:pt x="352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31360" y="55990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D to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7360" y="4684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49320" y="3276720"/>
            <a:ext cx="15228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54240" y="3276720"/>
            <a:ext cx="15228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58800" y="3276720"/>
            <a:ext cx="15264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63720" y="3276720"/>
            <a:ext cx="15228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3560" y="28558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142640" y="3124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76520" y="3124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371240" y="3124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00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339-16B6-4739-B210-B2A9B4B00BE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Verdana"/>
              </a:rPr>
              <a:t>Network topology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9080" y="1828800"/>
            <a:ext cx="65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the most interesting &amp; versat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4290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91320" y="35812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4290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67280" y="3124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19920" y="3276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7712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5714640" y="3276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120" y="3276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32767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33720" y="34290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6232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209320" y="3276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38680" y="39625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91320" y="41148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248520" y="3962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67280" y="36576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19920" y="3809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714640" y="38098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324120" y="38098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15000" y="3581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2448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43600" y="3276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53080" y="3276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34290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57600" y="35812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34290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3392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86200" y="3276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4340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580920" y="3276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190760" y="3276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48769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50292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19320" y="4876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45720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7242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47920" y="45720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8544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29492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5410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5410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51055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90720" y="52578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47920" y="5105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8544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2949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4952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4400" y="4724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23880" y="4724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4876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666880" y="50292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24080" y="48769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43200" y="45720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47242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2680" y="45720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59056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20004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14600" y="5410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6688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5410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5105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95480" y="52578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51055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59056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20004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9092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4952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29000" y="4724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5040" y="5562720"/>
            <a:ext cx="1955880" cy="444240"/>
          </a:xfrm>
          <a:custGeom>
            <a:avLst/>
            <a:gdLst/>
            <a:ahLst/>
            <a:rect l="l" t="t" r="r" b="b"/>
            <a:pathLst>
              <a:path w="1232" h="280">
                <a:moveTo>
                  <a:pt x="32" y="0"/>
                </a:moveTo>
                <a:cubicBezTo>
                  <a:pt x="16" y="28"/>
                  <a:pt x="0" y="56"/>
                  <a:pt x="32" y="96"/>
                </a:cubicBezTo>
                <a:cubicBezTo>
                  <a:pt x="64" y="136"/>
                  <a:pt x="56" y="216"/>
                  <a:pt x="224" y="240"/>
                </a:cubicBezTo>
                <a:cubicBezTo>
                  <a:pt x="392" y="264"/>
                  <a:pt x="872" y="280"/>
                  <a:pt x="1040" y="240"/>
                </a:cubicBezTo>
                <a:cubicBezTo>
                  <a:pt x="1208" y="200"/>
                  <a:pt x="1200" y="40"/>
                  <a:pt x="12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23880" y="5270400"/>
            <a:ext cx="1955880" cy="444600"/>
          </a:xfrm>
          <a:custGeom>
            <a:avLst/>
            <a:gdLst/>
            <a:ahLst/>
            <a:rect l="l" t="t" r="r" b="b"/>
            <a:pathLst>
              <a:path w="1232" h="280">
                <a:moveTo>
                  <a:pt x="32" y="0"/>
                </a:moveTo>
                <a:cubicBezTo>
                  <a:pt x="16" y="28"/>
                  <a:pt x="0" y="56"/>
                  <a:pt x="32" y="96"/>
                </a:cubicBezTo>
                <a:cubicBezTo>
                  <a:pt x="64" y="136"/>
                  <a:pt x="56" y="216"/>
                  <a:pt x="224" y="240"/>
                </a:cubicBezTo>
                <a:cubicBezTo>
                  <a:pt x="392" y="264"/>
                  <a:pt x="872" y="280"/>
                  <a:pt x="1040" y="240"/>
                </a:cubicBezTo>
                <a:cubicBezTo>
                  <a:pt x="1208" y="200"/>
                  <a:pt x="1200" y="40"/>
                  <a:pt x="12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5575320"/>
            <a:ext cx="1955880" cy="444600"/>
          </a:xfrm>
          <a:custGeom>
            <a:avLst/>
            <a:gdLst/>
            <a:ahLst/>
            <a:rect l="l" t="t" r="r" b="b"/>
            <a:pathLst>
              <a:path w="1232" h="280">
                <a:moveTo>
                  <a:pt x="32" y="0"/>
                </a:moveTo>
                <a:cubicBezTo>
                  <a:pt x="16" y="28"/>
                  <a:pt x="0" y="56"/>
                  <a:pt x="32" y="96"/>
                </a:cubicBezTo>
                <a:cubicBezTo>
                  <a:pt x="64" y="136"/>
                  <a:pt x="56" y="216"/>
                  <a:pt x="224" y="240"/>
                </a:cubicBezTo>
                <a:cubicBezTo>
                  <a:pt x="392" y="264"/>
                  <a:pt x="872" y="280"/>
                  <a:pt x="1040" y="240"/>
                </a:cubicBezTo>
                <a:cubicBezTo>
                  <a:pt x="1208" y="200"/>
                  <a:pt x="1200" y="40"/>
                  <a:pt x="12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5181480"/>
            <a:ext cx="1955880" cy="444600"/>
          </a:xfrm>
          <a:custGeom>
            <a:avLst/>
            <a:gdLst/>
            <a:ahLst/>
            <a:rect l="l" t="t" r="r" b="b"/>
            <a:pathLst>
              <a:path w="1232" h="280">
                <a:moveTo>
                  <a:pt x="32" y="0"/>
                </a:moveTo>
                <a:cubicBezTo>
                  <a:pt x="16" y="28"/>
                  <a:pt x="0" y="56"/>
                  <a:pt x="32" y="96"/>
                </a:cubicBezTo>
                <a:cubicBezTo>
                  <a:pt x="64" y="136"/>
                  <a:pt x="56" y="216"/>
                  <a:pt x="224" y="240"/>
                </a:cubicBezTo>
                <a:cubicBezTo>
                  <a:pt x="392" y="264"/>
                  <a:pt x="872" y="280"/>
                  <a:pt x="1040" y="240"/>
                </a:cubicBezTo>
                <a:cubicBezTo>
                  <a:pt x="1208" y="200"/>
                  <a:pt x="1200" y="40"/>
                  <a:pt x="12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51040" y="4292640"/>
            <a:ext cx="2095200" cy="355680"/>
          </a:xfrm>
          <a:custGeom>
            <a:avLst/>
            <a:gdLst/>
            <a:ahLst/>
            <a:rect l="l" t="t" r="r" b="b"/>
            <a:pathLst>
              <a:path w="1320" h="224">
                <a:moveTo>
                  <a:pt x="40" y="224"/>
                </a:moveTo>
                <a:cubicBezTo>
                  <a:pt x="20" y="144"/>
                  <a:pt x="0" y="64"/>
                  <a:pt x="184" y="32"/>
                </a:cubicBezTo>
                <a:cubicBezTo>
                  <a:pt x="368" y="0"/>
                  <a:pt x="968" y="0"/>
                  <a:pt x="1144" y="32"/>
                </a:cubicBezTo>
                <a:cubicBezTo>
                  <a:pt x="1320" y="64"/>
                  <a:pt x="1280" y="144"/>
                  <a:pt x="1240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47920" y="4343400"/>
            <a:ext cx="2095560" cy="355680"/>
          </a:xfrm>
          <a:custGeom>
            <a:avLst/>
            <a:gdLst/>
            <a:ahLst/>
            <a:rect l="l" t="t" r="r" b="b"/>
            <a:pathLst>
              <a:path w="1320" h="224">
                <a:moveTo>
                  <a:pt x="40" y="224"/>
                </a:moveTo>
                <a:cubicBezTo>
                  <a:pt x="20" y="144"/>
                  <a:pt x="0" y="64"/>
                  <a:pt x="184" y="32"/>
                </a:cubicBezTo>
                <a:cubicBezTo>
                  <a:pt x="368" y="0"/>
                  <a:pt x="968" y="0"/>
                  <a:pt x="1144" y="32"/>
                </a:cubicBezTo>
                <a:cubicBezTo>
                  <a:pt x="1320" y="64"/>
                  <a:pt x="1280" y="144"/>
                  <a:pt x="1240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1680" y="4572000"/>
            <a:ext cx="2095200" cy="355680"/>
          </a:xfrm>
          <a:custGeom>
            <a:avLst/>
            <a:gdLst/>
            <a:ahLst/>
            <a:rect l="l" t="t" r="r" b="b"/>
            <a:pathLst>
              <a:path w="1320" h="224">
                <a:moveTo>
                  <a:pt x="40" y="224"/>
                </a:moveTo>
                <a:cubicBezTo>
                  <a:pt x="20" y="144"/>
                  <a:pt x="0" y="64"/>
                  <a:pt x="184" y="32"/>
                </a:cubicBezTo>
                <a:cubicBezTo>
                  <a:pt x="368" y="0"/>
                  <a:pt x="968" y="0"/>
                  <a:pt x="1144" y="32"/>
                </a:cubicBezTo>
                <a:cubicBezTo>
                  <a:pt x="1320" y="64"/>
                  <a:pt x="1280" y="144"/>
                  <a:pt x="1240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81160" y="4597560"/>
            <a:ext cx="2095560" cy="355320"/>
          </a:xfrm>
          <a:custGeom>
            <a:avLst/>
            <a:gdLst/>
            <a:ahLst/>
            <a:rect l="l" t="t" r="r" b="b"/>
            <a:pathLst>
              <a:path w="1320" h="224">
                <a:moveTo>
                  <a:pt x="40" y="224"/>
                </a:moveTo>
                <a:cubicBezTo>
                  <a:pt x="20" y="144"/>
                  <a:pt x="0" y="64"/>
                  <a:pt x="184" y="32"/>
                </a:cubicBezTo>
                <a:cubicBezTo>
                  <a:pt x="368" y="0"/>
                  <a:pt x="968" y="0"/>
                  <a:pt x="1144" y="32"/>
                </a:cubicBezTo>
                <a:cubicBezTo>
                  <a:pt x="1320" y="64"/>
                  <a:pt x="1280" y="144"/>
                  <a:pt x="1240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6095880"/>
            <a:ext cx="9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F5F-49AF-42D9-8B22-13D81945A70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Are interconnection networks relevant?  </a:t>
            </a:r>
            <a:r>
              <a:rPr b="0" lang="en-US" sz="2300" spc="-1" strike="noStrike">
                <a:solidFill>
                  <a:srgbClr val="330066"/>
                </a:solidFill>
                <a:latin typeface="Verdana"/>
              </a:rPr>
              <a:t>Yes,</a:t>
            </a: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330066"/>
                </a:solidFill>
                <a:latin typeface="Verdana"/>
              </a:rPr>
              <a:t>when scaling up…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457200" y="1760400"/>
            <a:ext cx="754380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2D9-4ECC-43B5-93A2-B5023DF2AD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Each node could be anything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219320" y="1760400"/>
            <a:ext cx="6705360" cy="441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AC4-E248-41DD-81FF-3E213694B6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Verdana"/>
              </a:rPr>
              <a:t>Sample network topology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09680" y="25909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6232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1952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2900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25909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9112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5780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25909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0020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5248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124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6232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1952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718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3124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9112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832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006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25780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67280" y="3124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020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75248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6576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232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971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2900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8128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36576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9112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832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006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1008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67280" y="36576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0020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248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09680" y="41911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36232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1952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7180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2900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8128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38480" y="41911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9112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64832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5780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1008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867280" y="41911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5248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09680" y="47242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623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1952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2900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8128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38480" y="47242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64832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0060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867280" y="47242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524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52578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7180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2900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812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038480" y="52578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9112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4832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5780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67280" y="52578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00200" y="5791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5248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09680" y="5791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5791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7180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29000" y="5791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128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038480" y="5791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112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48320" y="5791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0060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57800" y="5791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67280" y="5791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28195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50532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14800" y="28195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428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94360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11160" y="4151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me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8C8-A021-4AAE-AA0C-4290F3545DD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Verdana"/>
              </a:rPr>
              <a:t>Network topolog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60020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5248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09680" y="25909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6232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1952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7180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42900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8128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038480" y="25909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19112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0060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5780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1008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25909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0020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5248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09680" y="3124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81952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718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42900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3124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9112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4832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0060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5780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3276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67280" y="3124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0020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75248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09680" y="36576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6232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1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2900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8128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38480" y="36576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9112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4832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006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5780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36576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41911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7180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2900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41911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9112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64832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80060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25780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410080" y="4343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67280" y="41911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0020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75248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09680" y="47242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623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1952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97180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2900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8128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038480" y="47242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1911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4832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0060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5780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1008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867280" y="47242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524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09680" y="52578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6232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1952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7180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812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038480" y="52578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9112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4832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0060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25780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4100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867280" y="52578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00200" y="5791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5791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6232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19520" y="5791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97180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9000" y="5791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8128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5791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19112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48320" y="5791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0060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57800" y="5791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1008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67280" y="5791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676520" y="28195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9548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0532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14800" y="28195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72428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3412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43600" y="27432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311880" y="41511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torus varia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0880" y="2438280"/>
            <a:ext cx="6782040" cy="266760"/>
          </a:xfrm>
          <a:custGeom>
            <a:avLst/>
            <a:gdLst/>
            <a:ahLst/>
            <a:rect l="l" t="t" r="r" b="b"/>
            <a:pathLst>
              <a:path w="4272" h="168">
                <a:moveTo>
                  <a:pt x="744" y="168"/>
                </a:moveTo>
                <a:cubicBezTo>
                  <a:pt x="372" y="108"/>
                  <a:pt x="0" y="48"/>
                  <a:pt x="504" y="24"/>
                </a:cubicBezTo>
                <a:cubicBezTo>
                  <a:pt x="1008" y="0"/>
                  <a:pt x="3264" y="0"/>
                  <a:pt x="3768" y="24"/>
                </a:cubicBezTo>
                <a:cubicBezTo>
                  <a:pt x="4272" y="48"/>
                  <a:pt x="3568" y="152"/>
                  <a:pt x="352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0880" y="3009960"/>
            <a:ext cx="6782040" cy="266760"/>
          </a:xfrm>
          <a:custGeom>
            <a:avLst/>
            <a:gdLst/>
            <a:ahLst/>
            <a:rect l="l" t="t" r="r" b="b"/>
            <a:pathLst>
              <a:path w="4272" h="168">
                <a:moveTo>
                  <a:pt x="744" y="168"/>
                </a:moveTo>
                <a:cubicBezTo>
                  <a:pt x="372" y="108"/>
                  <a:pt x="0" y="48"/>
                  <a:pt x="504" y="24"/>
                </a:cubicBezTo>
                <a:cubicBezTo>
                  <a:pt x="1008" y="0"/>
                  <a:pt x="3264" y="0"/>
                  <a:pt x="3768" y="24"/>
                </a:cubicBezTo>
                <a:cubicBezTo>
                  <a:pt x="4272" y="48"/>
                  <a:pt x="3568" y="152"/>
                  <a:pt x="352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0880" y="3543480"/>
            <a:ext cx="6782040" cy="266400"/>
          </a:xfrm>
          <a:custGeom>
            <a:avLst/>
            <a:gdLst/>
            <a:ahLst/>
            <a:rect l="l" t="t" r="r" b="b"/>
            <a:pathLst>
              <a:path w="4272" h="168">
                <a:moveTo>
                  <a:pt x="744" y="168"/>
                </a:moveTo>
                <a:cubicBezTo>
                  <a:pt x="372" y="108"/>
                  <a:pt x="0" y="48"/>
                  <a:pt x="504" y="24"/>
                </a:cubicBezTo>
                <a:cubicBezTo>
                  <a:pt x="1008" y="0"/>
                  <a:pt x="3264" y="0"/>
                  <a:pt x="3768" y="24"/>
                </a:cubicBezTo>
                <a:cubicBezTo>
                  <a:pt x="4272" y="48"/>
                  <a:pt x="3568" y="152"/>
                  <a:pt x="352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" y="4076640"/>
            <a:ext cx="6781680" cy="266760"/>
          </a:xfrm>
          <a:custGeom>
            <a:avLst/>
            <a:gdLst/>
            <a:ahLst/>
            <a:rect l="l" t="t" r="r" b="b"/>
            <a:pathLst>
              <a:path w="4272" h="168">
                <a:moveTo>
                  <a:pt x="744" y="168"/>
                </a:moveTo>
                <a:cubicBezTo>
                  <a:pt x="372" y="108"/>
                  <a:pt x="0" y="48"/>
                  <a:pt x="504" y="24"/>
                </a:cubicBezTo>
                <a:cubicBezTo>
                  <a:pt x="1008" y="0"/>
                  <a:pt x="3264" y="0"/>
                  <a:pt x="3768" y="24"/>
                </a:cubicBezTo>
                <a:cubicBezTo>
                  <a:pt x="4272" y="48"/>
                  <a:pt x="3568" y="152"/>
                  <a:pt x="352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38120" y="5638680"/>
            <a:ext cx="6781680" cy="266760"/>
          </a:xfrm>
          <a:custGeom>
            <a:avLst/>
            <a:gdLst/>
            <a:ahLst/>
            <a:rect l="l" t="t" r="r" b="b"/>
            <a:pathLst>
              <a:path w="4272" h="168">
                <a:moveTo>
                  <a:pt x="744" y="168"/>
                </a:moveTo>
                <a:cubicBezTo>
                  <a:pt x="372" y="108"/>
                  <a:pt x="0" y="48"/>
                  <a:pt x="504" y="24"/>
                </a:cubicBezTo>
                <a:cubicBezTo>
                  <a:pt x="1008" y="0"/>
                  <a:pt x="3264" y="0"/>
                  <a:pt x="3768" y="24"/>
                </a:cubicBezTo>
                <a:cubicBezTo>
                  <a:pt x="4272" y="48"/>
                  <a:pt x="3568" y="152"/>
                  <a:pt x="352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" y="5105520"/>
            <a:ext cx="6781680" cy="266760"/>
          </a:xfrm>
          <a:custGeom>
            <a:avLst/>
            <a:gdLst/>
            <a:ahLst/>
            <a:rect l="l" t="t" r="r" b="b"/>
            <a:pathLst>
              <a:path w="4272" h="168">
                <a:moveTo>
                  <a:pt x="744" y="168"/>
                </a:moveTo>
                <a:cubicBezTo>
                  <a:pt x="372" y="108"/>
                  <a:pt x="0" y="48"/>
                  <a:pt x="504" y="24"/>
                </a:cubicBezTo>
                <a:cubicBezTo>
                  <a:pt x="1008" y="0"/>
                  <a:pt x="3264" y="0"/>
                  <a:pt x="3768" y="24"/>
                </a:cubicBezTo>
                <a:cubicBezTo>
                  <a:pt x="4272" y="48"/>
                  <a:pt x="3568" y="152"/>
                  <a:pt x="352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880" y="4572000"/>
            <a:ext cx="6782040" cy="266760"/>
          </a:xfrm>
          <a:custGeom>
            <a:avLst/>
            <a:gdLst/>
            <a:ahLst/>
            <a:rect l="l" t="t" r="r" b="b"/>
            <a:pathLst>
              <a:path w="4272" h="168">
                <a:moveTo>
                  <a:pt x="744" y="168"/>
                </a:moveTo>
                <a:cubicBezTo>
                  <a:pt x="372" y="108"/>
                  <a:pt x="0" y="48"/>
                  <a:pt x="504" y="24"/>
                </a:cubicBezTo>
                <a:cubicBezTo>
                  <a:pt x="1008" y="0"/>
                  <a:pt x="3264" y="0"/>
                  <a:pt x="3768" y="24"/>
                </a:cubicBezTo>
                <a:cubicBezTo>
                  <a:pt x="4272" y="48"/>
                  <a:pt x="3568" y="152"/>
                  <a:pt x="3528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22360" y="1663560"/>
            <a:ext cx="254160" cy="5346720"/>
          </a:xfrm>
          <a:custGeom>
            <a:avLst/>
            <a:gdLst/>
            <a:ahLst/>
            <a:rect l="l" t="t" r="r" b="b"/>
            <a:pathLst>
              <a:path w="160" h="3368">
                <a:moveTo>
                  <a:pt x="160" y="632"/>
                </a:moveTo>
                <a:cubicBezTo>
                  <a:pt x="124" y="316"/>
                  <a:pt x="88" y="0"/>
                  <a:pt x="64" y="392"/>
                </a:cubicBezTo>
                <a:cubicBezTo>
                  <a:pt x="40" y="784"/>
                  <a:pt x="0" y="2600"/>
                  <a:pt x="16" y="2984"/>
                </a:cubicBezTo>
                <a:cubicBezTo>
                  <a:pt x="32" y="3368"/>
                  <a:pt x="96" y="3032"/>
                  <a:pt x="160" y="26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276720" y="1676520"/>
            <a:ext cx="253800" cy="5346720"/>
          </a:xfrm>
          <a:custGeom>
            <a:avLst/>
            <a:gdLst/>
            <a:ahLst/>
            <a:rect l="l" t="t" r="r" b="b"/>
            <a:pathLst>
              <a:path w="160" h="3368">
                <a:moveTo>
                  <a:pt x="160" y="632"/>
                </a:moveTo>
                <a:cubicBezTo>
                  <a:pt x="124" y="316"/>
                  <a:pt x="88" y="0"/>
                  <a:pt x="64" y="392"/>
                </a:cubicBezTo>
                <a:cubicBezTo>
                  <a:pt x="40" y="784"/>
                  <a:pt x="0" y="2600"/>
                  <a:pt x="16" y="2984"/>
                </a:cubicBezTo>
                <a:cubicBezTo>
                  <a:pt x="32" y="3368"/>
                  <a:pt x="96" y="3032"/>
                  <a:pt x="160" y="26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89440" y="1676520"/>
            <a:ext cx="254160" cy="5346720"/>
          </a:xfrm>
          <a:custGeom>
            <a:avLst/>
            <a:gdLst/>
            <a:ahLst/>
            <a:rect l="l" t="t" r="r" b="b"/>
            <a:pathLst>
              <a:path w="160" h="3368">
                <a:moveTo>
                  <a:pt x="160" y="632"/>
                </a:moveTo>
                <a:cubicBezTo>
                  <a:pt x="124" y="316"/>
                  <a:pt x="88" y="0"/>
                  <a:pt x="64" y="392"/>
                </a:cubicBezTo>
                <a:cubicBezTo>
                  <a:pt x="40" y="784"/>
                  <a:pt x="0" y="2600"/>
                  <a:pt x="16" y="2984"/>
                </a:cubicBezTo>
                <a:cubicBezTo>
                  <a:pt x="32" y="3368"/>
                  <a:pt x="96" y="3032"/>
                  <a:pt x="160" y="26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495680" y="1676520"/>
            <a:ext cx="254160" cy="5346720"/>
          </a:xfrm>
          <a:custGeom>
            <a:avLst/>
            <a:gdLst/>
            <a:ahLst/>
            <a:rect l="l" t="t" r="r" b="b"/>
            <a:pathLst>
              <a:path w="160" h="3368">
                <a:moveTo>
                  <a:pt x="160" y="632"/>
                </a:moveTo>
                <a:cubicBezTo>
                  <a:pt x="124" y="316"/>
                  <a:pt x="88" y="0"/>
                  <a:pt x="64" y="392"/>
                </a:cubicBezTo>
                <a:cubicBezTo>
                  <a:pt x="40" y="784"/>
                  <a:pt x="0" y="2600"/>
                  <a:pt x="16" y="2984"/>
                </a:cubicBezTo>
                <a:cubicBezTo>
                  <a:pt x="32" y="3368"/>
                  <a:pt x="96" y="3032"/>
                  <a:pt x="160" y="26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105520" y="1676520"/>
            <a:ext cx="253800" cy="5346720"/>
          </a:xfrm>
          <a:custGeom>
            <a:avLst/>
            <a:gdLst/>
            <a:ahLst/>
            <a:rect l="l" t="t" r="r" b="b"/>
            <a:pathLst>
              <a:path w="160" h="3368">
                <a:moveTo>
                  <a:pt x="160" y="632"/>
                </a:moveTo>
                <a:cubicBezTo>
                  <a:pt x="124" y="316"/>
                  <a:pt x="88" y="0"/>
                  <a:pt x="64" y="392"/>
                </a:cubicBezTo>
                <a:cubicBezTo>
                  <a:pt x="40" y="784"/>
                  <a:pt x="0" y="2600"/>
                  <a:pt x="16" y="2984"/>
                </a:cubicBezTo>
                <a:cubicBezTo>
                  <a:pt x="32" y="3368"/>
                  <a:pt x="96" y="3032"/>
                  <a:pt x="160" y="26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6200" y="1676520"/>
            <a:ext cx="254160" cy="5346720"/>
          </a:xfrm>
          <a:custGeom>
            <a:avLst/>
            <a:gdLst/>
            <a:ahLst/>
            <a:rect l="l" t="t" r="r" b="b"/>
            <a:pathLst>
              <a:path w="160" h="3368">
                <a:moveTo>
                  <a:pt x="160" y="632"/>
                </a:moveTo>
                <a:cubicBezTo>
                  <a:pt x="124" y="316"/>
                  <a:pt x="88" y="0"/>
                  <a:pt x="64" y="392"/>
                </a:cubicBezTo>
                <a:cubicBezTo>
                  <a:pt x="40" y="784"/>
                  <a:pt x="0" y="2600"/>
                  <a:pt x="16" y="2984"/>
                </a:cubicBezTo>
                <a:cubicBezTo>
                  <a:pt x="32" y="3368"/>
                  <a:pt x="96" y="3032"/>
                  <a:pt x="160" y="26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31840" y="1676520"/>
            <a:ext cx="254160" cy="5346720"/>
          </a:xfrm>
          <a:custGeom>
            <a:avLst/>
            <a:gdLst/>
            <a:ahLst/>
            <a:rect l="l" t="t" r="r" b="b"/>
            <a:pathLst>
              <a:path w="160" h="3368">
                <a:moveTo>
                  <a:pt x="160" y="632"/>
                </a:moveTo>
                <a:cubicBezTo>
                  <a:pt x="124" y="316"/>
                  <a:pt x="88" y="0"/>
                  <a:pt x="64" y="392"/>
                </a:cubicBezTo>
                <a:cubicBezTo>
                  <a:pt x="40" y="784"/>
                  <a:pt x="0" y="2600"/>
                  <a:pt x="16" y="2984"/>
                </a:cubicBezTo>
                <a:cubicBezTo>
                  <a:pt x="32" y="3368"/>
                  <a:pt x="96" y="3032"/>
                  <a:pt x="160" y="26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641680" y="1676520"/>
            <a:ext cx="253800" cy="5346720"/>
          </a:xfrm>
          <a:custGeom>
            <a:avLst/>
            <a:gdLst/>
            <a:ahLst/>
            <a:rect l="l" t="t" r="r" b="b"/>
            <a:pathLst>
              <a:path w="160" h="3368">
                <a:moveTo>
                  <a:pt x="160" y="632"/>
                </a:moveTo>
                <a:cubicBezTo>
                  <a:pt x="124" y="316"/>
                  <a:pt x="88" y="0"/>
                  <a:pt x="64" y="392"/>
                </a:cubicBezTo>
                <a:cubicBezTo>
                  <a:pt x="40" y="784"/>
                  <a:pt x="0" y="2600"/>
                  <a:pt x="16" y="2984"/>
                </a:cubicBezTo>
                <a:cubicBezTo>
                  <a:pt x="32" y="3368"/>
                  <a:pt x="96" y="3032"/>
                  <a:pt x="160" y="26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427-F022-45B3-8D02-5DFC8FFDD2A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Verdana"/>
              </a:rPr>
              <a:t>Network topolog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60020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27432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09680" y="25909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62320" y="27432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1952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71800" y="27432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42900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81280" y="27432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038480" y="25909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91120" y="27432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4832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00600" y="27432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257800" y="25909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410080" y="27432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0020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52480" y="3276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09680" y="3124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62320" y="3276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71800" y="3276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276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38480" y="3124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191120" y="3276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64832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800600" y="3276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57800" y="3124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10080" y="3276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60020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52480" y="3809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09680" y="36576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62320" y="3809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71800" y="3809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900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3809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38480" y="36576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3809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4832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00600" y="3809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57800" y="3657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3809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52480" y="4343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09680" y="41911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62320" y="4343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1952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971800" y="4343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581280" y="4343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38480" y="41911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91120" y="4343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64832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4343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257800" y="4191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410080" y="4343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60020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752480" y="4876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09680" y="47242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62320" y="4876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81952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971800" y="4876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2900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81280" y="4876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38480" y="47242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191120" y="4876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64832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00600" y="4876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257800" y="4724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10080" y="4876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752480" y="54100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09680" y="52578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362320" y="54100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81952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971800" y="54100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42900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581280" y="54100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38480" y="52578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91120" y="54100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64832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00600" y="54100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57800" y="5257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410080" y="54100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86000" y="2743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2743200"/>
            <a:ext cx="180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05320" y="2743200"/>
            <a:ext cx="144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114800" y="2819520"/>
            <a:ext cx="1440" cy="30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724280" y="2743200"/>
            <a:ext cx="180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2743200"/>
            <a:ext cx="144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372360" y="41148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torus varia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76520" y="1498680"/>
            <a:ext cx="609480" cy="5435640"/>
          </a:xfrm>
          <a:custGeom>
            <a:avLst/>
            <a:gdLst/>
            <a:ahLst/>
            <a:rect l="l" t="t" r="r" b="b"/>
            <a:pathLst>
              <a:path w="384" h="3424">
                <a:moveTo>
                  <a:pt x="0" y="680"/>
                </a:moveTo>
                <a:cubicBezTo>
                  <a:pt x="28" y="340"/>
                  <a:pt x="56" y="0"/>
                  <a:pt x="96" y="392"/>
                </a:cubicBezTo>
                <a:cubicBezTo>
                  <a:pt x="136" y="784"/>
                  <a:pt x="192" y="2640"/>
                  <a:pt x="240" y="3032"/>
                </a:cubicBezTo>
                <a:cubicBezTo>
                  <a:pt x="288" y="3424"/>
                  <a:pt x="360" y="2792"/>
                  <a:pt x="384" y="27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14800" y="1498680"/>
            <a:ext cx="609480" cy="5435640"/>
          </a:xfrm>
          <a:custGeom>
            <a:avLst/>
            <a:gdLst/>
            <a:ahLst/>
            <a:rect l="l" t="t" r="r" b="b"/>
            <a:pathLst>
              <a:path w="384" h="3424">
                <a:moveTo>
                  <a:pt x="0" y="680"/>
                </a:moveTo>
                <a:cubicBezTo>
                  <a:pt x="28" y="340"/>
                  <a:pt x="56" y="0"/>
                  <a:pt x="96" y="392"/>
                </a:cubicBezTo>
                <a:cubicBezTo>
                  <a:pt x="136" y="784"/>
                  <a:pt x="192" y="2640"/>
                  <a:pt x="240" y="3032"/>
                </a:cubicBezTo>
                <a:cubicBezTo>
                  <a:pt x="288" y="3424"/>
                  <a:pt x="360" y="2792"/>
                  <a:pt x="384" y="27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24280" y="1498680"/>
            <a:ext cx="609840" cy="5435640"/>
          </a:xfrm>
          <a:custGeom>
            <a:avLst/>
            <a:gdLst/>
            <a:ahLst/>
            <a:rect l="l" t="t" r="r" b="b"/>
            <a:pathLst>
              <a:path w="384" h="3424">
                <a:moveTo>
                  <a:pt x="0" y="680"/>
                </a:moveTo>
                <a:cubicBezTo>
                  <a:pt x="28" y="340"/>
                  <a:pt x="56" y="0"/>
                  <a:pt x="96" y="392"/>
                </a:cubicBezTo>
                <a:cubicBezTo>
                  <a:pt x="136" y="784"/>
                  <a:pt x="192" y="2640"/>
                  <a:pt x="240" y="3032"/>
                </a:cubicBezTo>
                <a:cubicBezTo>
                  <a:pt x="288" y="3424"/>
                  <a:pt x="360" y="2792"/>
                  <a:pt x="384" y="27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505320" y="1523880"/>
            <a:ext cx="609480" cy="5435640"/>
          </a:xfrm>
          <a:custGeom>
            <a:avLst/>
            <a:gdLst/>
            <a:ahLst/>
            <a:rect l="l" t="t" r="r" b="b"/>
            <a:pathLst>
              <a:path w="384" h="3424">
                <a:moveTo>
                  <a:pt x="0" y="680"/>
                </a:moveTo>
                <a:cubicBezTo>
                  <a:pt x="28" y="340"/>
                  <a:pt x="56" y="0"/>
                  <a:pt x="96" y="392"/>
                </a:cubicBezTo>
                <a:cubicBezTo>
                  <a:pt x="136" y="784"/>
                  <a:pt x="192" y="2640"/>
                  <a:pt x="240" y="3032"/>
                </a:cubicBezTo>
                <a:cubicBezTo>
                  <a:pt x="288" y="3424"/>
                  <a:pt x="360" y="2792"/>
                  <a:pt x="384" y="27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86000" y="1498680"/>
            <a:ext cx="609480" cy="5435640"/>
          </a:xfrm>
          <a:custGeom>
            <a:avLst/>
            <a:gdLst/>
            <a:ahLst/>
            <a:rect l="l" t="t" r="r" b="b"/>
            <a:pathLst>
              <a:path w="384" h="3424">
                <a:moveTo>
                  <a:pt x="0" y="680"/>
                </a:moveTo>
                <a:cubicBezTo>
                  <a:pt x="28" y="340"/>
                  <a:pt x="56" y="0"/>
                  <a:pt x="96" y="392"/>
                </a:cubicBezTo>
                <a:cubicBezTo>
                  <a:pt x="136" y="784"/>
                  <a:pt x="192" y="2640"/>
                  <a:pt x="240" y="3032"/>
                </a:cubicBezTo>
                <a:cubicBezTo>
                  <a:pt x="288" y="3424"/>
                  <a:pt x="360" y="2792"/>
                  <a:pt x="384" y="27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95480" y="1498680"/>
            <a:ext cx="609840" cy="5435640"/>
          </a:xfrm>
          <a:custGeom>
            <a:avLst/>
            <a:gdLst/>
            <a:ahLst/>
            <a:rect l="l" t="t" r="r" b="b"/>
            <a:pathLst>
              <a:path w="384" h="3424">
                <a:moveTo>
                  <a:pt x="0" y="680"/>
                </a:moveTo>
                <a:cubicBezTo>
                  <a:pt x="28" y="340"/>
                  <a:pt x="56" y="0"/>
                  <a:pt x="96" y="392"/>
                </a:cubicBezTo>
                <a:cubicBezTo>
                  <a:pt x="136" y="784"/>
                  <a:pt x="192" y="2640"/>
                  <a:pt x="240" y="3032"/>
                </a:cubicBezTo>
                <a:cubicBezTo>
                  <a:pt x="288" y="3424"/>
                  <a:pt x="360" y="2792"/>
                  <a:pt x="384" y="27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22440" y="2705040"/>
            <a:ext cx="6235560" cy="571680"/>
          </a:xfrm>
          <a:custGeom>
            <a:avLst/>
            <a:gdLst/>
            <a:ahLst/>
            <a:rect l="l" t="t" r="r" b="b"/>
            <a:pathLst>
              <a:path w="3928" h="360">
                <a:moveTo>
                  <a:pt x="3248" y="24"/>
                </a:moveTo>
                <a:cubicBezTo>
                  <a:pt x="3304" y="12"/>
                  <a:pt x="3360" y="0"/>
                  <a:pt x="3392" y="24"/>
                </a:cubicBezTo>
                <a:cubicBezTo>
                  <a:pt x="3424" y="48"/>
                  <a:pt x="3928" y="144"/>
                  <a:pt x="3440" y="168"/>
                </a:cubicBezTo>
                <a:cubicBezTo>
                  <a:pt x="2952" y="192"/>
                  <a:pt x="928" y="136"/>
                  <a:pt x="464" y="168"/>
                </a:cubicBezTo>
                <a:cubicBezTo>
                  <a:pt x="0" y="200"/>
                  <a:pt x="328" y="280"/>
                  <a:pt x="656" y="3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3238560"/>
            <a:ext cx="6235560" cy="571320"/>
          </a:xfrm>
          <a:custGeom>
            <a:avLst/>
            <a:gdLst/>
            <a:ahLst/>
            <a:rect l="l" t="t" r="r" b="b"/>
            <a:pathLst>
              <a:path w="3928" h="360">
                <a:moveTo>
                  <a:pt x="3248" y="24"/>
                </a:moveTo>
                <a:cubicBezTo>
                  <a:pt x="3304" y="12"/>
                  <a:pt x="3360" y="0"/>
                  <a:pt x="3392" y="24"/>
                </a:cubicBezTo>
                <a:cubicBezTo>
                  <a:pt x="3424" y="48"/>
                  <a:pt x="3928" y="144"/>
                  <a:pt x="3440" y="168"/>
                </a:cubicBezTo>
                <a:cubicBezTo>
                  <a:pt x="2952" y="192"/>
                  <a:pt x="928" y="136"/>
                  <a:pt x="464" y="168"/>
                </a:cubicBezTo>
                <a:cubicBezTo>
                  <a:pt x="0" y="200"/>
                  <a:pt x="328" y="280"/>
                  <a:pt x="656" y="3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8400" y="3772080"/>
            <a:ext cx="6235920" cy="571320"/>
          </a:xfrm>
          <a:custGeom>
            <a:avLst/>
            <a:gdLst/>
            <a:ahLst/>
            <a:rect l="l" t="t" r="r" b="b"/>
            <a:pathLst>
              <a:path w="3928" h="360">
                <a:moveTo>
                  <a:pt x="3248" y="24"/>
                </a:moveTo>
                <a:cubicBezTo>
                  <a:pt x="3304" y="12"/>
                  <a:pt x="3360" y="0"/>
                  <a:pt x="3392" y="24"/>
                </a:cubicBezTo>
                <a:cubicBezTo>
                  <a:pt x="3424" y="48"/>
                  <a:pt x="3928" y="144"/>
                  <a:pt x="3440" y="168"/>
                </a:cubicBezTo>
                <a:cubicBezTo>
                  <a:pt x="2952" y="192"/>
                  <a:pt x="928" y="136"/>
                  <a:pt x="464" y="168"/>
                </a:cubicBezTo>
                <a:cubicBezTo>
                  <a:pt x="0" y="200"/>
                  <a:pt x="328" y="280"/>
                  <a:pt x="656" y="3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5800" y="4305240"/>
            <a:ext cx="6235560" cy="571680"/>
          </a:xfrm>
          <a:custGeom>
            <a:avLst/>
            <a:gdLst/>
            <a:ahLst/>
            <a:rect l="l" t="t" r="r" b="b"/>
            <a:pathLst>
              <a:path w="3928" h="360">
                <a:moveTo>
                  <a:pt x="3248" y="24"/>
                </a:moveTo>
                <a:cubicBezTo>
                  <a:pt x="3304" y="12"/>
                  <a:pt x="3360" y="0"/>
                  <a:pt x="3392" y="24"/>
                </a:cubicBezTo>
                <a:cubicBezTo>
                  <a:pt x="3424" y="48"/>
                  <a:pt x="3928" y="144"/>
                  <a:pt x="3440" y="168"/>
                </a:cubicBezTo>
                <a:cubicBezTo>
                  <a:pt x="2952" y="192"/>
                  <a:pt x="928" y="136"/>
                  <a:pt x="464" y="168"/>
                </a:cubicBezTo>
                <a:cubicBezTo>
                  <a:pt x="0" y="200"/>
                  <a:pt x="328" y="280"/>
                  <a:pt x="656" y="3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85800" y="4838760"/>
            <a:ext cx="6235560" cy="571320"/>
          </a:xfrm>
          <a:custGeom>
            <a:avLst/>
            <a:gdLst/>
            <a:ahLst/>
            <a:rect l="l" t="t" r="r" b="b"/>
            <a:pathLst>
              <a:path w="3928" h="360">
                <a:moveTo>
                  <a:pt x="3248" y="24"/>
                </a:moveTo>
                <a:cubicBezTo>
                  <a:pt x="3304" y="12"/>
                  <a:pt x="3360" y="0"/>
                  <a:pt x="3392" y="24"/>
                </a:cubicBezTo>
                <a:cubicBezTo>
                  <a:pt x="3424" y="48"/>
                  <a:pt x="3928" y="144"/>
                  <a:pt x="3440" y="168"/>
                </a:cubicBezTo>
                <a:cubicBezTo>
                  <a:pt x="2952" y="192"/>
                  <a:pt x="928" y="136"/>
                  <a:pt x="464" y="168"/>
                </a:cubicBezTo>
                <a:cubicBezTo>
                  <a:pt x="0" y="200"/>
                  <a:pt x="328" y="280"/>
                  <a:pt x="656" y="3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4920" y="1143000"/>
            <a:ext cx="5651280" cy="5562720"/>
          </a:xfrm>
          <a:custGeom>
            <a:avLst/>
            <a:gdLst/>
            <a:ahLst/>
            <a:rect l="l" t="t" r="r" b="b"/>
            <a:pathLst>
              <a:path w="3560" h="3504">
                <a:moveTo>
                  <a:pt x="3160" y="1016"/>
                </a:moveTo>
                <a:cubicBezTo>
                  <a:pt x="3360" y="776"/>
                  <a:pt x="3560" y="536"/>
                  <a:pt x="3112" y="440"/>
                </a:cubicBezTo>
                <a:cubicBezTo>
                  <a:pt x="2664" y="344"/>
                  <a:pt x="944" y="0"/>
                  <a:pt x="472" y="440"/>
                </a:cubicBezTo>
                <a:cubicBezTo>
                  <a:pt x="0" y="880"/>
                  <a:pt x="216" y="2656"/>
                  <a:pt x="280" y="3080"/>
                </a:cubicBezTo>
                <a:cubicBezTo>
                  <a:pt x="344" y="3504"/>
                  <a:pt x="600" y="3244"/>
                  <a:pt x="856" y="29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901800" y="1117440"/>
            <a:ext cx="6006960" cy="4927680"/>
          </a:xfrm>
          <a:custGeom>
            <a:avLst/>
            <a:gdLst/>
            <a:ahLst/>
            <a:rect l="l" t="t" r="r" b="b"/>
            <a:pathLst>
              <a:path w="3784" h="3104">
                <a:moveTo>
                  <a:pt x="488" y="1024"/>
                </a:moveTo>
                <a:cubicBezTo>
                  <a:pt x="244" y="844"/>
                  <a:pt x="0" y="664"/>
                  <a:pt x="392" y="496"/>
                </a:cubicBezTo>
                <a:cubicBezTo>
                  <a:pt x="784" y="328"/>
                  <a:pt x="2296" y="0"/>
                  <a:pt x="2840" y="16"/>
                </a:cubicBezTo>
                <a:cubicBezTo>
                  <a:pt x="3384" y="32"/>
                  <a:pt x="3528" y="136"/>
                  <a:pt x="3656" y="592"/>
                </a:cubicBezTo>
                <a:cubicBezTo>
                  <a:pt x="3784" y="1048"/>
                  <a:pt x="3696" y="2400"/>
                  <a:pt x="3608" y="2752"/>
                </a:cubicBezTo>
                <a:cubicBezTo>
                  <a:pt x="3520" y="3104"/>
                  <a:pt x="3324" y="2904"/>
                  <a:pt x="3128" y="270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76520" y="2743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09D-0F10-40A8-A510-5A5706F00A0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Verdana"/>
              </a:rPr>
              <a:t>Network topology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200400" y="3048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352680" y="3200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09880" y="30481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962520" y="3200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419720" y="3048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72000" y="3200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029200" y="3048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200400" y="3581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352680" y="3733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9880" y="35812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62520" y="3733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19720" y="3581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0" y="3733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029200" y="3581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4114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352680" y="42670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09880" y="41148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962520" y="42670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419720" y="4114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72000" y="42670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41148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00400" y="4648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352680" y="48006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09880" y="4648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48006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419720" y="4648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0" y="48006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029200" y="4648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76720" y="320040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105520" y="312408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495680" y="3124080"/>
            <a:ext cx="18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86200" y="320040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27432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28954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38480" y="27432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191120" y="28954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648320" y="27432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800600" y="28954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257800" y="27432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429000" y="32767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4290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038480" y="32767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191120" y="34290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48320" y="32767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800600" y="34290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257800" y="32767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29000" y="38098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39625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038480" y="38098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91120" y="39625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648320" y="38098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0600" y="39625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257800" y="38098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429000" y="43434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44956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3434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91120" y="44956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648320" y="43434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00600" y="44956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57800" y="43434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505320" y="289548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334120" y="281952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724280" y="2819520"/>
            <a:ext cx="18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289548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657600" y="2362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809880" y="25146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267080" y="23623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419720" y="25146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76920" y="2362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29200" y="25146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486400" y="23623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28954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09880" y="3048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267080" y="28954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3048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876920" y="28954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29200" y="3048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86400" y="28954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809880" y="35812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267080" y="34290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19720" y="35812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876920" y="34290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29200" y="35812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86400" y="34290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57600" y="3962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09880" y="41148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267080" y="39625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419720" y="41148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76920" y="3962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029200" y="41148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486400" y="39625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251460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562720" y="243828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952880" y="2438280"/>
            <a:ext cx="18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343400" y="251460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86200" y="1981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038480" y="2133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495680" y="19810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48320" y="2133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105520" y="1981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57800" y="2133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715000" y="19810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86200" y="2514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2666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495680" y="251460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648320" y="2666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105520" y="2514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257800" y="2666880"/>
            <a:ext cx="457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715000" y="251460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86200" y="3048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3200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95680" y="304812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48320" y="3200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05520" y="3048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257800" y="32004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715000" y="304812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86200" y="3581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38480" y="3733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95680" y="3581280"/>
            <a:ext cx="15264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8320" y="3733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05520" y="3581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57800" y="3733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715000" y="3581280"/>
            <a:ext cx="152280" cy="22860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962520" y="213372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791320" y="205740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81480" y="2057400"/>
            <a:ext cx="18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72000" y="2133720"/>
            <a:ext cx="14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3352680" y="2133720"/>
            <a:ext cx="6098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3962160" y="213372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571640" y="213372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181480" y="2133720"/>
            <a:ext cx="6098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181480" y="2666880"/>
            <a:ext cx="6098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5181480" y="3200400"/>
            <a:ext cx="6098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5181480" y="3809880"/>
            <a:ext cx="6098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4571640" y="373392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3962160" y="373392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3352680" y="3733920"/>
            <a:ext cx="6098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3352680" y="3200400"/>
            <a:ext cx="6098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3352680" y="2666880"/>
            <a:ext cx="6098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962160" y="266688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4571640" y="266688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571640" y="32004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3962160" y="32004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101640" y="3618000"/>
            <a:ext cx="10936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Me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92960" y="542448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s exactly with the 3D gr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A07-10BC-4B62-AA36-24CD0F5FFE8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Verdana"/>
              </a:rPr>
              <a:t>Outlines for today’s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: How different are parallel computers from sequential compu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dose of parallel architectures useful for efficient use of parallel computer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: How to go parallel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: divide+ communicate+ synchroniz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F7A-A826-41A2-B597-B249939ABC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Verdana"/>
              </a:rPr>
              <a:t>Network topology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68360" y="1828800"/>
            <a:ext cx="7407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cina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, fat-trees, mesh-of-trees, pyramid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of Blue Mountai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research.microsoft.com/users/GBell/SCphotos_files/fram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3E5-4C13-478A-B8D9-06BC0ED5133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Verdana"/>
              </a:rPr>
              <a:t>Network topolog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"/>
          <p:cNvSpPr/>
          <p:nvPr/>
        </p:nvSpPr>
        <p:spPr>
          <a:xfrm>
            <a:off x="1752480" y="2819520"/>
            <a:ext cx="5410440" cy="1904760"/>
          </a:xfrm>
          <a:prstGeom prst="donut">
            <a:avLst>
              <a:gd name="adj" fmla="val 2711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33920" y="464832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3885840" y="4114800"/>
            <a:ext cx="3049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24080" y="3733920"/>
            <a:ext cx="15264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86600" y="373392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562720" y="373392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876920" y="274320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752480" y="3733920"/>
            <a:ext cx="14479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648320" y="28195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3809880"/>
            <a:ext cx="1447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02C-30EF-4B31-9FB2-AB8D00756A1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Verdana"/>
              </a:rPr>
              <a:t>Network topology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828800" y="3886200"/>
            <a:ext cx="5410080" cy="1905120"/>
          </a:xfrm>
          <a:prstGeom prst="donut">
            <a:avLst>
              <a:gd name="adj" fmla="val 27111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4648320"/>
            <a:ext cx="15264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809880" y="5638680"/>
            <a:ext cx="152640" cy="152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952880" y="3733920"/>
            <a:ext cx="15264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4724280"/>
            <a:ext cx="152640" cy="152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162920" y="480060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14800" y="5181480"/>
            <a:ext cx="152280" cy="152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95680" y="4343400"/>
            <a:ext cx="15264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76720" y="4724280"/>
            <a:ext cx="152280" cy="152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905120" y="2895480"/>
            <a:ext cx="5410080" cy="1905120"/>
          </a:xfrm>
          <a:prstGeom prst="donut">
            <a:avLst>
              <a:gd name="adj" fmla="val 27111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65760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886200" y="4724280"/>
            <a:ext cx="152280" cy="152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029200" y="274320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715000" y="373392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267080" y="4191120"/>
            <a:ext cx="15264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352680" y="3733920"/>
            <a:ext cx="15264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1828800" y="3733920"/>
            <a:ext cx="763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7238880" y="3886200"/>
            <a:ext cx="763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91320" y="373392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91320" y="480060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5715000" y="3809880"/>
            <a:ext cx="763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4647960" y="3429000"/>
            <a:ext cx="7596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5029200" y="28954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648320" y="2819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4648320" y="3809880"/>
            <a:ext cx="3808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267080" y="426708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3885840" y="5181480"/>
            <a:ext cx="3049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038120" y="42670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886200" y="480060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3352680" y="3809880"/>
            <a:ext cx="763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981080" y="3733920"/>
            <a:ext cx="14479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1904760" y="47242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90920" y="365760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14600" y="4724280"/>
            <a:ext cx="152280" cy="152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962520" y="5410080"/>
            <a:ext cx="152280" cy="152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441972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00800" y="480060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800600" y="3048120"/>
            <a:ext cx="152280" cy="15228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724280" y="4038480"/>
            <a:ext cx="152640" cy="152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666880" y="3124080"/>
            <a:ext cx="396252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590920" y="4114800"/>
            <a:ext cx="396216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DBA-3887-4838-8EF0-017F252CC0B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connecting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form a computer gri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e : a computer, a cluster or sub-network, et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s: communication chann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hem as a mesh? Linear arr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criteria for choosing 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4A7-906A-434A-9B7D-B399A78761F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Verdana"/>
              </a:rPr>
              <a:t>How to compare Interconnection  Networks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de degrees: #links/node 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mplexity of the network interface 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overall cos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gularity: how uniform the topology 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easier to replicate HW/S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ersatility/universality: Emulation of other topologies (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embeddin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calability: add or delete nodes; Incremental chang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ault-tolerance: reconfigure/bypass the faulty no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twork diameter: 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worst case of point to point commun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isection width: maximal concurrency allowed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uting efficiency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int-to-poin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roadcas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ulticas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ll-to-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ase of designing communication algorith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C95-2620-481C-9231-E56A3AFAF4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ear Array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no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twork diameter: N-1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de degrees: #links/node = 1 OR 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rity: non-uniform topology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easier to replicate HW/SW (special cases at the en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satility/universality: hard to embed linear arrays, mesh, trees, etc. (dilation/congestion will resul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lability: easy to add or delete nod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section width: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uting efficiency: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int-to-point: O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oadcasting: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ing: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-to-all: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) 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how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DE7-0AD5-43F4-86E6-E0C0BF61E50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h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mension d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N= L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no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twork diameter: (N)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1/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de degrees: #links/node = 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rity: uniform topology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easier to replicate HW/S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satility/universality: Embedding of linear arrays, mesh, tree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lability: add or delete nod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section width: (an exercis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uting efficiency: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int-to-point: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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1/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oadcasting: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1/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ing: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1/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-to-all: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) 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how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E9F-206A-4FF0-ABEC-1C7A5BAEF8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-Cub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mension n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N=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o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work diameter: lg 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de degrees: #links/node = lg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gularity: uniform topology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easier to replicate HW/S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ersatility/universality: Embedding of linear arrays, mesh, trees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alability: add or delete nodes; scale by a factor of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section width: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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ing efficiency: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int-to-point: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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gN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adcasting: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gN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lticasting: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gN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l-to-all: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ase of designing communication algorithm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BEB-672C-4B90-B5F1-56B35DD1D33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Verdana"/>
              </a:rPr>
              <a:t>Interconnection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the real thing to support communications among process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communications in the software will have to be supported thru the communication infra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lgorithms have been designed to exploit the structural properties of the interconnections: e.g. routing, sorting, .. Even matrix operations. (see, e.g. Leighton’s book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6C5-3622-46FD-9B40-89CAC7EA2F9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connection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te important when scaling up any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Beowulves will have to be scalable-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o do? Simply use routers? How are the routers connect to each other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urrent research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technologies for optical networks, wireless network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graphically wide spread nod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cost of connectio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ed to have sparsity and some regularity in conne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E96-0EA1-46B1-86B7-DFB4BB522DE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te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ors &amp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s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llel programming paradig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ctness: deadlocks, non-determinism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icienc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cations co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a priori  / a posteriori analysi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503-7C97-4469-842F-905780DC37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mplified overview of parallel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sors and Interconnects are being researched intensively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zoom in for the motivated/interes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9C6-B6C2-4EFD-9E05-0AFD84CF94E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ctu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ynn’s taxonom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 Stre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tr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D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Instructio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D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Instruction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D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Instruction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MD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Instructio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6B0-7CD2-4111-A22E-A5AD5C809D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S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ial, scalar (von Neumann) comput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ngle instruction issued / clock cyc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instruction operates on a single scalar data ele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:  # instructions issued/unit ti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PS (million of instructions per second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FLOPS (million Floating-point OPerations) for eng/scientific applic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C95-7C8F-4CBC-9A81-4740D674C0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ple functional units within an instruction process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single instruction issued/clock cyc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Each instruction operates on multiple data element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ynchronous, lock-stepped oper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formanc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instructions issued /unit 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functional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in applications: eng/scientif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FLOP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M2 (Connection Machine 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725-31C4-43C8-80C7-209907C0D9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D with chained functional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" descr="http://www.mhpcc.edu/training/workshop/parallel_intro/gif/vector.gif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5B3-3C8D-40D3-A607-EBF8FBE778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S</cp:lastModifiedBy>
  <dcterms:modified xsi:type="dcterms:W3CDTF">2002-02-21T14:25:04Z</dcterms:modified>
  <cp:revision>65</cp:revision>
  <dc:subject/>
  <dc:title>PowerPoint Presentation</dc:title>
</cp:coreProperties>
</file>