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1BB-4834-433C-87EA-BE4252F2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C98-A4C6-46F5-8019-0B3F87D9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959-D307-4D22-9CBD-02492F32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6D5-7848-4B18-9D02-597A1F99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3C53-3F9F-4CA8-86D6-A0385F63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FCC1-56E2-44D4-B9A6-F8E03177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DD6C-9419-40A9-AD9B-4617962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CB85-AAD4-461D-BDEC-AC78A328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C88-9130-4F5F-BF1E-4C10A4D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59FA-EEA3-4F3E-A858-E3335C4A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D753-7300-4FC6-A118-2579A71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3CF-96D1-47C2-A629-A321BBFA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C340-2CE7-40DB-8808-B7300526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DA3E-B092-4880-A9A5-09BE39C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5B3F-18E4-490D-840F-0256CC4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9E01-75DD-470E-8B52-9C3A0D4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79D-BBDA-4189-B8C9-EED7AB83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E53-FD56-4D65-8795-2FC55E6A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437-1997-4D07-B3CA-5378BE38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59B-A1F0-4199-A73A-1A2C5D7A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652-F1F6-42B4-B7CE-251A2820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82C-4B5C-40B2-8089-209AEA3A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C88-74CD-43DE-B240-C06E8DA2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ED6-CCB2-4B16-9AF1-8B5735B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C34F-D574-43B1-9D8D-DCEEED6E33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487-7F66-449A-884F-18F22FB39B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orations into Internet Distributed Comp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unal Agrawal, Ang Huey Ting, Li Guoliang, and Kevin Ch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apevine Featu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ritten in Ja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metrized Task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-task commun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Repor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tus Repor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-addressed Iss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65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Node reliability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Load Balancing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Un-intrusive Operation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Interruption Semantics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SzPct val="1065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58c"/>
                </a:solidFill>
                <a:latin typeface="Tahoma"/>
              </a:rPr>
              <a:t>Deadlock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ta 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Ang Huey Ting, Li Guolia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ction(instance) = {True,False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chine Learning Approa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a model on the training 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the model to classify new ins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blicly available packages : WEKA(in java), MLC++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ta 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sembly of class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s better perform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ways of generating assembly of classifier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training data 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algorith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o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ing Meta Classifi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fferent Train Datasets - Ba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domly generated ‘bags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lection  with repla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different ‘flavors’ of the training 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fferent Algorith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.g. Naïve Bayesian, Neural Net, SV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algorithms works well on different training 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Parallelis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utationally in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classifier = 0.5 h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a classifier (assembly of 10 classifiers) = 10 *0.5 = 5 h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tributed Environment - Grapev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classifiers in parallel independen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ttle communication required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ributed Meta Classifier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KA-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machine learning packa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versity of Waikato, New Zeala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www.cs.waikato.ac.nz/~ml/weka/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ed in Ja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cluding most popular machine learning too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Distributed Meta-Classifiers on Grapev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Distributed Bagging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Generate different Ba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Define bag and Algorithm for each tas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Submit tasks to Grapev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Node build Class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Receive result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SimSun"/>
              </a:rPr>
              <a:t>Perform voting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liminary Stud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gging on Quick Propagation in openM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ed in 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jec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ign and implement a simpl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net distributed comput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ame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are application development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for this environment with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traditional parallel computing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environ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Construction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286000" cy="1896840"/>
          </a:xfrm>
          <a:prstGeom prst="rect">
            <a:avLst/>
          </a:prstGeom>
          <a:ln w="0">
            <a:noFill/>
          </a:ln>
        </p:spPr>
      </p:pic>
      <p:pic>
        <p:nvPicPr>
          <p:cNvPr id="213" name="paintbrush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539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ial Doma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chmark corpus Reuters21578 for Text Categor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9000+ train docu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00+ test docu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90+ catego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form feature sel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process documents into feature vec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ccessful internet distributed computing requires addressing many issues outside of traditional computer scienc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tributed computing is not for every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apev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Internet Distributed Computing Frame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 Kunal Agrawal, Kevin Ch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Tahoma"/>
              </a:rPr>
              <a:t>What is Internet Distributed Computing?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internet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8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Supercomputers are very expensiv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Large numbers of personal computers and workstations around the world are naturally networked via the internet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Huge amounts of computational resources are wasted because many computers spend most of their time idl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Growing interest in grid computing technologie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Tahoma"/>
              </a:rPr>
              <a:t>Other Distributed Computing Efforts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seti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571500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arabon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225" name="globus_top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5771880" cy="365040"/>
          </a:xfrm>
          <a:prstGeom prst="rect">
            <a:avLst/>
          </a:prstGeom>
          <a:ln w="0">
            <a:noFill/>
          </a:ln>
        </p:spPr>
      </p:pic>
      <p:pic>
        <p:nvPicPr>
          <p:cNvPr id="226" name="globus_bottom" descr=""/>
          <p:cNvPicPr/>
          <p:nvPr/>
        </p:nvPicPr>
        <p:blipFill>
          <a:blip r:embed="rId4"/>
          <a:stretch/>
        </p:blipFill>
        <p:spPr>
          <a:xfrm>
            <a:off x="990720" y="4479840"/>
            <a:ext cx="1531800" cy="435240"/>
          </a:xfrm>
          <a:prstGeom prst="rect">
            <a:avLst/>
          </a:prstGeom>
          <a:ln w="0">
            <a:noFill/>
          </a:ln>
        </p:spPr>
      </p:pic>
      <p:pic>
        <p:nvPicPr>
          <p:cNvPr id="227" name="alicebimba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417680" cy="1406520"/>
          </a:xfrm>
          <a:prstGeom prst="rect">
            <a:avLst/>
          </a:prstGeom>
          <a:ln w="0">
            <a:noFill/>
          </a:ln>
        </p:spPr>
      </p:pic>
      <p:pic>
        <p:nvPicPr>
          <p:cNvPr id="228" name="Alice" descr=""/>
          <p:cNvPicPr/>
          <p:nvPr/>
        </p:nvPicPr>
        <p:blipFill>
          <a:blip r:embed="rId6"/>
          <a:stretch/>
        </p:blipFill>
        <p:spPr>
          <a:xfrm>
            <a:off x="573120" y="5867280"/>
            <a:ext cx="85708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Tahoma"/>
              </a:rPr>
              <a:t>Internet Distributed Computing Issues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s reli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qu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oss platform portability of object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uting Paradigm Shif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 Of Grapev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971800" y="380880"/>
            <a:ext cx="3429000" cy="9907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ent Applic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1905120"/>
            <a:ext cx="2667240" cy="1523880"/>
          </a:xfrm>
          <a:prstGeom prst="rect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4800600"/>
            <a:ext cx="2286000" cy="16002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648320"/>
            <a:ext cx="2362320" cy="18288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419720"/>
            <a:ext cx="2667240" cy="20574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rapevi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267080" y="1447920"/>
            <a:ext cx="838080" cy="380880"/>
            <a:chOff x="4267080" y="1447920"/>
            <a:chExt cx="838080" cy="380880"/>
          </a:xfrm>
        </p:grpSpPr>
        <p:sp>
          <p:nvSpPr>
            <p:cNvPr id="239" name=""/>
            <p:cNvSpPr/>
            <p:nvPr/>
          </p:nvSpPr>
          <p:spPr>
            <a:xfrm>
              <a:off x="4724280" y="144792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7080" y="1447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43400" y="3581280"/>
            <a:ext cx="838080" cy="457200"/>
            <a:chOff x="4343400" y="3581280"/>
            <a:chExt cx="838080" cy="457200"/>
          </a:xfrm>
        </p:grpSpPr>
        <p:sp>
          <p:nvSpPr>
            <p:cNvPr id="242" name=""/>
            <p:cNvSpPr/>
            <p:nvPr/>
          </p:nvSpPr>
          <p:spPr>
            <a:xfrm>
              <a:off x="4800600" y="3581280"/>
              <a:ext cx="380880" cy="457200"/>
            </a:xfrm>
            <a:prstGeom prst="upArrow">
              <a:avLst>
                <a:gd name="adj1" fmla="val 50000"/>
                <a:gd name="adj2" fmla="val 30009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43400" y="358128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244" name=""/>
          <p:cNvCxnSpPr/>
          <p:nvPr/>
        </p:nvCxnSpPr>
        <p:spPr>
          <a:xfrm>
            <a:off x="380520" y="4191120"/>
            <a:ext cx="8535240" cy="2160"/>
          </a:xfrm>
          <a:prstGeom prst="straightConnector1">
            <a:avLst/>
          </a:prstGeom>
          <a:ln w="57240">
            <a:solidFill>
              <a:srgbClr val="40458c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5:18:44Z</dcterms:created>
  <dc:creator>NUS</dc:creator>
  <dc:description/>
  <dc:language>en-US</dc:language>
  <cp:lastModifiedBy>Kevin Chu</cp:lastModifiedBy>
  <dcterms:modified xsi:type="dcterms:W3CDTF">2002-05-13T21:02:33Z</dcterms:modified>
  <cp:revision>33</cp:revision>
  <dc:subject/>
  <dc:title>Grapevine</dc:title>
</cp:coreProperties>
</file>